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CAA8-6FE7-40D7-AB19-84542F84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7E85-BF99-43C0-8045-AA284374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97C-A6CD-4DEF-9608-E73C59B0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F04-606D-47DA-80FA-478EB6A6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FA1-235D-4A20-BA8E-95028FDB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E53-C141-40F1-8C1F-18560E93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B44E-1245-4269-B9C5-5CB00F4B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ED34-938F-4E57-88B0-7A5A96BC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F522-9A79-454C-99BB-0B7409D5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E4A-BB28-4CD8-9A2F-DCE64342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2A33-C5F6-43FD-80E3-2B145B4B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956D-D046-46DC-A490-9031C7BA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FDF9-71BF-4075-848B-09F05DF9F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hyperlink" Target="file:///Other%20Slides4.ppt" TargetMode="Externa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file:///Other%20Slides4.ppt" TargetMode="Externa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file:///Other%20Slides4.ppt" TargetMode="Externa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png"/><Relationship Id="rId3" Type="http://schemas.openxmlformats.org/officeDocument/2006/relationships/hyperlink" Target="file:///Other%20Slides4.ppt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Other%20Slides4.ppt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Other%20Slides4.ppt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Other%20Slides4.ppt" TargetMode="External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Other%20Slides4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620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MEDIATE 2 – ADDITIONAL QUESTION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1760" y="2073240"/>
            <a:ext cx="1374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UNIT 2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79840" y="5027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2060640"/>
            <a:ext cx="2808360" cy="900000"/>
          </a:xfrm>
          <a:custGeom>
            <a:avLst/>
            <a:gdLst>
              <a:gd name="textAreaLeft" fmla="*/ 58320 w 2808360"/>
              <a:gd name="textAreaRight" fmla="*/ 2750040 w 280836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67382" h="21600">
                <a:moveTo>
                  <a:pt x="0" y="0"/>
                </a:moveTo>
                <a:lnTo>
                  <a:pt x="67382" y="0"/>
                </a:lnTo>
                <a:lnTo>
                  <a:pt x="67382" y="21600"/>
                </a:lnTo>
                <a:lnTo>
                  <a:pt x="0" y="21600"/>
                </a:lnTo>
                <a:close/>
              </a:path>
              <a:path fill="lightenLess" w="67382" h="21600">
                <a:moveTo>
                  <a:pt x="0" y="0"/>
                </a:moveTo>
                <a:lnTo>
                  <a:pt x="67382" y="0"/>
                </a:lnTo>
                <a:lnTo>
                  <a:pt x="65982" y="1400"/>
                </a:lnTo>
                <a:lnTo>
                  <a:pt x="1400" y="1400"/>
                </a:lnTo>
                <a:close/>
              </a:path>
              <a:path fill="darken" w="67382" h="21600">
                <a:moveTo>
                  <a:pt x="67382" y="0"/>
                </a:moveTo>
                <a:lnTo>
                  <a:pt x="67382" y="21600"/>
                </a:lnTo>
                <a:lnTo>
                  <a:pt x="65982" y="20200"/>
                </a:lnTo>
                <a:lnTo>
                  <a:pt x="65982" y="1400"/>
                </a:lnTo>
                <a:close/>
              </a:path>
              <a:path fill="darkenLess" w="67382" h="21600">
                <a:moveTo>
                  <a:pt x="67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982" y="20200"/>
                </a:lnTo>
                <a:close/>
              </a:path>
              <a:path fill="lighten" w="67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phs, Cha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3920" y="134136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have chosen to stu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5600" y="3502080"/>
            <a:ext cx="686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ease choose a question to attempt from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1187280" y="43657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2484360" y="43657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3780000" y="4329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4932360" y="4329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endshow"/>
          </p:cNvPr>
          <p:cNvSpPr/>
          <p:nvPr/>
        </p:nvSpPr>
        <p:spPr>
          <a:xfrm>
            <a:off x="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5"/>
          </p:cNvPr>
          <p:cNvSpPr/>
          <p:nvPr/>
        </p:nvSpPr>
        <p:spPr>
          <a:xfrm>
            <a:off x="3708360" y="6237360"/>
            <a:ext cx="1368360" cy="620640"/>
          </a:xfrm>
          <a:custGeom>
            <a:avLst/>
            <a:gdLst>
              <a:gd name="textAreaLeft" fmla="*/ 39960 w 1368360"/>
              <a:gd name="textAreaRight" fmla="*/ 1328400 w 1368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7608" h="21600">
                <a:moveTo>
                  <a:pt x="0" y="0"/>
                </a:moveTo>
                <a:lnTo>
                  <a:pt x="47608" y="0"/>
                </a:lnTo>
                <a:lnTo>
                  <a:pt x="47608" y="21600"/>
                </a:lnTo>
                <a:lnTo>
                  <a:pt x="0" y="21600"/>
                </a:lnTo>
                <a:close/>
              </a:path>
              <a:path fill="lightenLess" w="47608" h="21600">
                <a:moveTo>
                  <a:pt x="0" y="0"/>
                </a:moveTo>
                <a:lnTo>
                  <a:pt x="47608" y="0"/>
                </a:lnTo>
                <a:lnTo>
                  <a:pt x="46208" y="1400"/>
                </a:lnTo>
                <a:lnTo>
                  <a:pt x="1400" y="1400"/>
                </a:lnTo>
                <a:close/>
              </a:path>
              <a:path fill="darken" w="47608" h="21600">
                <a:moveTo>
                  <a:pt x="47608" y="0"/>
                </a:moveTo>
                <a:lnTo>
                  <a:pt x="47608" y="21600"/>
                </a:lnTo>
                <a:lnTo>
                  <a:pt x="46208" y="20200"/>
                </a:lnTo>
                <a:lnTo>
                  <a:pt x="46208" y="1400"/>
                </a:lnTo>
                <a:close/>
              </a:path>
              <a:path fill="darkenLess" w="47608" h="21600">
                <a:moveTo>
                  <a:pt x="47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08" y="20200"/>
                </a:lnTo>
                <a:close/>
              </a:path>
              <a:path fill="lighten" w="47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2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6156360" y="4329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7" action="ppaction://hlinksldjump"/>
          </p:cNvPr>
          <p:cNvSpPr/>
          <p:nvPr/>
        </p:nvSpPr>
        <p:spPr>
          <a:xfrm>
            <a:off x="7453440" y="4329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10160" y="4916520"/>
            <a:ext cx="9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Le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78880" y="4916520"/>
            <a:ext cx="67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74520" y="4916520"/>
            <a:ext cx="84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55240" y="4916520"/>
            <a:ext cx="109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o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x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78880" y="4916520"/>
            <a:ext cx="111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m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ox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02880" y="49165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ie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280" y="765000"/>
            <a:ext cx="457200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median = (n+1) / 2 to find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1630440"/>
            <a:ext cx="6172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(i)  Since n = 25 then the media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4720" y="2421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edian  = 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£1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78936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Both 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amp;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s are £171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1 = £17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280" y="2925720"/>
            <a:ext cx="464508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here are 12 values before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= 13 - (12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280" y="4581360"/>
            <a:ext cx="464508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here are 12 values after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3 + (12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27280" y="5805360"/>
            <a:ext cx="150480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60360" y="54468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£192  &amp;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£198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3 = £1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28760" y="476280"/>
            <a:ext cx="399672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ind the upper and lo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iles deal with th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either side of the medi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65040" y="2062080"/>
            <a:ext cx="461160" cy="440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13040" y="2062080"/>
            <a:ext cx="351216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numbers after medi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numbers either side of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midway 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19th and 20th numb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278136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276720" y="2276640"/>
            <a:ext cx="1582560" cy="23047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3" action="ppaction://hlinksldjump"/>
          </p:cNvPr>
          <p:cNvSpPr/>
          <p:nvPr/>
        </p:nvSpPr>
        <p:spPr>
          <a:xfrm>
            <a:off x="6372360" y="595008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2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835280" y="1628640"/>
            <a:ext cx="5400720" cy="1368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620640"/>
            <a:ext cx="85345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eights in grams of 20 bags of crisps were as 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   29   29   30   31   30   28   30   29 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9   30   30   28   28   29   29   29  29   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 Illustrate this using a dot p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What type of distribution does this s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 If a bag is chosen at random what is the probability i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will be heavier than the modal weigh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75080" y="573408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77960" y="6381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95240" y="6426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" action="ppaction://hlinkshowjump?jump=nextslide"/>
          </p:cNvPr>
          <p:cNvSpPr/>
          <p:nvPr/>
        </p:nvSpPr>
        <p:spPr>
          <a:xfrm>
            <a:off x="2700360" y="58071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64360" y="58071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rId2" action="ppaction://hlinksldjump"/>
          </p:cNvPr>
          <p:cNvSpPr/>
          <p:nvPr/>
        </p:nvSpPr>
        <p:spPr>
          <a:xfrm>
            <a:off x="270036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rId3" action="ppaction://hlinksldjump"/>
          </p:cNvPr>
          <p:cNvSpPr/>
          <p:nvPr/>
        </p:nvSpPr>
        <p:spPr>
          <a:xfrm>
            <a:off x="536400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rId4" action="ppaction://hlinksldjump"/>
          </p:cNvPr>
          <p:cNvSpPr/>
          <p:nvPr/>
        </p:nvSpPr>
        <p:spPr>
          <a:xfrm>
            <a:off x="536400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835280" y="1628640"/>
            <a:ext cx="5400720" cy="1368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620640"/>
            <a:ext cx="85345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eights in grams of 20 bags of crisps were as 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   29   29   30   31   30   28   30   29 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9   30   30   28   28   29   29   29  29   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 Illustrate this using a dot p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What type of distribution does this s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 If a bag is chosen at random what is the probability i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will be heavier than the modal weigh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11640" y="1197000"/>
            <a:ext cx="4032360" cy="1942920"/>
          </a:xfrm>
          <a:prstGeom prst="cloudCallout">
            <a:avLst>
              <a:gd name="adj1" fmla="val -37912"/>
              <a:gd name="adj2" fmla="val 7565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lowest &amp; highest values and draw line with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32360" y="1700280"/>
            <a:ext cx="3311640" cy="1657440"/>
          </a:xfrm>
          <a:prstGeom prst="cloudCallout">
            <a:avLst>
              <a:gd name="adj1" fmla="val -50768"/>
              <a:gd name="adj2" fmla="val 7126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 a dot for each piece of data and label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916280"/>
            <a:ext cx="4356000" cy="1655640"/>
          </a:xfrm>
          <a:prstGeom prst="cloudCallout">
            <a:avLst>
              <a:gd name="adj1" fmla="val -7106"/>
              <a:gd name="adj2" fmla="val 13839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probability 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= no of favourable / no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270036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75080" y="587700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77960" y="6381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8160" y="58770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50880" y="6426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rId2" action="ppaction://hlinksldjump"/>
          </p:cNvPr>
          <p:cNvSpPr/>
          <p:nvPr/>
        </p:nvSpPr>
        <p:spPr>
          <a:xfrm>
            <a:off x="270036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rId3" action="ppaction://hlinksldjump"/>
          </p:cNvPr>
          <p:cNvSpPr/>
          <p:nvPr/>
        </p:nvSpPr>
        <p:spPr>
          <a:xfrm>
            <a:off x="5364000" y="5805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4" action="ppaction://hlinksldjump"/>
          </p:cNvPr>
          <p:cNvSpPr/>
          <p:nvPr/>
        </p:nvSpPr>
        <p:spPr>
          <a:xfrm>
            <a:off x="536400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97840" y="5300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835280" y="1628640"/>
            <a:ext cx="5400720" cy="1368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620640"/>
            <a:ext cx="85345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eights in grams of 20 bags of crisps were as 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   29   29   30   31   30   28   30   29 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9   30   30   28   28   29   29   29  29   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 Illustrate this using a dot p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What type of distribution does this s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 If a bag is chosen at random what is the probability i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will be heavier than the modal weigh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372360" y="4005360"/>
            <a:ext cx="25923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ghtly clus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49080" y="4869000"/>
            <a:ext cx="67608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>
            <a:hlinkClick r:id="" action="ppaction://hlinkshowjump?jump=nextslide"/>
          </p:cNvPr>
          <p:cNvSpPr/>
          <p:nvPr/>
        </p:nvSpPr>
        <p:spPr>
          <a:xfrm>
            <a:off x="5437080" y="5805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5080" y="587700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177960" y="6381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78160" y="58770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6084720" y="3284640"/>
            <a:ext cx="1008360" cy="431640"/>
          </a:xfrm>
          <a:custGeom>
            <a:avLst/>
            <a:gdLst>
              <a:gd name="textAreaLeft" fmla="*/ 27720 w 1008360"/>
              <a:gd name="textAreaRight" fmla="*/ 980640 w 1008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36" h="21600">
                <a:moveTo>
                  <a:pt x="0" y="0"/>
                </a:moveTo>
                <a:lnTo>
                  <a:pt x="50436" y="0"/>
                </a:lnTo>
                <a:lnTo>
                  <a:pt x="50436" y="21600"/>
                </a:lnTo>
                <a:lnTo>
                  <a:pt x="0" y="21600"/>
                </a:lnTo>
                <a:close/>
              </a:path>
              <a:path fill="lightenLess" w="50436" h="21600">
                <a:moveTo>
                  <a:pt x="0" y="0"/>
                </a:moveTo>
                <a:lnTo>
                  <a:pt x="50436" y="0"/>
                </a:lnTo>
                <a:lnTo>
                  <a:pt x="49036" y="1400"/>
                </a:lnTo>
                <a:lnTo>
                  <a:pt x="1400" y="1400"/>
                </a:lnTo>
                <a:close/>
              </a:path>
              <a:path fill="darken" w="50436" h="21600">
                <a:moveTo>
                  <a:pt x="50436" y="0"/>
                </a:moveTo>
                <a:lnTo>
                  <a:pt x="50436" y="21600"/>
                </a:lnTo>
                <a:lnTo>
                  <a:pt x="49036" y="20200"/>
                </a:lnTo>
                <a:lnTo>
                  <a:pt x="49036" y="1400"/>
                </a:lnTo>
                <a:close/>
              </a:path>
              <a:path fill="darkenLess" w="50436" h="21600">
                <a:moveTo>
                  <a:pt x="5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36" y="20200"/>
                </a:lnTo>
                <a:close/>
              </a:path>
              <a:path fill="lighten" w="5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543708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rId3" action="ppaction://hlinksldjump"/>
          </p:cNvPr>
          <p:cNvSpPr/>
          <p:nvPr/>
        </p:nvSpPr>
        <p:spPr>
          <a:xfrm>
            <a:off x="277164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635280" y="0"/>
            <a:ext cx="5760360" cy="6858000"/>
            <a:chOff x="3635280" y="0"/>
            <a:chExt cx="5760360" cy="6858000"/>
          </a:xfrm>
        </p:grpSpPr>
        <p:grpSp>
          <p:nvGrpSpPr>
            <p:cNvPr id="351" name=""/>
            <p:cNvGrpSpPr/>
            <p:nvPr/>
          </p:nvGrpSpPr>
          <p:grpSpPr>
            <a:xfrm>
              <a:off x="3635280" y="0"/>
              <a:ext cx="5760360" cy="6858000"/>
              <a:chOff x="3635280" y="0"/>
              <a:chExt cx="5760360" cy="6858000"/>
            </a:xfrm>
          </p:grpSpPr>
          <p:pic>
            <p:nvPicPr>
              <p:cNvPr id="3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5280" y="0"/>
                <a:ext cx="5760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>
                <a:off x="4048200" y="333360"/>
                <a:ext cx="12873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746840" y="404640"/>
                <a:ext cx="6436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4691880" y="2565360"/>
              <a:ext cx="33778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0" y="4365720"/>
            <a:ext cx="37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Establish lowest &amp; highest values and draw line with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9280" y="54936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9   29   30   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8   30   29 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0   30   28 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9  29   29   29   2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9120" y="2492280"/>
            <a:ext cx="34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strate this using a dot pl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3851280" y="4005360"/>
            <a:ext cx="5292720" cy="627480"/>
            <a:chOff x="3851280" y="4005360"/>
            <a:chExt cx="5292720" cy="627480"/>
          </a:xfrm>
        </p:grpSpPr>
        <p:grpSp>
          <p:nvGrpSpPr>
            <p:cNvPr id="362" name=""/>
            <p:cNvGrpSpPr/>
            <p:nvPr/>
          </p:nvGrpSpPr>
          <p:grpSpPr>
            <a:xfrm>
              <a:off x="3851280" y="4005360"/>
              <a:ext cx="5292720" cy="304560"/>
              <a:chOff x="3851280" y="4005360"/>
              <a:chExt cx="5292720" cy="304560"/>
            </a:xfrm>
          </p:grpSpPr>
          <p:sp>
            <p:nvSpPr>
              <p:cNvPr id="363" name=""/>
              <p:cNvSpPr/>
              <p:nvPr/>
            </p:nvSpPr>
            <p:spPr>
              <a:xfrm>
                <a:off x="3851280" y="4157640"/>
                <a:ext cx="529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29228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02740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6252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49764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23276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96788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70264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4071600" y="4233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42200" y="4233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12080" y="4233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482320" y="4233960"/>
              <a:ext cx="441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3995640" y="105264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 Lowest = 28 &amp; highest = 3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651640" y="1628640"/>
            <a:ext cx="2437920" cy="2286000"/>
            <a:chOff x="5651640" y="1628640"/>
            <a:chExt cx="2437920" cy="2286000"/>
          </a:xfrm>
        </p:grpSpPr>
        <p:sp>
          <p:nvSpPr>
            <p:cNvPr id="377" name=""/>
            <p:cNvSpPr/>
            <p:nvPr/>
          </p:nvSpPr>
          <p:spPr>
            <a:xfrm>
              <a:off x="7175520" y="25430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13400" y="223812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651640" y="25430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51640" y="37620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75520" y="37620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13400" y="37620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37280" y="37620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13400" y="28476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51640" y="28476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51640" y="34574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175520" y="34574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13400" y="34574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13400" y="25430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51640" y="3152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175520" y="315252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13400" y="315252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13400" y="19332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75520" y="28476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51640" y="22381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413400" y="16286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924360" y="1628640"/>
            <a:ext cx="1905120" cy="533160"/>
            <a:chOff x="3924360" y="1628640"/>
            <a:chExt cx="1905120" cy="533160"/>
          </a:xfrm>
        </p:grpSpPr>
        <p:sp>
          <p:nvSpPr>
            <p:cNvPr id="398" name=""/>
            <p:cNvSpPr/>
            <p:nvPr/>
          </p:nvSpPr>
          <p:spPr>
            <a:xfrm>
              <a:off x="3924360" y="1628640"/>
              <a:ext cx="152424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24360" y="17046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ights in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995640" y="4724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lot a dot for each piece of data and label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rId3" action="ppaction://hlinksldjump"/>
          </p:cNvPr>
          <p:cNvSpPr/>
          <p:nvPr/>
        </p:nvSpPr>
        <p:spPr>
          <a:xfrm>
            <a:off x="250920" y="5516640"/>
            <a:ext cx="433440" cy="28872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4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4" y="20200"/>
                </a:lnTo>
                <a:lnTo>
                  <a:pt x="31014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4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>
            <a:hlinkClick r:id="rId4" action="ppaction://hlinksldjump"/>
          </p:cNvPr>
          <p:cNvSpPr/>
          <p:nvPr/>
        </p:nvSpPr>
        <p:spPr>
          <a:xfrm>
            <a:off x="250920" y="5948280"/>
            <a:ext cx="433440" cy="28908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635280" y="0"/>
            <a:ext cx="5760360" cy="6858000"/>
            <a:chOff x="3635280" y="0"/>
            <a:chExt cx="5760360" cy="6858000"/>
          </a:xfrm>
        </p:grpSpPr>
        <p:grpSp>
          <p:nvGrpSpPr>
            <p:cNvPr id="414" name=""/>
            <p:cNvGrpSpPr/>
            <p:nvPr/>
          </p:nvGrpSpPr>
          <p:grpSpPr>
            <a:xfrm>
              <a:off x="3635280" y="0"/>
              <a:ext cx="5760360" cy="6858000"/>
              <a:chOff x="3635280" y="0"/>
              <a:chExt cx="5760360" cy="6858000"/>
            </a:xfrm>
          </p:grpSpPr>
          <p:pic>
            <p:nvPicPr>
              <p:cNvPr id="4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5280" y="0"/>
                <a:ext cx="5760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>
                <a:off x="4048200" y="333360"/>
                <a:ext cx="12873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746840" y="404640"/>
                <a:ext cx="6436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4691880" y="2565360"/>
              <a:ext cx="33778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0" y="4365720"/>
            <a:ext cx="37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Make sure you know the possible descriptions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9280" y="54936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9   29   30   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8   30   29 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0   30   28 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9  29   29   29   2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851280" y="4005360"/>
            <a:ext cx="5292720" cy="627480"/>
            <a:chOff x="3851280" y="4005360"/>
            <a:chExt cx="5292720" cy="627480"/>
          </a:xfrm>
        </p:grpSpPr>
        <p:grpSp>
          <p:nvGrpSpPr>
            <p:cNvPr id="424" name=""/>
            <p:cNvGrpSpPr/>
            <p:nvPr/>
          </p:nvGrpSpPr>
          <p:grpSpPr>
            <a:xfrm>
              <a:off x="3851280" y="4005360"/>
              <a:ext cx="5292720" cy="304560"/>
              <a:chOff x="3851280" y="4005360"/>
              <a:chExt cx="5292720" cy="304560"/>
            </a:xfrm>
          </p:grpSpPr>
          <p:sp>
            <p:nvSpPr>
              <p:cNvPr id="425" name=""/>
              <p:cNvSpPr/>
              <p:nvPr/>
            </p:nvSpPr>
            <p:spPr>
              <a:xfrm>
                <a:off x="3851280" y="4157640"/>
                <a:ext cx="529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29228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02740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6252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9764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23276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96788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70264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4071600" y="4233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42200" y="4233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12080" y="4233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82320" y="4233960"/>
              <a:ext cx="441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651640" y="1628640"/>
            <a:ext cx="2437920" cy="2286000"/>
            <a:chOff x="5651640" y="1628640"/>
            <a:chExt cx="2437920" cy="2286000"/>
          </a:xfrm>
        </p:grpSpPr>
        <p:sp>
          <p:nvSpPr>
            <p:cNvPr id="438" name=""/>
            <p:cNvSpPr/>
            <p:nvPr/>
          </p:nvSpPr>
          <p:spPr>
            <a:xfrm>
              <a:off x="7175520" y="25430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13400" y="223812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51640" y="25430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51640" y="37620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75520" y="37620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13400" y="37620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937280" y="37620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13400" y="28476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51640" y="28476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651640" y="34574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175520" y="34574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13400" y="34574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13400" y="25430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51640" y="3152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75520" y="315252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13400" y="315252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13400" y="19332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75520" y="28476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651640" y="22381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13400" y="16286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924360" y="1628640"/>
            <a:ext cx="1905120" cy="533160"/>
            <a:chOff x="3924360" y="1628640"/>
            <a:chExt cx="1905120" cy="533160"/>
          </a:xfrm>
        </p:grpSpPr>
        <p:sp>
          <p:nvSpPr>
            <p:cNvPr id="459" name=""/>
            <p:cNvSpPr/>
            <p:nvPr/>
          </p:nvSpPr>
          <p:spPr>
            <a:xfrm>
              <a:off x="3924360" y="1628640"/>
              <a:ext cx="152424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24360" y="17046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ights in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-3600" y="2682720"/>
            <a:ext cx="3912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at type of distribution do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 s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24360" y="5013360"/>
            <a:ext cx="4952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 Tightly clustered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rId3" action="ppaction://hlinksldjump"/>
          </p:cNvPr>
          <p:cNvSpPr/>
          <p:nvPr/>
        </p:nvSpPr>
        <p:spPr>
          <a:xfrm>
            <a:off x="250920" y="5516640"/>
            <a:ext cx="433440" cy="28872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4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4" y="20200"/>
                </a:lnTo>
                <a:lnTo>
                  <a:pt x="31014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4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rId4" action="ppaction://hlinksldjump"/>
          </p:cNvPr>
          <p:cNvSpPr/>
          <p:nvPr/>
        </p:nvSpPr>
        <p:spPr>
          <a:xfrm>
            <a:off x="250920" y="5948280"/>
            <a:ext cx="433440" cy="28908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25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25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525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635280" y="0"/>
            <a:ext cx="5760360" cy="6858000"/>
            <a:chOff x="3635280" y="0"/>
            <a:chExt cx="5760360" cy="6858000"/>
          </a:xfrm>
        </p:grpSpPr>
        <p:grpSp>
          <p:nvGrpSpPr>
            <p:cNvPr id="476" name=""/>
            <p:cNvGrpSpPr/>
            <p:nvPr/>
          </p:nvGrpSpPr>
          <p:grpSpPr>
            <a:xfrm>
              <a:off x="3635280" y="0"/>
              <a:ext cx="5760360" cy="6858000"/>
              <a:chOff x="3635280" y="0"/>
              <a:chExt cx="5760360" cy="6858000"/>
            </a:xfrm>
          </p:grpSpPr>
          <p:pic>
            <p:nvPicPr>
              <p:cNvPr id="47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5280" y="0"/>
                <a:ext cx="5760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4048200" y="333360"/>
                <a:ext cx="12873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746840" y="404640"/>
                <a:ext cx="6436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4691880" y="2565360"/>
              <a:ext cx="33778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0" y="4365720"/>
            <a:ext cx="37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9280" y="54936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9   29   30   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8   30   29 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0   30   28 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9  29   29   29   2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51280" y="4005360"/>
            <a:ext cx="5292720" cy="627480"/>
            <a:chOff x="3851280" y="4005360"/>
            <a:chExt cx="5292720" cy="627480"/>
          </a:xfrm>
        </p:grpSpPr>
        <p:grpSp>
          <p:nvGrpSpPr>
            <p:cNvPr id="485" name=""/>
            <p:cNvGrpSpPr/>
            <p:nvPr/>
          </p:nvGrpSpPr>
          <p:grpSpPr>
            <a:xfrm>
              <a:off x="3851280" y="4005360"/>
              <a:ext cx="5292720" cy="304560"/>
              <a:chOff x="3851280" y="4005360"/>
              <a:chExt cx="5292720" cy="304560"/>
            </a:xfrm>
          </p:grpSpPr>
          <p:sp>
            <p:nvSpPr>
              <p:cNvPr id="486" name=""/>
              <p:cNvSpPr/>
              <p:nvPr/>
            </p:nvSpPr>
            <p:spPr>
              <a:xfrm>
                <a:off x="3851280" y="4157640"/>
                <a:ext cx="529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29228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2740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76252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49764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23276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96788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702640" y="4005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4071600" y="4233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42200" y="4233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12080" y="4233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82320" y="4233960"/>
              <a:ext cx="441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651640" y="1628640"/>
            <a:ext cx="2437920" cy="2286000"/>
            <a:chOff x="5651640" y="1628640"/>
            <a:chExt cx="2437920" cy="2286000"/>
          </a:xfrm>
        </p:grpSpPr>
        <p:sp>
          <p:nvSpPr>
            <p:cNvPr id="499" name=""/>
            <p:cNvSpPr/>
            <p:nvPr/>
          </p:nvSpPr>
          <p:spPr>
            <a:xfrm>
              <a:off x="7175520" y="25430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13400" y="223812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51640" y="25430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1640" y="37620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75520" y="37620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13400" y="37620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37280" y="37620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13400" y="28476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8476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51640" y="34574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75520" y="34574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13400" y="34574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13400" y="25430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51640" y="3152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75520" y="315252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13400" y="315252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13400" y="19332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175520" y="284760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51640" y="22381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13400" y="162864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3924360" y="1628640"/>
            <a:ext cx="1905120" cy="533160"/>
            <a:chOff x="3924360" y="1628640"/>
            <a:chExt cx="1905120" cy="533160"/>
          </a:xfrm>
        </p:grpSpPr>
        <p:sp>
          <p:nvSpPr>
            <p:cNvPr id="520" name=""/>
            <p:cNvSpPr/>
            <p:nvPr/>
          </p:nvSpPr>
          <p:spPr>
            <a:xfrm>
              <a:off x="3924360" y="1628640"/>
              <a:ext cx="152424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924360" y="17046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ights in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3995640" y="26028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Use P = no of favourable / no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134600" y="4653000"/>
            <a:ext cx="4740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of favourable ( bigger than 29)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137480" y="522936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of data = n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95640" y="5734080"/>
            <a:ext cx="4800600" cy="510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c)  Prob(W &gt; mode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-2160" y="2395440"/>
            <a:ext cx="36842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 a bag is chosen at ran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at is the probability it wi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 heavier than the mo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ight?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981000"/>
            <a:ext cx="10281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948360" y="2276640"/>
            <a:ext cx="576360" cy="172872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40720" y="3500280"/>
            <a:ext cx="576360" cy="5781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>
            <a:hlinkClick r:id="rId3" action="ppaction://hlinksldjump"/>
          </p:cNvPr>
          <p:cNvSpPr/>
          <p:nvPr/>
        </p:nvSpPr>
        <p:spPr>
          <a:xfrm>
            <a:off x="250920" y="5948280"/>
            <a:ext cx="433440" cy="289080"/>
          </a:xfrm>
          <a:custGeom>
            <a:avLst/>
            <a:gdLst>
              <a:gd name="textAreaLeft" fmla="*/ 18720 w 433440"/>
              <a:gd name="textAreaRight" fmla="*/ 414720 w 433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339440" y="627228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25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75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25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08000" y="836640"/>
            <a:ext cx="46083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Make sure you know the possible descriptions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71280" y="4581360"/>
            <a:ext cx="5292720" cy="627480"/>
            <a:chOff x="71280" y="4581360"/>
            <a:chExt cx="5292720" cy="627480"/>
          </a:xfrm>
        </p:grpSpPr>
        <p:grpSp>
          <p:nvGrpSpPr>
            <p:cNvPr id="546" name=""/>
            <p:cNvGrpSpPr/>
            <p:nvPr/>
          </p:nvGrpSpPr>
          <p:grpSpPr>
            <a:xfrm>
              <a:off x="71280" y="4581360"/>
              <a:ext cx="5292720" cy="304560"/>
              <a:chOff x="71280" y="4581360"/>
              <a:chExt cx="5292720" cy="304560"/>
            </a:xfrm>
          </p:grpSpPr>
          <p:sp>
            <p:nvSpPr>
              <p:cNvPr id="547" name=""/>
              <p:cNvSpPr/>
              <p:nvPr/>
            </p:nvSpPr>
            <p:spPr>
              <a:xfrm>
                <a:off x="71280" y="4733640"/>
                <a:ext cx="529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228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24740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98252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71764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45276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18788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92264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291600" y="4809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62200" y="4809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32080" y="4809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02320" y="4809960"/>
              <a:ext cx="441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871640" y="2205000"/>
            <a:ext cx="2437920" cy="2286000"/>
            <a:chOff x="1871640" y="2205000"/>
            <a:chExt cx="2437920" cy="2286000"/>
          </a:xfrm>
        </p:grpSpPr>
        <p:sp>
          <p:nvSpPr>
            <p:cNvPr id="560" name=""/>
            <p:cNvSpPr/>
            <p:nvPr/>
          </p:nvSpPr>
          <p:spPr>
            <a:xfrm>
              <a:off x="3395520" y="31194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400" y="281448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871640" y="311940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871640" y="4338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95520" y="43383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33400" y="43383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157280" y="4338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33400" y="34239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71640" y="34239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71640" y="403380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95520" y="40338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33400" y="40338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33400" y="31194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871640" y="372888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95520" y="372888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33400" y="372888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33400" y="25095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95520" y="34239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871640" y="281448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633400" y="22050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144360" y="2205000"/>
            <a:ext cx="1905120" cy="533160"/>
            <a:chOff x="144360" y="2205000"/>
            <a:chExt cx="1905120" cy="533160"/>
          </a:xfrm>
        </p:grpSpPr>
        <p:sp>
          <p:nvSpPr>
            <p:cNvPr id="581" name=""/>
            <p:cNvSpPr/>
            <p:nvPr/>
          </p:nvSpPr>
          <p:spPr>
            <a:xfrm>
              <a:off x="144360" y="2205000"/>
              <a:ext cx="152424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44360" y="22809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ights in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44360" y="5589720"/>
            <a:ext cx="495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 Tightly clustered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999320" y="476280"/>
            <a:ext cx="346176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types of distrib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4991040" y="836640"/>
            <a:ext cx="3321000" cy="194940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4643280" y="3036960"/>
            <a:ext cx="4383360" cy="22636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>
            <a:hlinkClick r:id="rId4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>
            <a:hlinkClick r:id="rId5" action="ppaction://hlinksldjump"/>
          </p:cNvPr>
          <p:cNvSpPr/>
          <p:nvPr/>
        </p:nvSpPr>
        <p:spPr>
          <a:xfrm>
            <a:off x="6372360" y="5950080"/>
            <a:ext cx="433080" cy="288720"/>
          </a:xfrm>
          <a:custGeom>
            <a:avLst/>
            <a:gdLst>
              <a:gd name="textAreaLeft" fmla="*/ 18720 w 433080"/>
              <a:gd name="textAreaRight" fmla="*/ 414360 w 433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87" h="21600">
                <a:moveTo>
                  <a:pt x="0" y="0"/>
                </a:moveTo>
                <a:lnTo>
                  <a:pt x="32387" y="0"/>
                </a:lnTo>
                <a:lnTo>
                  <a:pt x="32387" y="21600"/>
                </a:lnTo>
                <a:lnTo>
                  <a:pt x="0" y="21600"/>
                </a:lnTo>
                <a:close/>
              </a:path>
              <a:path fill="lightenLess" w="32387" h="21600">
                <a:moveTo>
                  <a:pt x="0" y="0"/>
                </a:moveTo>
                <a:lnTo>
                  <a:pt x="32387" y="0"/>
                </a:lnTo>
                <a:lnTo>
                  <a:pt x="30987" y="1400"/>
                </a:lnTo>
                <a:lnTo>
                  <a:pt x="1400" y="1400"/>
                </a:lnTo>
                <a:close/>
              </a:path>
              <a:path fill="darken" w="32387" h="21600">
                <a:moveTo>
                  <a:pt x="32387" y="0"/>
                </a:moveTo>
                <a:lnTo>
                  <a:pt x="32387" y="21600"/>
                </a:lnTo>
                <a:lnTo>
                  <a:pt x="30987" y="20200"/>
                </a:lnTo>
                <a:lnTo>
                  <a:pt x="30987" y="1400"/>
                </a:lnTo>
                <a:close/>
              </a:path>
              <a:path fill="darkenLess" w="32387" h="21600">
                <a:moveTo>
                  <a:pt x="32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7" y="20200"/>
                </a:lnTo>
                <a:close/>
              </a:path>
              <a:path fill="lighten" w="32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08000" y="836640"/>
            <a:ext cx="46083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Make sure you know the possible descriptions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71280" y="4581360"/>
            <a:ext cx="5292720" cy="627480"/>
            <a:chOff x="71280" y="4581360"/>
            <a:chExt cx="5292720" cy="627480"/>
          </a:xfrm>
        </p:grpSpPr>
        <p:grpSp>
          <p:nvGrpSpPr>
            <p:cNvPr id="598" name=""/>
            <p:cNvGrpSpPr/>
            <p:nvPr/>
          </p:nvGrpSpPr>
          <p:grpSpPr>
            <a:xfrm>
              <a:off x="71280" y="4581360"/>
              <a:ext cx="5292720" cy="304560"/>
              <a:chOff x="71280" y="4581360"/>
              <a:chExt cx="5292720" cy="304560"/>
            </a:xfrm>
          </p:grpSpPr>
          <p:sp>
            <p:nvSpPr>
              <p:cNvPr id="599" name=""/>
              <p:cNvSpPr/>
              <p:nvPr/>
            </p:nvSpPr>
            <p:spPr>
              <a:xfrm>
                <a:off x="71280" y="4733640"/>
                <a:ext cx="529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1228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24740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98252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71764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45276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18788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2264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291600" y="4809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62200" y="4809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232080" y="4809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702320" y="4809960"/>
              <a:ext cx="441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1871640" y="2205000"/>
            <a:ext cx="2437920" cy="2286000"/>
            <a:chOff x="1871640" y="2205000"/>
            <a:chExt cx="2437920" cy="2286000"/>
          </a:xfrm>
        </p:grpSpPr>
        <p:sp>
          <p:nvSpPr>
            <p:cNvPr id="612" name=""/>
            <p:cNvSpPr/>
            <p:nvPr/>
          </p:nvSpPr>
          <p:spPr>
            <a:xfrm>
              <a:off x="3395520" y="31194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633400" y="281448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871640" y="311940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71640" y="4338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95520" y="43383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33400" y="43383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57280" y="4338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633400" y="34239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71640" y="34239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71640" y="403380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395520" y="40338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33400" y="40338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33400" y="31194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71640" y="372888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95520" y="372888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33400" y="372888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633400" y="25095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395520" y="34239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71640" y="281448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33400" y="22050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144360" y="2205000"/>
            <a:ext cx="1905120" cy="533160"/>
            <a:chOff x="144360" y="2205000"/>
            <a:chExt cx="1905120" cy="533160"/>
          </a:xfrm>
        </p:grpSpPr>
        <p:sp>
          <p:nvSpPr>
            <p:cNvPr id="633" name=""/>
            <p:cNvSpPr/>
            <p:nvPr/>
          </p:nvSpPr>
          <p:spPr>
            <a:xfrm>
              <a:off x="144360" y="2205000"/>
              <a:ext cx="152424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4360" y="22809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ights in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144360" y="5589720"/>
            <a:ext cx="495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 Tightly clustered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999320" y="476280"/>
            <a:ext cx="346176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types of distrib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4282920" cy="226368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5419800" y="3429000"/>
            <a:ext cx="3724200" cy="190512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rId4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>
            <a:hlinkClick r:id="rId5" action="ppaction://hlinksldjump"/>
          </p:cNvPr>
          <p:cNvSpPr/>
          <p:nvPr/>
        </p:nvSpPr>
        <p:spPr>
          <a:xfrm>
            <a:off x="6372360" y="5950080"/>
            <a:ext cx="433080" cy="288720"/>
          </a:xfrm>
          <a:custGeom>
            <a:avLst/>
            <a:gdLst>
              <a:gd name="textAreaLeft" fmla="*/ 18720 w 433080"/>
              <a:gd name="textAreaRight" fmla="*/ 414360 w 433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87" h="21600">
                <a:moveTo>
                  <a:pt x="0" y="0"/>
                </a:moveTo>
                <a:lnTo>
                  <a:pt x="32387" y="0"/>
                </a:lnTo>
                <a:lnTo>
                  <a:pt x="32387" y="21600"/>
                </a:lnTo>
                <a:lnTo>
                  <a:pt x="0" y="21600"/>
                </a:lnTo>
                <a:close/>
              </a:path>
              <a:path fill="lightenLess" w="32387" h="21600">
                <a:moveTo>
                  <a:pt x="0" y="0"/>
                </a:moveTo>
                <a:lnTo>
                  <a:pt x="32387" y="0"/>
                </a:lnTo>
                <a:lnTo>
                  <a:pt x="30987" y="1400"/>
                </a:lnTo>
                <a:lnTo>
                  <a:pt x="1400" y="1400"/>
                </a:lnTo>
                <a:close/>
              </a:path>
              <a:path fill="darken" w="32387" h="21600">
                <a:moveTo>
                  <a:pt x="32387" y="0"/>
                </a:moveTo>
                <a:lnTo>
                  <a:pt x="32387" y="21600"/>
                </a:lnTo>
                <a:lnTo>
                  <a:pt x="30987" y="20200"/>
                </a:lnTo>
                <a:lnTo>
                  <a:pt x="30987" y="1400"/>
                </a:lnTo>
                <a:close/>
              </a:path>
              <a:path fill="darkenLess" w="32387" h="21600">
                <a:moveTo>
                  <a:pt x="32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7" y="20200"/>
                </a:lnTo>
                <a:close/>
              </a:path>
              <a:path fill="lighten" w="32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08000" y="836640"/>
            <a:ext cx="460836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Make sure you know the possible descriptions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71280" y="4581360"/>
            <a:ext cx="5292720" cy="627480"/>
            <a:chOff x="71280" y="4581360"/>
            <a:chExt cx="5292720" cy="627480"/>
          </a:xfrm>
        </p:grpSpPr>
        <p:grpSp>
          <p:nvGrpSpPr>
            <p:cNvPr id="650" name=""/>
            <p:cNvGrpSpPr/>
            <p:nvPr/>
          </p:nvGrpSpPr>
          <p:grpSpPr>
            <a:xfrm>
              <a:off x="71280" y="4581360"/>
              <a:ext cx="5292720" cy="304560"/>
              <a:chOff x="71280" y="4581360"/>
              <a:chExt cx="5292720" cy="304560"/>
            </a:xfrm>
          </p:grpSpPr>
          <p:sp>
            <p:nvSpPr>
              <p:cNvPr id="651" name=""/>
              <p:cNvSpPr/>
              <p:nvPr/>
            </p:nvSpPr>
            <p:spPr>
              <a:xfrm>
                <a:off x="71280" y="4733640"/>
                <a:ext cx="529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1228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24740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98252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71764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45276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18788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922640" y="458136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291600" y="4809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762200" y="4809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232080" y="4809960"/>
              <a:ext cx="4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02320" y="4809960"/>
              <a:ext cx="441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1871640" y="2205000"/>
            <a:ext cx="2437920" cy="2286000"/>
            <a:chOff x="1871640" y="2205000"/>
            <a:chExt cx="2437920" cy="2286000"/>
          </a:xfrm>
        </p:grpSpPr>
        <p:sp>
          <p:nvSpPr>
            <p:cNvPr id="664" name=""/>
            <p:cNvSpPr/>
            <p:nvPr/>
          </p:nvSpPr>
          <p:spPr>
            <a:xfrm>
              <a:off x="3395520" y="31194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633400" y="281448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871640" y="311940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71640" y="4338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395520" y="43383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33400" y="43383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57280" y="4338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33400" y="34239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71640" y="34239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871640" y="403380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395520" y="40338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33400" y="40338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633400" y="31194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871640" y="372888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395520" y="372888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633400" y="372888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33400" y="25095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395520" y="3423960"/>
              <a:ext cx="15192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71640" y="281448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633400" y="2205000"/>
              <a:ext cx="15192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144360" y="2205000"/>
            <a:ext cx="1905120" cy="533160"/>
            <a:chOff x="144360" y="2205000"/>
            <a:chExt cx="1905120" cy="533160"/>
          </a:xfrm>
        </p:grpSpPr>
        <p:sp>
          <p:nvSpPr>
            <p:cNvPr id="685" name=""/>
            <p:cNvSpPr/>
            <p:nvPr/>
          </p:nvSpPr>
          <p:spPr>
            <a:xfrm>
              <a:off x="144360" y="2205000"/>
              <a:ext cx="152424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44360" y="22809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ights in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144360" y="5589720"/>
            <a:ext cx="495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 Tightly clustered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999320" y="476280"/>
            <a:ext cx="346176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types of distrib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427640" cy="114480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rId3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>
            <a:hlinkClick r:id="rId4" action="ppaction://hlinksldjump"/>
          </p:cNvPr>
          <p:cNvSpPr/>
          <p:nvPr/>
        </p:nvSpPr>
        <p:spPr>
          <a:xfrm>
            <a:off x="6372360" y="5950080"/>
            <a:ext cx="433080" cy="288720"/>
          </a:xfrm>
          <a:custGeom>
            <a:avLst/>
            <a:gdLst>
              <a:gd name="textAreaLeft" fmla="*/ 18720 w 433080"/>
              <a:gd name="textAreaRight" fmla="*/ 414360 w 433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87" h="21600">
                <a:moveTo>
                  <a:pt x="0" y="0"/>
                </a:moveTo>
                <a:lnTo>
                  <a:pt x="32387" y="0"/>
                </a:lnTo>
                <a:lnTo>
                  <a:pt x="32387" y="21600"/>
                </a:lnTo>
                <a:lnTo>
                  <a:pt x="0" y="21600"/>
                </a:lnTo>
                <a:close/>
              </a:path>
              <a:path fill="lightenLess" w="32387" h="21600">
                <a:moveTo>
                  <a:pt x="0" y="0"/>
                </a:moveTo>
                <a:lnTo>
                  <a:pt x="32387" y="0"/>
                </a:lnTo>
                <a:lnTo>
                  <a:pt x="30987" y="1400"/>
                </a:lnTo>
                <a:lnTo>
                  <a:pt x="1400" y="1400"/>
                </a:lnTo>
                <a:close/>
              </a:path>
              <a:path fill="darken" w="32387" h="21600">
                <a:moveTo>
                  <a:pt x="32387" y="0"/>
                </a:moveTo>
                <a:lnTo>
                  <a:pt x="32387" y="21600"/>
                </a:lnTo>
                <a:lnTo>
                  <a:pt x="30987" y="20200"/>
                </a:lnTo>
                <a:lnTo>
                  <a:pt x="30987" y="1400"/>
                </a:lnTo>
                <a:close/>
              </a:path>
              <a:path fill="darkenLess" w="32387" h="21600">
                <a:moveTo>
                  <a:pt x="32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7" y="20200"/>
                </a:lnTo>
                <a:close/>
              </a:path>
              <a:path fill="lighten" w="32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4221000"/>
            <a:ext cx="86025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a)  Use this information to find th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(i) 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i) lower &amp; upper quar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ii) the semi-interquartil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0" y="5535720"/>
            <a:ext cx="860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probability that someone chosen at random earns   less than £180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2360" y="3213000"/>
            <a:ext cx="1871640" cy="9478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3716280"/>
            <a:ext cx="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20640"/>
            <a:ext cx="8748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stem &amp; leaf diagram shows the distribution of wages for employees in a small factory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 =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  4  = £1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1413000"/>
            <a:ext cx="0" cy="270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GRAPHS, CHARTS, TABLES : Question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270036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8488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538488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75080" y="587700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77960" y="6381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5240" y="6426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2700360" y="5950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360" y="595008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292360" y="1303200"/>
            <a:ext cx="1713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ability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19600" y="2174760"/>
            <a:ext cx="4518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favoura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ossi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788000" y="2606760"/>
            <a:ext cx="435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1655640" y="1844640"/>
            <a:ext cx="2438640" cy="2286000"/>
            <a:chOff x="1655640" y="1844640"/>
            <a:chExt cx="2438640" cy="2286000"/>
          </a:xfrm>
        </p:grpSpPr>
        <p:sp>
          <p:nvSpPr>
            <p:cNvPr id="703" name=""/>
            <p:cNvSpPr/>
            <p:nvPr/>
          </p:nvSpPr>
          <p:spPr>
            <a:xfrm>
              <a:off x="3179880" y="27590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417760" y="24541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55640" y="2759040"/>
              <a:ext cx="15264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655640" y="3978000"/>
              <a:ext cx="15264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79880" y="39780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417760" y="39780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941640" y="3978000"/>
              <a:ext cx="15264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17760" y="30636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655640" y="3063600"/>
              <a:ext cx="15264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655640" y="3673440"/>
              <a:ext cx="15264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79880" y="36734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17760" y="36734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417760" y="27590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55640" y="3368520"/>
              <a:ext cx="15264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179880" y="3368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417760" y="3368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417760" y="21492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179880" y="3063600"/>
              <a:ext cx="152280" cy="152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655640" y="2454120"/>
              <a:ext cx="15264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417760" y="1844640"/>
              <a:ext cx="152280" cy="152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-71280" y="1844640"/>
            <a:ext cx="1904760" cy="533160"/>
            <a:chOff x="-71280" y="1844640"/>
            <a:chExt cx="1904760" cy="533160"/>
          </a:xfrm>
        </p:grpSpPr>
        <p:sp>
          <p:nvSpPr>
            <p:cNvPr id="724" name=""/>
            <p:cNvSpPr/>
            <p:nvPr/>
          </p:nvSpPr>
          <p:spPr>
            <a:xfrm>
              <a:off x="-71280" y="1844640"/>
              <a:ext cx="152388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-71280" y="192060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ights in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0" y="73836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Use P = no of favourable / no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38600" y="5192640"/>
            <a:ext cx="4740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of favourable ( bigger than 29)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41840" y="570708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of data = n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6211800"/>
            <a:ext cx="4800600" cy="510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c)  Prob(W &gt; mode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090880" y="1197000"/>
            <a:ext cx="10281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952720" y="2492280"/>
            <a:ext cx="576360" cy="172872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745080" y="3716280"/>
            <a:ext cx="576000" cy="57780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0" y="4319640"/>
            <a:ext cx="5111640" cy="932400"/>
            <a:chOff x="0" y="4319640"/>
            <a:chExt cx="5111640" cy="932400"/>
          </a:xfrm>
        </p:grpSpPr>
        <p:grpSp>
          <p:nvGrpSpPr>
            <p:cNvPr id="734" name=""/>
            <p:cNvGrpSpPr/>
            <p:nvPr/>
          </p:nvGrpSpPr>
          <p:grpSpPr>
            <a:xfrm>
              <a:off x="0" y="4319640"/>
              <a:ext cx="5111640" cy="304560"/>
              <a:chOff x="0" y="4319640"/>
              <a:chExt cx="5111640" cy="30456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4471920"/>
                <a:ext cx="511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25880" y="431964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135800" y="431964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846080" y="431964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555640" y="431964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265560" y="431964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975840" y="431964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685400" y="431964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212760" y="4548240"/>
              <a:ext cx="42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32960" y="4548240"/>
              <a:ext cx="425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052800" y="4548240"/>
              <a:ext cx="425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474080" y="4548240"/>
              <a:ext cx="4240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4856040" y="549360"/>
            <a:ext cx="419328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lculate simple probabi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>
            <a:hlinkClick r:id="rId3" action="ppaction://hlinksldjump"/>
          </p:cNvPr>
          <p:cNvSpPr/>
          <p:nvPr/>
        </p:nvSpPr>
        <p:spPr>
          <a:xfrm>
            <a:off x="6372360" y="5950080"/>
            <a:ext cx="433080" cy="288720"/>
          </a:xfrm>
          <a:custGeom>
            <a:avLst/>
            <a:gdLst>
              <a:gd name="textAreaLeft" fmla="*/ 18720 w 433080"/>
              <a:gd name="textAreaRight" fmla="*/ 414360 w 433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87" h="21600">
                <a:moveTo>
                  <a:pt x="0" y="0"/>
                </a:moveTo>
                <a:lnTo>
                  <a:pt x="32387" y="0"/>
                </a:lnTo>
                <a:lnTo>
                  <a:pt x="32387" y="21600"/>
                </a:lnTo>
                <a:lnTo>
                  <a:pt x="0" y="21600"/>
                </a:lnTo>
                <a:close/>
              </a:path>
              <a:path fill="lightenLess" w="32387" h="21600">
                <a:moveTo>
                  <a:pt x="0" y="0"/>
                </a:moveTo>
                <a:lnTo>
                  <a:pt x="32387" y="0"/>
                </a:lnTo>
                <a:lnTo>
                  <a:pt x="30987" y="1400"/>
                </a:lnTo>
                <a:lnTo>
                  <a:pt x="1400" y="1400"/>
                </a:lnTo>
                <a:close/>
              </a:path>
              <a:path fill="darken" w="32387" h="21600">
                <a:moveTo>
                  <a:pt x="32387" y="0"/>
                </a:moveTo>
                <a:lnTo>
                  <a:pt x="32387" y="21600"/>
                </a:lnTo>
                <a:lnTo>
                  <a:pt x="30987" y="20200"/>
                </a:lnTo>
                <a:lnTo>
                  <a:pt x="30987" y="1400"/>
                </a:lnTo>
                <a:close/>
              </a:path>
              <a:path fill="darkenLess" w="32387" h="21600">
                <a:moveTo>
                  <a:pt x="32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7" y="20200"/>
                </a:lnTo>
                <a:close/>
              </a:path>
              <a:path fill="lighten" w="32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28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780"/>
                            </p:stCondLst>
                            <p:childTnLst>
                              <p:par>
                                <p:cTn id="4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280"/>
                            </p:stCondLst>
                            <p:childTnLst>
                              <p:par>
                                <p:cTn id="4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826920" y="1484280"/>
            <a:ext cx="669780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620640"/>
            <a:ext cx="914400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ults for a class test w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  14  16  17  14  16  13  11  13  13  16  14  13  18  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 14  17  13  15  15  18  14  17  13  16  10  14  13 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 Construct a cumulative frequency table for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What is the median for this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 What is the probability that a pupil selected at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red under 14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175080" y="573408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177960" y="6381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495240" y="6426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>
            <a:hlinkClick r:id="" action="ppaction://hlinkshowjump?jump=nextslide"/>
          </p:cNvPr>
          <p:cNvSpPr/>
          <p:nvPr/>
        </p:nvSpPr>
        <p:spPr>
          <a:xfrm>
            <a:off x="2700360" y="5013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64360" y="50133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278160" y="57340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>
            <a:hlinkClick r:id="rId2" action="ppaction://hlinksldjump"/>
          </p:cNvPr>
          <p:cNvSpPr/>
          <p:nvPr/>
        </p:nvSpPr>
        <p:spPr>
          <a:xfrm>
            <a:off x="270036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>
            <a:hlinkClick r:id="rId3" action="ppaction://hlinksldjump"/>
          </p:cNvPr>
          <p:cNvSpPr/>
          <p:nvPr/>
        </p:nvSpPr>
        <p:spPr>
          <a:xfrm>
            <a:off x="270036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>
            <a:hlinkClick r:id="rId4" action="ppaction://hlinksldjump"/>
          </p:cNvPr>
          <p:cNvSpPr/>
          <p:nvPr/>
        </p:nvSpPr>
        <p:spPr>
          <a:xfrm>
            <a:off x="550872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>
            <a:hlinkClick r:id="rId5" action="ppaction://hlinksldjump"/>
          </p:cNvPr>
          <p:cNvSpPr/>
          <p:nvPr/>
        </p:nvSpPr>
        <p:spPr>
          <a:xfrm>
            <a:off x="550872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826920" y="1484280"/>
            <a:ext cx="669780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620640"/>
            <a:ext cx="914400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ults for a class test w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  14  16  17  14  16  13  11  13  13  16  14  13  18  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 14  17  13  15  15  18  14  17  13  16  10  14  13 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 Construct a cumulative frequency table for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What is the median for this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 What is the probability that a pupil selected at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red under 14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111640" y="1197000"/>
            <a:ext cx="4032360" cy="1942920"/>
          </a:xfrm>
          <a:prstGeom prst="cloudCallout">
            <a:avLst>
              <a:gd name="adj1" fmla="val -37912"/>
              <a:gd name="adj2" fmla="val 7565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lowest &amp; highest values and draw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832360" y="1700280"/>
            <a:ext cx="3311640" cy="2016000"/>
          </a:xfrm>
          <a:prstGeom prst="cloudCallout">
            <a:avLst>
              <a:gd name="adj1" fmla="val -68023"/>
              <a:gd name="adj2" fmla="val 18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each row 1 step at a time, calculating running total as you 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88000" y="1916280"/>
            <a:ext cx="4356000" cy="1655640"/>
          </a:xfrm>
          <a:prstGeom prst="cloudCallout">
            <a:avLst>
              <a:gd name="adj1" fmla="val -67819"/>
              <a:gd name="adj2" fmla="val 9889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probability 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= no of favourable / no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759280" y="1268280"/>
            <a:ext cx="3384720" cy="2376720"/>
          </a:xfrm>
          <a:prstGeom prst="cloudCallout">
            <a:avLst>
              <a:gd name="adj1" fmla="val -57365"/>
              <a:gd name="adj2" fmla="val 4552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median = (n+1) / 2 to establish in which row median 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175080" y="587700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177960" y="6381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278160" y="58770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350880" y="6426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>
            <a:hlinkClick r:id="rId2" action="ppaction://hlinksldjump"/>
          </p:cNvPr>
          <p:cNvSpPr/>
          <p:nvPr/>
        </p:nvSpPr>
        <p:spPr>
          <a:xfrm>
            <a:off x="2627280" y="5805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>
            <a:hlinkClick r:id="" action="ppaction://hlinkshowjump?jump=nextslide"/>
          </p:cNvPr>
          <p:cNvSpPr/>
          <p:nvPr/>
        </p:nvSpPr>
        <p:spPr>
          <a:xfrm>
            <a:off x="2627280" y="6381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>
            <a:hlinkClick r:id="rId3" action="ppaction://hlinksldjump"/>
          </p:cNvPr>
          <p:cNvSpPr/>
          <p:nvPr/>
        </p:nvSpPr>
        <p:spPr>
          <a:xfrm>
            <a:off x="5508720" y="5805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>
            <a:hlinkClick r:id="rId4" action="ppaction://hlinksldjump"/>
          </p:cNvPr>
          <p:cNvSpPr/>
          <p:nvPr/>
        </p:nvSpPr>
        <p:spPr>
          <a:xfrm>
            <a:off x="5508720" y="6381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553480" y="522936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826920" y="1484280"/>
            <a:ext cx="669780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620640"/>
            <a:ext cx="914400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ults for a class test w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  14  16  17  14  16  13  11  13  13  16  14  13  18  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 14  17  13  15  15  18  14  17  13  16  10  14  13 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 Construct a cumulative frequency table for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What is the median for this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 What is the probability that a pupil selected at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red under 14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>
            <a:hlinkClick r:id="" action="ppaction://hlinkshowjump?jump=nextslide"/>
          </p:cNvPr>
          <p:cNvSpPr/>
          <p:nvPr/>
        </p:nvSpPr>
        <p:spPr>
          <a:xfrm>
            <a:off x="7956720" y="2781360"/>
            <a:ext cx="936360" cy="576360"/>
          </a:xfrm>
          <a:custGeom>
            <a:avLst/>
            <a:gdLst>
              <a:gd name="textAreaLeft" fmla="*/ 37080 w 936360"/>
              <a:gd name="textAreaRight" fmla="*/ 899280 w 93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83" h="21600">
                <a:moveTo>
                  <a:pt x="0" y="0"/>
                </a:moveTo>
                <a:lnTo>
                  <a:pt x="35083" y="0"/>
                </a:lnTo>
                <a:lnTo>
                  <a:pt x="35083" y="21600"/>
                </a:lnTo>
                <a:lnTo>
                  <a:pt x="0" y="21600"/>
                </a:lnTo>
                <a:close/>
              </a:path>
              <a:path fill="lightenLess" w="35083" h="21600">
                <a:moveTo>
                  <a:pt x="0" y="0"/>
                </a:moveTo>
                <a:lnTo>
                  <a:pt x="35083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3" h="21600">
                <a:moveTo>
                  <a:pt x="35083" y="0"/>
                </a:moveTo>
                <a:lnTo>
                  <a:pt x="35083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3" h="21600">
                <a:moveTo>
                  <a:pt x="35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866920" y="3357720"/>
            <a:ext cx="163008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=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212720" y="4340160"/>
            <a:ext cx="5342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175080" y="587700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177960" y="6381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278160" y="58770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>
            <a:hlinkClick r:id="rId2" action="ppaction://hlinksldjump"/>
          </p:cNvPr>
          <p:cNvSpPr/>
          <p:nvPr/>
        </p:nvSpPr>
        <p:spPr>
          <a:xfrm>
            <a:off x="2627280" y="5805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>
            <a:hlinkClick r:id="rId3" action="ppaction://hlinksldjump"/>
          </p:cNvPr>
          <p:cNvSpPr/>
          <p:nvPr/>
        </p:nvSpPr>
        <p:spPr>
          <a:xfrm>
            <a:off x="5508720" y="5805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>
            <a:hlinkClick r:id="rId4" action="ppaction://hlinksldjump"/>
          </p:cNvPr>
          <p:cNvSpPr/>
          <p:nvPr/>
        </p:nvSpPr>
        <p:spPr>
          <a:xfrm>
            <a:off x="5508720" y="6381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3635280" y="0"/>
            <a:ext cx="5760360" cy="6858000"/>
            <a:chOff x="3635280" y="0"/>
            <a:chExt cx="5760360" cy="6858000"/>
          </a:xfrm>
        </p:grpSpPr>
        <p:grpSp>
          <p:nvGrpSpPr>
            <p:cNvPr id="804" name=""/>
            <p:cNvGrpSpPr/>
            <p:nvPr/>
          </p:nvGrpSpPr>
          <p:grpSpPr>
            <a:xfrm>
              <a:off x="3635280" y="0"/>
              <a:ext cx="5760360" cy="6858000"/>
              <a:chOff x="3635280" y="0"/>
              <a:chExt cx="5760360" cy="6858000"/>
            </a:xfrm>
          </p:grpSpPr>
          <p:pic>
            <p:nvPicPr>
              <p:cNvPr id="80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5280" y="0"/>
                <a:ext cx="5760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>
                <a:off x="4048200" y="333360"/>
                <a:ext cx="12873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746840" y="404640"/>
                <a:ext cx="6436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8" name=""/>
            <p:cNvSpPr/>
            <p:nvPr/>
          </p:nvSpPr>
          <p:spPr>
            <a:xfrm>
              <a:off x="4691880" y="2565360"/>
              <a:ext cx="33778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0" y="4365720"/>
            <a:ext cx="37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851280" y="0"/>
            <a:ext cx="5113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Establish lowest &amp; highest values and draw a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924360" y="7650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 Lowest = 10 &amp; highest =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692280"/>
            <a:ext cx="378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4  16  17  14  16  13  11 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6  14  13  18  15  10  14 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5  15  18  14  17  13  16 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4  13 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-347040" y="3116160"/>
            <a:ext cx="410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struct a cumula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quency table for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3851280" y="1268280"/>
            <a:ext cx="5562360" cy="4267080"/>
            <a:chOff x="3851280" y="1268280"/>
            <a:chExt cx="5562360" cy="4267080"/>
          </a:xfrm>
        </p:grpSpPr>
        <p:grpSp>
          <p:nvGrpSpPr>
            <p:cNvPr id="816" name=""/>
            <p:cNvGrpSpPr/>
            <p:nvPr/>
          </p:nvGrpSpPr>
          <p:grpSpPr>
            <a:xfrm>
              <a:off x="3851280" y="1268280"/>
              <a:ext cx="5257800" cy="4267080"/>
              <a:chOff x="3851280" y="1268280"/>
              <a:chExt cx="5257800" cy="4267080"/>
            </a:xfrm>
          </p:grpSpPr>
          <p:sp>
            <p:nvSpPr>
              <p:cNvPr id="817" name=""/>
              <p:cNvSpPr/>
              <p:nvPr/>
            </p:nvSpPr>
            <p:spPr>
              <a:xfrm>
                <a:off x="3851280" y="1268280"/>
                <a:ext cx="5257800" cy="4267080"/>
              </a:xfrm>
              <a:prstGeom prst="rect">
                <a:avLst/>
              </a:prstGeom>
              <a:solidFill>
                <a:srgbClr val="66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146920" y="1268280"/>
                <a:ext cx="0" cy="426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747120" y="1268280"/>
                <a:ext cx="0" cy="426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851280" y="1877760"/>
                <a:ext cx="525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1" name=""/>
            <p:cNvSpPr/>
            <p:nvPr/>
          </p:nvSpPr>
          <p:spPr>
            <a:xfrm>
              <a:off x="3927240" y="134460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k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Frequenc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Cum Frequ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4232160" y="1954080"/>
            <a:ext cx="53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11 12 13 14 15 16 17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680080" y="1954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680080" y="2259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80080" y="2639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680080" y="3402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680080" y="3782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680080" y="4087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680080" y="4468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680080" y="4849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80080" y="3021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851280" y="5661000"/>
            <a:ext cx="5113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Complete each row 1 step at a time, calculating running total as you 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>
            <a:hlinkClick r:id="rId3" action="ppaction://hlinksldjump"/>
          </p:cNvPr>
          <p:cNvSpPr/>
          <p:nvPr/>
        </p:nvSpPr>
        <p:spPr>
          <a:xfrm>
            <a:off x="250920" y="551664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>
            <a:hlinkClick r:id="rId4" action="ppaction://hlinksldjump"/>
          </p:cNvPr>
          <p:cNvSpPr/>
          <p:nvPr/>
        </p:nvSpPr>
        <p:spPr>
          <a:xfrm>
            <a:off x="250920" y="595008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3635280" y="0"/>
            <a:ext cx="5760360" cy="6858000"/>
            <a:chOff x="3635280" y="0"/>
            <a:chExt cx="5760360" cy="6858000"/>
          </a:xfrm>
        </p:grpSpPr>
        <p:grpSp>
          <p:nvGrpSpPr>
            <p:cNvPr id="846" name=""/>
            <p:cNvGrpSpPr/>
            <p:nvPr/>
          </p:nvGrpSpPr>
          <p:grpSpPr>
            <a:xfrm>
              <a:off x="3635280" y="0"/>
              <a:ext cx="5760360" cy="6858000"/>
              <a:chOff x="3635280" y="0"/>
              <a:chExt cx="5760360" cy="6858000"/>
            </a:xfrm>
          </p:grpSpPr>
          <p:pic>
            <p:nvPicPr>
              <p:cNvPr id="84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5280" y="0"/>
                <a:ext cx="5760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8" name=""/>
              <p:cNvSpPr/>
              <p:nvPr/>
            </p:nvSpPr>
            <p:spPr>
              <a:xfrm>
                <a:off x="4048200" y="333360"/>
                <a:ext cx="12873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746840" y="404640"/>
                <a:ext cx="6436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4691880" y="2565360"/>
              <a:ext cx="33778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0" y="4365720"/>
            <a:ext cx="37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851280" y="0"/>
            <a:ext cx="5113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Use median = (n+1) / 2 to establish in which row median 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692280"/>
            <a:ext cx="378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4  16  17  14  16  13  11 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6  14  13  18  15  10  14 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5  15  18  14  17  13  16 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4  13 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3851280" y="836640"/>
            <a:ext cx="5562360" cy="4267080"/>
            <a:chOff x="3851280" y="836640"/>
            <a:chExt cx="5562360" cy="4267080"/>
          </a:xfrm>
        </p:grpSpPr>
        <p:grpSp>
          <p:nvGrpSpPr>
            <p:cNvPr id="856" name=""/>
            <p:cNvGrpSpPr/>
            <p:nvPr/>
          </p:nvGrpSpPr>
          <p:grpSpPr>
            <a:xfrm>
              <a:off x="3851280" y="836640"/>
              <a:ext cx="5257800" cy="4267080"/>
              <a:chOff x="3851280" y="836640"/>
              <a:chExt cx="5257800" cy="4267080"/>
            </a:xfrm>
          </p:grpSpPr>
          <p:sp>
            <p:nvSpPr>
              <p:cNvPr id="857" name=""/>
              <p:cNvSpPr/>
              <p:nvPr/>
            </p:nvSpPr>
            <p:spPr>
              <a:xfrm>
                <a:off x="3851280" y="836640"/>
                <a:ext cx="5257800" cy="4267080"/>
              </a:xfrm>
              <a:prstGeom prst="rect">
                <a:avLst/>
              </a:prstGeom>
              <a:solidFill>
                <a:srgbClr val="66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6920" y="836640"/>
                <a:ext cx="0" cy="426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747120" y="836640"/>
                <a:ext cx="0" cy="426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851280" y="1446120"/>
                <a:ext cx="525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3927240" y="91296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k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Frequenc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Cum Frequ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4232160" y="1522440"/>
            <a:ext cx="53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11 12 13 14 15 16 17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680080" y="15224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680080" y="18273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680080" y="22082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680080" y="29703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651640" y="33577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680080" y="36561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80080" y="4037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680080" y="4417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680080" y="2589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-3960" y="3187800"/>
            <a:ext cx="3375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b) What is the median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918600" y="5157720"/>
            <a:ext cx="504216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30 values median is betw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15th &amp; 16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oth of which are in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row 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308720" y="2997360"/>
            <a:ext cx="863640" cy="43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433840" y="6021360"/>
            <a:ext cx="229464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Mark =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995640" y="2997360"/>
            <a:ext cx="863640" cy="43164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>
            <a:hlinkClick r:id="rId3" action="ppaction://hlinksldjump"/>
          </p:cNvPr>
          <p:cNvSpPr/>
          <p:nvPr/>
        </p:nvSpPr>
        <p:spPr>
          <a:xfrm>
            <a:off x="250920" y="551664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>
            <a:hlinkClick r:id="rId4" action="ppaction://hlinksldjump"/>
          </p:cNvPr>
          <p:cNvSpPr/>
          <p:nvPr/>
        </p:nvSpPr>
        <p:spPr>
          <a:xfrm>
            <a:off x="250920" y="595008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-2520" y="4076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825"/>
                            </p:stCondLst>
                            <p:childTnLst>
                              <p:par>
                                <p:cTn id="6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8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8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3635280" y="0"/>
            <a:ext cx="5760360" cy="6858000"/>
            <a:chOff x="3635280" y="0"/>
            <a:chExt cx="5760360" cy="6858000"/>
          </a:xfrm>
        </p:grpSpPr>
        <p:grpSp>
          <p:nvGrpSpPr>
            <p:cNvPr id="891" name=""/>
            <p:cNvGrpSpPr/>
            <p:nvPr/>
          </p:nvGrpSpPr>
          <p:grpSpPr>
            <a:xfrm>
              <a:off x="3635280" y="0"/>
              <a:ext cx="5760360" cy="6858000"/>
              <a:chOff x="3635280" y="0"/>
              <a:chExt cx="5760360" cy="6858000"/>
            </a:xfrm>
          </p:grpSpPr>
          <p:pic>
            <p:nvPicPr>
              <p:cNvPr id="8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5280" y="0"/>
                <a:ext cx="5760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3" name=""/>
              <p:cNvSpPr/>
              <p:nvPr/>
            </p:nvSpPr>
            <p:spPr>
              <a:xfrm>
                <a:off x="4048200" y="333360"/>
                <a:ext cx="12873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746840" y="404640"/>
                <a:ext cx="6436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>
              <a:off x="4691880" y="2565360"/>
              <a:ext cx="33778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0" y="4365720"/>
            <a:ext cx="37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0" y="692280"/>
            <a:ext cx="378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4  16  17  14  16  13  11 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6  14  13  18  15  10  14 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5  15  18  14  17  13  16 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4  13 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3851280" y="836640"/>
            <a:ext cx="5562360" cy="4267080"/>
            <a:chOff x="3851280" y="836640"/>
            <a:chExt cx="5562360" cy="4267080"/>
          </a:xfrm>
        </p:grpSpPr>
        <p:grpSp>
          <p:nvGrpSpPr>
            <p:cNvPr id="900" name=""/>
            <p:cNvGrpSpPr/>
            <p:nvPr/>
          </p:nvGrpSpPr>
          <p:grpSpPr>
            <a:xfrm>
              <a:off x="3851280" y="836640"/>
              <a:ext cx="5257800" cy="4267080"/>
              <a:chOff x="3851280" y="836640"/>
              <a:chExt cx="5257800" cy="4267080"/>
            </a:xfrm>
          </p:grpSpPr>
          <p:sp>
            <p:nvSpPr>
              <p:cNvPr id="901" name=""/>
              <p:cNvSpPr/>
              <p:nvPr/>
            </p:nvSpPr>
            <p:spPr>
              <a:xfrm>
                <a:off x="3851280" y="836640"/>
                <a:ext cx="5257800" cy="4267080"/>
              </a:xfrm>
              <a:prstGeom prst="rect">
                <a:avLst/>
              </a:prstGeom>
              <a:solidFill>
                <a:srgbClr val="66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146920" y="836640"/>
                <a:ext cx="0" cy="426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747120" y="836640"/>
                <a:ext cx="0" cy="426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851280" y="1446120"/>
                <a:ext cx="525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3927240" y="91296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k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Frequenc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Cum Frequ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4232160" y="1522440"/>
            <a:ext cx="53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11 12 13 14 15 16 17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680080" y="15224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680080" y="18273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680080" y="22082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680080" y="29703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651640" y="33577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680080" y="36561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680080" y="4037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680080" y="4417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680080" y="2589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308720" y="2565360"/>
            <a:ext cx="863640" cy="43200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308720" y="4437000"/>
            <a:ext cx="863640" cy="43200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0" y="29973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 What is the probability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upil selected at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red under 14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990960" y="5157720"/>
            <a:ext cx="420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of favourable ( under 14) 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993120" y="551664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of data = n =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851280" y="5877000"/>
            <a:ext cx="4800600" cy="510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c)  Prob(mark&lt;14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3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995640" y="26028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Use P = no of favourable / no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>
            <a:hlinkClick r:id="rId3" action="ppaction://hlinksldjump"/>
          </p:cNvPr>
          <p:cNvSpPr/>
          <p:nvPr/>
        </p:nvSpPr>
        <p:spPr>
          <a:xfrm>
            <a:off x="250920" y="595008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851280" y="1413000"/>
            <a:ext cx="1224000" cy="1728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-2520" y="4076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250"/>
                            </p:stCondLst>
                            <p:childTnLst>
                              <p:par>
                                <p:cTn id="68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75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325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80"/>
                            </p:stCondLst>
                            <p:childTnLst>
                              <p:par>
                                <p:cTn id="7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80"/>
                            </p:stCondLst>
                            <p:childTnLst>
                              <p:par>
                                <p:cTn id="7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60"/>
                            </p:stCondLst>
                            <p:childTnLst>
                              <p:par>
                                <p:cTn id="7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-5760" y="5553000"/>
            <a:ext cx="504216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30 values median is betw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th &amp; 16th  both of which are in row 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510560" y="6416640"/>
            <a:ext cx="163008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=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0" y="836640"/>
            <a:ext cx="4932360" cy="4267080"/>
            <a:chOff x="0" y="836640"/>
            <a:chExt cx="4932360" cy="4267080"/>
          </a:xfrm>
        </p:grpSpPr>
        <p:grpSp>
          <p:nvGrpSpPr>
            <p:cNvPr id="941" name=""/>
            <p:cNvGrpSpPr/>
            <p:nvPr/>
          </p:nvGrpSpPr>
          <p:grpSpPr>
            <a:xfrm>
              <a:off x="0" y="836640"/>
              <a:ext cx="4662000" cy="4267080"/>
              <a:chOff x="0" y="836640"/>
              <a:chExt cx="4662000" cy="4267080"/>
            </a:xfrm>
          </p:grpSpPr>
          <p:sp>
            <p:nvSpPr>
              <p:cNvPr id="942" name=""/>
              <p:cNvSpPr/>
              <p:nvPr/>
            </p:nvSpPr>
            <p:spPr>
              <a:xfrm>
                <a:off x="0" y="836640"/>
                <a:ext cx="4662000" cy="4267080"/>
              </a:xfrm>
              <a:prstGeom prst="rect">
                <a:avLst/>
              </a:prstGeom>
              <a:solidFill>
                <a:srgbClr val="66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148760" y="836640"/>
                <a:ext cx="0" cy="426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567520" y="836640"/>
                <a:ext cx="0" cy="426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1446120"/>
                <a:ext cx="466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>
              <a:off x="67320" y="912960"/>
              <a:ext cx="48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k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Freq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Cum Fre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343080" y="1557360"/>
            <a:ext cx="533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11 12 13 14 15 16 17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5440" y="2997360"/>
            <a:ext cx="863640" cy="43164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735200" y="155736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735200" y="186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735200" y="224316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735200" y="3005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735200" y="36910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735200" y="407196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735200" y="44528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735200" y="26240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421080" y="3032280"/>
            <a:ext cx="863640" cy="43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739880" y="3357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939920" y="620640"/>
            <a:ext cx="3097440" cy="105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edi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– 15 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 -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877080" y="1125360"/>
            <a:ext cx="0" cy="64800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437440" y="3846600"/>
            <a:ext cx="345888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the mark at which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mulative frequency fir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hes betwe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500720" y="3218040"/>
            <a:ext cx="1512720" cy="0"/>
          </a:xfrm>
          <a:prstGeom prst="line">
            <a:avLst/>
          </a:prstGeom>
          <a:ln w="5724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136560" y="299736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edian =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>
            <a:hlinkClick r:id="rId3" action="ppaction://hlinksldjump"/>
          </p:cNvPr>
          <p:cNvSpPr/>
          <p:nvPr/>
        </p:nvSpPr>
        <p:spPr>
          <a:xfrm>
            <a:off x="6372360" y="5950080"/>
            <a:ext cx="433080" cy="287280"/>
          </a:xfrm>
          <a:custGeom>
            <a:avLst/>
            <a:gdLst>
              <a:gd name="textAreaLeft" fmla="*/ 18360 w 433080"/>
              <a:gd name="textAreaRight" fmla="*/ 414720 w 433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49" h="21600">
                <a:moveTo>
                  <a:pt x="0" y="0"/>
                </a:moveTo>
                <a:lnTo>
                  <a:pt x="32549" y="0"/>
                </a:lnTo>
                <a:lnTo>
                  <a:pt x="32549" y="21600"/>
                </a:lnTo>
                <a:lnTo>
                  <a:pt x="0" y="21600"/>
                </a:lnTo>
                <a:close/>
              </a:path>
              <a:path fill="lightenLess" w="32549" h="21600">
                <a:moveTo>
                  <a:pt x="0" y="0"/>
                </a:moveTo>
                <a:lnTo>
                  <a:pt x="32549" y="0"/>
                </a:lnTo>
                <a:lnTo>
                  <a:pt x="31149" y="1400"/>
                </a:lnTo>
                <a:lnTo>
                  <a:pt x="1400" y="1400"/>
                </a:lnTo>
                <a:close/>
              </a:path>
              <a:path fill="darken" w="32549" h="21600">
                <a:moveTo>
                  <a:pt x="32549" y="0"/>
                </a:moveTo>
                <a:lnTo>
                  <a:pt x="32549" y="21600"/>
                </a:lnTo>
                <a:lnTo>
                  <a:pt x="31149" y="20200"/>
                </a:lnTo>
                <a:lnTo>
                  <a:pt x="31149" y="1400"/>
                </a:lnTo>
                <a:close/>
              </a:path>
              <a:path fill="darkenLess" w="32549" h="21600">
                <a:moveTo>
                  <a:pt x="32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9" y="20200"/>
                </a:lnTo>
                <a:close/>
              </a:path>
              <a:path fill="lighten" w="32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760"/>
                            </p:stCondLst>
                            <p:childTnLst>
                              <p:par>
                                <p:cTn id="7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12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0" y="836640"/>
            <a:ext cx="4932360" cy="4267080"/>
            <a:chOff x="0" y="836640"/>
            <a:chExt cx="4932360" cy="4267080"/>
          </a:xfrm>
        </p:grpSpPr>
        <p:grpSp>
          <p:nvGrpSpPr>
            <p:cNvPr id="974" name=""/>
            <p:cNvGrpSpPr/>
            <p:nvPr/>
          </p:nvGrpSpPr>
          <p:grpSpPr>
            <a:xfrm>
              <a:off x="0" y="836640"/>
              <a:ext cx="4662000" cy="4267080"/>
              <a:chOff x="0" y="836640"/>
              <a:chExt cx="4662000" cy="4267080"/>
            </a:xfrm>
          </p:grpSpPr>
          <p:sp>
            <p:nvSpPr>
              <p:cNvPr id="975" name=""/>
              <p:cNvSpPr/>
              <p:nvPr/>
            </p:nvSpPr>
            <p:spPr>
              <a:xfrm>
                <a:off x="0" y="836640"/>
                <a:ext cx="4662000" cy="4267080"/>
              </a:xfrm>
              <a:prstGeom prst="rect">
                <a:avLst/>
              </a:prstGeom>
              <a:solidFill>
                <a:srgbClr val="66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148760" y="836640"/>
                <a:ext cx="0" cy="426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567520" y="836640"/>
                <a:ext cx="0" cy="426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1446120"/>
                <a:ext cx="466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>
              <a:off x="67320" y="912960"/>
              <a:ext cx="48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k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Freq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Cum Fre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324000" y="1557360"/>
            <a:ext cx="533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11 12 13 14 15 16 17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492360" y="4437000"/>
            <a:ext cx="863640" cy="4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735200" y="155736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735200" y="1862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735200" y="224316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735200" y="3005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735200" y="36910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735200" y="407196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735200" y="44528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735200" y="26240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564000" y="2708280"/>
            <a:ext cx="863640" cy="43164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739880" y="3357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4600" y="5421240"/>
            <a:ext cx="420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of favourable ( under 14)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76760" y="578016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of data = n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4920" y="6140520"/>
            <a:ext cx="4537080" cy="510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c)  Prob(mark&lt;14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3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292360" y="1303200"/>
            <a:ext cx="1713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ability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719600" y="2174760"/>
            <a:ext cx="4518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favoura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possi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788000" y="2606760"/>
            <a:ext cx="435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856040" y="549360"/>
            <a:ext cx="419328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lculate simple probabi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>
            <a:hlinkClick r:id="rId3" action="ppaction://hlinksldjump"/>
          </p:cNvPr>
          <p:cNvSpPr/>
          <p:nvPr/>
        </p:nvSpPr>
        <p:spPr>
          <a:xfrm>
            <a:off x="6372360" y="5950080"/>
            <a:ext cx="433080" cy="287280"/>
          </a:xfrm>
          <a:custGeom>
            <a:avLst/>
            <a:gdLst>
              <a:gd name="textAreaLeft" fmla="*/ 18360 w 433080"/>
              <a:gd name="textAreaRight" fmla="*/ 414720 w 433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49" h="21600">
                <a:moveTo>
                  <a:pt x="0" y="0"/>
                </a:moveTo>
                <a:lnTo>
                  <a:pt x="32549" y="0"/>
                </a:lnTo>
                <a:lnTo>
                  <a:pt x="32549" y="21600"/>
                </a:lnTo>
                <a:lnTo>
                  <a:pt x="0" y="21600"/>
                </a:lnTo>
                <a:close/>
              </a:path>
              <a:path fill="lightenLess" w="32549" h="21600">
                <a:moveTo>
                  <a:pt x="0" y="0"/>
                </a:moveTo>
                <a:lnTo>
                  <a:pt x="32549" y="0"/>
                </a:lnTo>
                <a:lnTo>
                  <a:pt x="31149" y="1400"/>
                </a:lnTo>
                <a:lnTo>
                  <a:pt x="1400" y="1400"/>
                </a:lnTo>
                <a:close/>
              </a:path>
              <a:path fill="darken" w="32549" h="21600">
                <a:moveTo>
                  <a:pt x="32549" y="0"/>
                </a:moveTo>
                <a:lnTo>
                  <a:pt x="32549" y="21600"/>
                </a:lnTo>
                <a:lnTo>
                  <a:pt x="31149" y="20200"/>
                </a:lnTo>
                <a:lnTo>
                  <a:pt x="31149" y="1400"/>
                </a:lnTo>
                <a:close/>
              </a:path>
              <a:path fill="darkenLess" w="32549" h="21600">
                <a:moveTo>
                  <a:pt x="32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9" y="20200"/>
                </a:lnTo>
                <a:close/>
              </a:path>
              <a:path fill="lighten" w="32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9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80"/>
                                        <p:tgtEl>
                                          <p:spTgt spid="9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28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780"/>
                            </p:stCondLst>
                            <p:childTnLst>
                              <p:par>
                                <p:cTn id="7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0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2280"/>
                            </p:stCondLst>
                            <p:childTnLst>
                              <p:par>
                                <p:cTn id="8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79280" y="692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t plot below shows the number of matches per box in a sample of 23 box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979640" y="1268280"/>
            <a:ext cx="5780880" cy="2380320"/>
            <a:chOff x="1979640" y="1268280"/>
            <a:chExt cx="5780880" cy="2380320"/>
          </a:xfrm>
        </p:grpSpPr>
        <p:grpSp>
          <p:nvGrpSpPr>
            <p:cNvPr id="1008" name=""/>
            <p:cNvGrpSpPr/>
            <p:nvPr/>
          </p:nvGrpSpPr>
          <p:grpSpPr>
            <a:xfrm>
              <a:off x="1979640" y="3021120"/>
              <a:ext cx="5780880" cy="304560"/>
              <a:chOff x="1979640" y="3021120"/>
              <a:chExt cx="5780880" cy="304560"/>
            </a:xfrm>
          </p:grpSpPr>
          <p:sp>
            <p:nvSpPr>
              <p:cNvPr id="1009" name=""/>
              <p:cNvSpPr/>
              <p:nvPr/>
            </p:nvSpPr>
            <p:spPr>
              <a:xfrm>
                <a:off x="1979640" y="3173040"/>
                <a:ext cx="57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05992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46132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8630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2644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6552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0672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4686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8700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2718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6732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0746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4760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8774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2788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2782080" y="1268280"/>
              <a:ext cx="4175280" cy="1600200"/>
              <a:chOff x="2782080" y="1268280"/>
              <a:chExt cx="4175280" cy="1600200"/>
            </a:xfrm>
          </p:grpSpPr>
          <p:sp>
            <p:nvSpPr>
              <p:cNvPr id="1025" name=""/>
              <p:cNvSpPr/>
              <p:nvPr/>
            </p:nvSpPr>
            <p:spPr>
              <a:xfrm>
                <a:off x="2782080" y="2715840"/>
                <a:ext cx="16056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18348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58488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86280" y="2715840"/>
                <a:ext cx="16056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38804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78944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90840" y="2715840"/>
                <a:ext cx="16056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986280" y="210636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99400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584880" y="1268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79716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183480" y="2411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986280" y="241128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388040" y="2411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782080" y="241128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59260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584880" y="18014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584880" y="14968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82080" y="210636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584880" y="2411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183480" y="18014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584880" y="210636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183480" y="210636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8" name=""/>
            <p:cNvSpPr/>
            <p:nvPr/>
          </p:nvSpPr>
          <p:spPr>
            <a:xfrm>
              <a:off x="2621880" y="3249720"/>
              <a:ext cx="489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8        50        52        54        56        5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"/>
          <p:cNvSpPr/>
          <p:nvPr/>
        </p:nvSpPr>
        <p:spPr>
          <a:xfrm>
            <a:off x="250920" y="3716280"/>
            <a:ext cx="80010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d th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)  median  (ii)  lower quartile   (iii)  upper quar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ruct a boxplot using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a second sample the semi-interquartile range was 2.5.  How does this distribution compare to the above samp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175080" y="573408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177960" y="6381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495240" y="6426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>
            <a:hlinkClick r:id="" action="ppaction://hlinkshowjump?jump=nextslide"/>
          </p:cNvPr>
          <p:cNvSpPr/>
          <p:nvPr/>
        </p:nvSpPr>
        <p:spPr>
          <a:xfrm>
            <a:off x="395280" y="56610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259280" y="5661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78160" y="57340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>
            <a:hlinkClick r:id="rId2" action="ppaction://hlinksldjump"/>
          </p:cNvPr>
          <p:cNvSpPr/>
          <p:nvPr/>
        </p:nvSpPr>
        <p:spPr>
          <a:xfrm>
            <a:off x="277164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>
            <a:hlinkClick r:id="rId3" action="ppaction://hlinksldjump"/>
          </p:cNvPr>
          <p:cNvSpPr/>
          <p:nvPr/>
        </p:nvSpPr>
        <p:spPr>
          <a:xfrm>
            <a:off x="2771640" y="56610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>
            <a:hlinkClick r:id="rId4" action="ppaction://hlinksldjump"/>
          </p:cNvPr>
          <p:cNvSpPr/>
          <p:nvPr/>
        </p:nvSpPr>
        <p:spPr>
          <a:xfrm>
            <a:off x="558000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>
            <a:hlinkClick r:id="rId5" action="ppaction://hlinksldjump"/>
          </p:cNvPr>
          <p:cNvSpPr/>
          <p:nvPr/>
        </p:nvSpPr>
        <p:spPr>
          <a:xfrm>
            <a:off x="5580000" y="56610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4221000"/>
            <a:ext cx="86025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a)  Use this information to find th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(i) 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i) lower &amp; upper quar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ii) the semi-interquartil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5535720"/>
            <a:ext cx="860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probability that someone chosen at random earns   less than £180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72360" y="3213000"/>
            <a:ext cx="1871640" cy="9478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04000" y="3716280"/>
            <a:ext cx="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20640"/>
            <a:ext cx="8748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stem &amp; leaf diagram shows the distribution of wages for employees in a small factory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 =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  4  = £1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413000"/>
            <a:ext cx="0" cy="270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GRAPHS, CHARTS, TABLES : Question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270036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8488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538488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270036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75080" y="587700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7960" y="6381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8160" y="58770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50880" y="6426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3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67280" y="1268280"/>
            <a:ext cx="3457440" cy="1727280"/>
          </a:xfrm>
          <a:prstGeom prst="cloudCallout">
            <a:avLst>
              <a:gd name="adj1" fmla="val -7805"/>
              <a:gd name="adj2" fmla="val 11902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median position = (n+1) / 2 to find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46920" y="1125360"/>
            <a:ext cx="3097080" cy="2953080"/>
          </a:xfrm>
          <a:prstGeom prst="cloudCallout">
            <a:avLst>
              <a:gd name="adj1" fmla="val -28833"/>
              <a:gd name="adj2" fmla="val 7182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 is midpoint from start to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3 is midpoint from median to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8400" y="494172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79280" y="692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t plot below shows the number of matches per box in a sample of 23 box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1979640" y="1268280"/>
            <a:ext cx="5780880" cy="2380320"/>
            <a:chOff x="1979640" y="1268280"/>
            <a:chExt cx="5780880" cy="2380320"/>
          </a:xfrm>
        </p:grpSpPr>
        <p:grpSp>
          <p:nvGrpSpPr>
            <p:cNvPr id="1065" name=""/>
            <p:cNvGrpSpPr/>
            <p:nvPr/>
          </p:nvGrpSpPr>
          <p:grpSpPr>
            <a:xfrm>
              <a:off x="1979640" y="3021120"/>
              <a:ext cx="5780880" cy="304560"/>
              <a:chOff x="1979640" y="3021120"/>
              <a:chExt cx="5780880" cy="304560"/>
            </a:xfrm>
          </p:grpSpPr>
          <p:sp>
            <p:nvSpPr>
              <p:cNvPr id="1066" name=""/>
              <p:cNvSpPr/>
              <p:nvPr/>
            </p:nvSpPr>
            <p:spPr>
              <a:xfrm>
                <a:off x="1979640" y="3173040"/>
                <a:ext cx="57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05992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46132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8630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2644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66552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0672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4686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8700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2718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6732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0746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4760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8774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2788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2782080" y="1268280"/>
              <a:ext cx="4175280" cy="1600200"/>
              <a:chOff x="2782080" y="1268280"/>
              <a:chExt cx="4175280" cy="1600200"/>
            </a:xfrm>
          </p:grpSpPr>
          <p:sp>
            <p:nvSpPr>
              <p:cNvPr id="1082" name=""/>
              <p:cNvSpPr/>
              <p:nvPr/>
            </p:nvSpPr>
            <p:spPr>
              <a:xfrm>
                <a:off x="2782080" y="2715840"/>
                <a:ext cx="16056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18348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58488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986280" y="2715840"/>
                <a:ext cx="16056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38804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78944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190840" y="2715840"/>
                <a:ext cx="16056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986280" y="210636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99400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584880" y="1268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79716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183480" y="2411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986280" y="241128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388040" y="2411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782080" y="241128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59260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584880" y="18014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584880" y="14968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782080" y="210636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584880" y="2411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183480" y="18014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584880" y="210636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183480" y="210636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>
              <a:off x="2621880" y="3249720"/>
              <a:ext cx="489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8        50        52        54        56        5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250920" y="3716280"/>
            <a:ext cx="80010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d th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)  median  (ii)  lower quartile   (iii)  upper quar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ruct a boxplot using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a second sample the semi-interquartile range was 2.5.  How does this distribution compare to the above samp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5686560" y="1052640"/>
            <a:ext cx="3457440" cy="1726920"/>
          </a:xfrm>
          <a:prstGeom prst="cloudCallout">
            <a:avLst>
              <a:gd name="adj1" fmla="val -129569"/>
              <a:gd name="adj2" fmla="val 1048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median position = (n+1) / 2 to find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5759280" y="909720"/>
            <a:ext cx="3097440" cy="2952720"/>
          </a:xfrm>
          <a:prstGeom prst="cloudCallout">
            <a:avLst>
              <a:gd name="adj1" fmla="val -66250"/>
              <a:gd name="adj2" fmla="val 4693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 is midpoint from start to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3 is midpoint from median to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5724360" y="1341360"/>
            <a:ext cx="2951280" cy="3167280"/>
          </a:xfrm>
          <a:prstGeom prst="cloudCallout">
            <a:avLst>
              <a:gd name="adj1" fmla="val -60379"/>
              <a:gd name="adj2" fmla="val 56115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ember bigger SIQR means more variation (spread) in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>
            <a:hlinkClick r:id="" action="ppaction://hlinkshowjump?jump=nextslide"/>
          </p:cNvPr>
          <p:cNvSpPr/>
          <p:nvPr/>
        </p:nvSpPr>
        <p:spPr>
          <a:xfrm>
            <a:off x="2700360" y="6308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6175080" y="573408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177960" y="63086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495240" y="630864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78160" y="57340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>
            <a:hlinkClick r:id="rId2" action="ppaction://hlinksldjump"/>
          </p:cNvPr>
          <p:cNvSpPr/>
          <p:nvPr/>
        </p:nvSpPr>
        <p:spPr>
          <a:xfrm>
            <a:off x="270036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>
            <a:hlinkClick r:id="rId3" action="ppaction://hlinksldjump"/>
          </p:cNvPr>
          <p:cNvSpPr/>
          <p:nvPr/>
        </p:nvSpPr>
        <p:spPr>
          <a:xfrm>
            <a:off x="543564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>
            <a:hlinkClick r:id="rId4" action="ppaction://hlinksldjump"/>
          </p:cNvPr>
          <p:cNvSpPr/>
          <p:nvPr/>
        </p:nvSpPr>
        <p:spPr>
          <a:xfrm>
            <a:off x="5435640" y="63104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624760" y="530064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7" dur="500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8" dur="50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9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79280" y="692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t plot below shows the number of matches per box in a sample of 23 box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1979640" y="1268280"/>
            <a:ext cx="5780880" cy="2380320"/>
            <a:chOff x="1979640" y="1268280"/>
            <a:chExt cx="5780880" cy="2380320"/>
          </a:xfrm>
        </p:grpSpPr>
        <p:grpSp>
          <p:nvGrpSpPr>
            <p:cNvPr id="1124" name=""/>
            <p:cNvGrpSpPr/>
            <p:nvPr/>
          </p:nvGrpSpPr>
          <p:grpSpPr>
            <a:xfrm>
              <a:off x="1979640" y="3021120"/>
              <a:ext cx="5780880" cy="304560"/>
              <a:chOff x="1979640" y="3021120"/>
              <a:chExt cx="5780880" cy="304560"/>
            </a:xfrm>
          </p:grpSpPr>
          <p:sp>
            <p:nvSpPr>
              <p:cNvPr id="1125" name=""/>
              <p:cNvSpPr/>
              <p:nvPr/>
            </p:nvSpPr>
            <p:spPr>
              <a:xfrm>
                <a:off x="1979640" y="3173040"/>
                <a:ext cx="57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05992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46132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8630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2644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66552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0672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4686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87008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2718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6732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0746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4760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8774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278840" y="30211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2782080" y="1268280"/>
              <a:ext cx="4175280" cy="1600200"/>
              <a:chOff x="2782080" y="1268280"/>
              <a:chExt cx="4175280" cy="1600200"/>
            </a:xfrm>
          </p:grpSpPr>
          <p:sp>
            <p:nvSpPr>
              <p:cNvPr id="1141" name=""/>
              <p:cNvSpPr/>
              <p:nvPr/>
            </p:nvSpPr>
            <p:spPr>
              <a:xfrm>
                <a:off x="2782080" y="2715840"/>
                <a:ext cx="16056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18348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58488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986280" y="2715840"/>
                <a:ext cx="16056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38804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78944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190840" y="2715840"/>
                <a:ext cx="16056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986280" y="210636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99400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584880" y="1268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79716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183480" y="2411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986280" y="241128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388040" y="2411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782080" y="241128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592600" y="27158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584880" y="18014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584880" y="14968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782080" y="2106360"/>
                <a:ext cx="16056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584880" y="241128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183480" y="1801440"/>
                <a:ext cx="1602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584880" y="210636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183480" y="2106360"/>
                <a:ext cx="1602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2621880" y="3249720"/>
              <a:ext cx="489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8        50        52        54        56        5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250920" y="3716280"/>
            <a:ext cx="80010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d th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)  median  (ii)  lower quartile   (iii)  upper quar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ruct a boxplot using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a second sample the semi-interquartile range was 2.5.  How does this distribution compare to the above samp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227640" y="1125360"/>
            <a:ext cx="190512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6227640" y="1557360"/>
            <a:ext cx="190512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Q1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227640" y="2060640"/>
            <a:ext cx="190512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Q3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032120" y="5373720"/>
            <a:ext cx="7913520" cy="862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ata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istributed more widely than (or not as clustered a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bo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909440" y="6381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>
            <a:hlinkClick r:id="" action="ppaction://hlinkshowjump?jump=nextslide"/>
          </p:cNvPr>
          <p:cNvSpPr/>
          <p:nvPr/>
        </p:nvSpPr>
        <p:spPr>
          <a:xfrm>
            <a:off x="3060720" y="6308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820320" y="630864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6665040" y="63086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>
            <a:hlinkClick r:id="rId2" action="ppaction://hlinksldjump"/>
          </p:cNvPr>
          <p:cNvSpPr/>
          <p:nvPr/>
        </p:nvSpPr>
        <p:spPr>
          <a:xfrm>
            <a:off x="5435640" y="422100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>
            <a:hlinkClick r:id="rId3" action="ppaction://hlinksldjump"/>
          </p:cNvPr>
          <p:cNvSpPr/>
          <p:nvPr/>
        </p:nvSpPr>
        <p:spPr>
          <a:xfrm>
            <a:off x="1332000" y="63104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>
            <a:hlinkClick r:id="rId4" action="ppaction://hlinksldjump"/>
          </p:cNvPr>
          <p:cNvSpPr/>
          <p:nvPr/>
        </p:nvSpPr>
        <p:spPr>
          <a:xfrm>
            <a:off x="6012000" y="63104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5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80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3924360" y="0"/>
            <a:ext cx="5471280" cy="6858000"/>
            <a:chOff x="3924360" y="0"/>
            <a:chExt cx="5471280" cy="6858000"/>
          </a:xfrm>
        </p:grpSpPr>
        <p:grpSp>
          <p:nvGrpSpPr>
            <p:cNvPr id="1182" name=""/>
            <p:cNvGrpSpPr/>
            <p:nvPr/>
          </p:nvGrpSpPr>
          <p:grpSpPr>
            <a:xfrm>
              <a:off x="3924360" y="0"/>
              <a:ext cx="5471280" cy="6858000"/>
              <a:chOff x="3924360" y="0"/>
              <a:chExt cx="5471280" cy="6858000"/>
            </a:xfrm>
          </p:grpSpPr>
          <p:pic>
            <p:nvPicPr>
              <p:cNvPr id="11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24360" y="0"/>
                <a:ext cx="547128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4" name=""/>
              <p:cNvSpPr/>
              <p:nvPr/>
            </p:nvSpPr>
            <p:spPr>
              <a:xfrm>
                <a:off x="4316400" y="333360"/>
                <a:ext cx="12225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829640" y="404640"/>
                <a:ext cx="6112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>
              <a:off x="4928040" y="2565360"/>
              <a:ext cx="32083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0" y="4365720"/>
            <a:ext cx="37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0" y="620640"/>
            <a:ext cx="4211640" cy="2288520"/>
            <a:chOff x="0" y="620640"/>
            <a:chExt cx="4211640" cy="2288520"/>
          </a:xfrm>
        </p:grpSpPr>
        <p:grpSp>
          <p:nvGrpSpPr>
            <p:cNvPr id="1190" name=""/>
            <p:cNvGrpSpPr/>
            <p:nvPr/>
          </p:nvGrpSpPr>
          <p:grpSpPr>
            <a:xfrm>
              <a:off x="0" y="2373480"/>
              <a:ext cx="4211640" cy="304560"/>
              <a:chOff x="0" y="2373480"/>
              <a:chExt cx="4211640" cy="30456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2525400"/>
                <a:ext cx="421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50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43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93600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22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52100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813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105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39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690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98296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275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56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860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584640" y="620640"/>
              <a:ext cx="3041280" cy="1600200"/>
              <a:chOff x="584640" y="620640"/>
              <a:chExt cx="3041280" cy="1600200"/>
            </a:xfrm>
          </p:grpSpPr>
          <p:sp>
            <p:nvSpPr>
              <p:cNvPr id="1207" name=""/>
              <p:cNvSpPr/>
              <p:nvPr/>
            </p:nvSpPr>
            <p:spPr>
              <a:xfrm>
                <a:off x="584640" y="2068200"/>
                <a:ext cx="1170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7696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16964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461960" y="2068200"/>
                <a:ext cx="1170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75464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04696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339280" y="2068200"/>
                <a:ext cx="1170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461960" y="145872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92428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69640" y="620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50928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76960" y="1763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461960" y="176364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754640" y="1763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84640" y="176364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63196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169640" y="11538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169640" y="8492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84640" y="145872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169640" y="1763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876960" y="11538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1169640" y="145872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76960" y="145872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0" name=""/>
            <p:cNvSpPr/>
            <p:nvPr/>
          </p:nvSpPr>
          <p:spPr>
            <a:xfrm>
              <a:off x="467640" y="2602080"/>
              <a:ext cx="356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8        50        52        54        56        5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"/>
          <p:cNvSpPr/>
          <p:nvPr/>
        </p:nvSpPr>
        <p:spPr>
          <a:xfrm>
            <a:off x="-348840" y="2997360"/>
            <a:ext cx="4273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nd th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i)  med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ii)  lower quar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iii)  upper quar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211640" y="836640"/>
            <a:ext cx="493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)  Sample size = 2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 median position is 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e  (23+1)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788000" y="2349360"/>
            <a:ext cx="19047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539640" y="206064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39640" y="170028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539640" y="1412640"/>
            <a:ext cx="216000" cy="21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826920" y="206064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826920" y="170028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826920" y="1412640"/>
            <a:ext cx="216000" cy="21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826920" y="112536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1116000" y="198900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1116000" y="170028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1116000" y="1412640"/>
            <a:ext cx="216000" cy="21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1116000" y="112536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4246560" y="0"/>
            <a:ext cx="464652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median = (n+1) / 2 to find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246560" y="2852640"/>
            <a:ext cx="489744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here are 11 values before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= 12 - (11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246560" y="4581360"/>
            <a:ext cx="489744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here are 11 values after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= 12 + (11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356000" y="37162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Middle of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1 is position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788000" y="4149720"/>
            <a:ext cx="19047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Q1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489560" y="5445000"/>
            <a:ext cx="4475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i)  Middle of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1 is position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788000" y="6021360"/>
            <a:ext cx="19047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Q3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>
            <a:hlinkClick r:id="rId3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>
            <a:hlinkClick r:id="rId4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500"/>
                            </p:stCondLst>
                            <p:childTnLst>
                              <p:par>
                                <p:cTn id="8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000"/>
                            </p:stCondLst>
                            <p:childTnLst>
                              <p:par>
                                <p:cTn id="8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500"/>
                            </p:stCondLst>
                            <p:childTnLst>
                              <p:par>
                                <p:cTn id="9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30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5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400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0"/>
                            </p:stCondLst>
                            <p:childTnLst>
                              <p:par>
                                <p:cTn id="9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3924360" y="0"/>
            <a:ext cx="5471280" cy="6858000"/>
            <a:chOff x="3924360" y="0"/>
            <a:chExt cx="5471280" cy="6858000"/>
          </a:xfrm>
        </p:grpSpPr>
        <p:grpSp>
          <p:nvGrpSpPr>
            <p:cNvPr id="1265" name=""/>
            <p:cNvGrpSpPr/>
            <p:nvPr/>
          </p:nvGrpSpPr>
          <p:grpSpPr>
            <a:xfrm>
              <a:off x="3924360" y="0"/>
              <a:ext cx="5471280" cy="6858000"/>
              <a:chOff x="3924360" y="0"/>
              <a:chExt cx="5471280" cy="6858000"/>
            </a:xfrm>
          </p:grpSpPr>
          <p:pic>
            <p:nvPicPr>
              <p:cNvPr id="12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24360" y="0"/>
                <a:ext cx="547128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7" name=""/>
              <p:cNvSpPr/>
              <p:nvPr/>
            </p:nvSpPr>
            <p:spPr>
              <a:xfrm>
                <a:off x="4316400" y="333360"/>
                <a:ext cx="12225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829640" y="404640"/>
                <a:ext cx="6112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9" name=""/>
            <p:cNvSpPr/>
            <p:nvPr/>
          </p:nvSpPr>
          <p:spPr>
            <a:xfrm>
              <a:off x="4928040" y="2565360"/>
              <a:ext cx="32083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"/>
          <p:cNvSpPr/>
          <p:nvPr/>
        </p:nvSpPr>
        <p:spPr>
          <a:xfrm>
            <a:off x="0" y="4365720"/>
            <a:ext cx="37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0" y="620640"/>
            <a:ext cx="4211640" cy="2288520"/>
            <a:chOff x="0" y="620640"/>
            <a:chExt cx="4211640" cy="2288520"/>
          </a:xfrm>
        </p:grpSpPr>
        <p:grpSp>
          <p:nvGrpSpPr>
            <p:cNvPr id="1273" name=""/>
            <p:cNvGrpSpPr/>
            <p:nvPr/>
          </p:nvGrpSpPr>
          <p:grpSpPr>
            <a:xfrm>
              <a:off x="0" y="2373480"/>
              <a:ext cx="4211640" cy="304560"/>
              <a:chOff x="0" y="2373480"/>
              <a:chExt cx="4211640" cy="304560"/>
            </a:xfrm>
          </p:grpSpPr>
          <p:sp>
            <p:nvSpPr>
              <p:cNvPr id="1274" name=""/>
              <p:cNvSpPr/>
              <p:nvPr/>
            </p:nvSpPr>
            <p:spPr>
              <a:xfrm>
                <a:off x="0" y="2525400"/>
                <a:ext cx="421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50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3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93600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22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52100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813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2105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239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2690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98296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275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56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860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584640" y="620640"/>
              <a:ext cx="3041280" cy="1600200"/>
              <a:chOff x="584640" y="620640"/>
              <a:chExt cx="3041280" cy="1600200"/>
            </a:xfrm>
          </p:grpSpPr>
          <p:sp>
            <p:nvSpPr>
              <p:cNvPr id="1290" name=""/>
              <p:cNvSpPr/>
              <p:nvPr/>
            </p:nvSpPr>
            <p:spPr>
              <a:xfrm>
                <a:off x="584640" y="2068200"/>
                <a:ext cx="1170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7696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16964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461960" y="2068200"/>
                <a:ext cx="1170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75464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04696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339280" y="2068200"/>
                <a:ext cx="1170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461960" y="145872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92428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169640" y="620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50928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76960" y="1763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461960" y="176364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754640" y="1763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84640" y="176364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63196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169640" y="11538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169640" y="8492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84640" y="145872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169640" y="1763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876960" y="11538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169640" y="145872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876960" y="145872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467640" y="2602080"/>
              <a:ext cx="356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8        50        52        54        56        5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 flipV="1">
            <a:off x="539640" y="206064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539640" y="170028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539640" y="1412640"/>
            <a:ext cx="216000" cy="21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826920" y="206064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826920" y="170028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826920" y="1412640"/>
            <a:ext cx="216000" cy="21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826920" y="112536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1116000" y="198900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116000" y="170028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1116000" y="1412640"/>
            <a:ext cx="216000" cy="21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1116000" y="112536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-345960" y="3141720"/>
            <a:ext cx="4416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(b) Construct a boxplot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211640" y="189000"/>
            <a:ext cx="4897440" cy="1368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Draw number line with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sure you note highest &amp; lo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well as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3657600" y="3357720"/>
            <a:ext cx="5486400" cy="627120"/>
            <a:chOff x="3657600" y="3357720"/>
            <a:chExt cx="5486400" cy="627120"/>
          </a:xfrm>
        </p:grpSpPr>
        <p:grpSp>
          <p:nvGrpSpPr>
            <p:cNvPr id="1328" name=""/>
            <p:cNvGrpSpPr/>
            <p:nvPr/>
          </p:nvGrpSpPr>
          <p:grpSpPr>
            <a:xfrm>
              <a:off x="3657600" y="3357720"/>
              <a:ext cx="5486400" cy="304560"/>
              <a:chOff x="3657600" y="3357720"/>
              <a:chExt cx="5486400" cy="304560"/>
            </a:xfrm>
          </p:grpSpPr>
          <p:sp>
            <p:nvSpPr>
              <p:cNvPr id="1329" name=""/>
              <p:cNvSpPr/>
              <p:nvPr/>
            </p:nvSpPr>
            <p:spPr>
              <a:xfrm>
                <a:off x="3657600" y="3509640"/>
                <a:ext cx="5486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373392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11480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49604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87692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25780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63904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01992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40080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78204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16292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54380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92504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830592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8686800" y="3357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4" name=""/>
            <p:cNvSpPr/>
            <p:nvPr/>
          </p:nvSpPr>
          <p:spPr>
            <a:xfrm>
              <a:off x="4267080" y="3585960"/>
              <a:ext cx="46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8        50        52        54        56        5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"/>
          <p:cNvSpPr/>
          <p:nvPr/>
        </p:nvSpPr>
        <p:spPr>
          <a:xfrm>
            <a:off x="4140360" y="1700280"/>
            <a:ext cx="685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st = 48, Q1 = 49, Q2 = 5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3 = 52 &amp; Highest = 5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4500720" y="2852640"/>
            <a:ext cx="3809880" cy="304920"/>
            <a:chOff x="4500720" y="2852640"/>
            <a:chExt cx="3809880" cy="304920"/>
          </a:xfrm>
        </p:grpSpPr>
        <p:sp>
          <p:nvSpPr>
            <p:cNvPr id="1347" name=""/>
            <p:cNvSpPr/>
            <p:nvPr/>
          </p:nvSpPr>
          <p:spPr>
            <a:xfrm>
              <a:off x="4881600" y="2852640"/>
              <a:ext cx="1142640" cy="3049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4500720" y="3004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500720" y="2852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024600" y="3004920"/>
              <a:ext cx="228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310600" y="2852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262480" y="2852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3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>
            <a:hlinkClick r:id="rId3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>
            <a:hlinkClick r:id="rId4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3924360" y="0"/>
            <a:ext cx="5471280" cy="6858000"/>
            <a:chOff x="3924360" y="0"/>
            <a:chExt cx="5471280" cy="6858000"/>
          </a:xfrm>
        </p:grpSpPr>
        <p:grpSp>
          <p:nvGrpSpPr>
            <p:cNvPr id="1366" name=""/>
            <p:cNvGrpSpPr/>
            <p:nvPr/>
          </p:nvGrpSpPr>
          <p:grpSpPr>
            <a:xfrm>
              <a:off x="3924360" y="0"/>
              <a:ext cx="5471280" cy="6858000"/>
              <a:chOff x="3924360" y="0"/>
              <a:chExt cx="5471280" cy="6858000"/>
            </a:xfrm>
          </p:grpSpPr>
          <p:pic>
            <p:nvPicPr>
              <p:cNvPr id="13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24360" y="0"/>
                <a:ext cx="547128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8" name=""/>
              <p:cNvSpPr/>
              <p:nvPr/>
            </p:nvSpPr>
            <p:spPr>
              <a:xfrm>
                <a:off x="4316400" y="333360"/>
                <a:ext cx="12225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829640" y="404640"/>
                <a:ext cx="6112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0" name=""/>
            <p:cNvSpPr/>
            <p:nvPr/>
          </p:nvSpPr>
          <p:spPr>
            <a:xfrm>
              <a:off x="4928040" y="2565360"/>
              <a:ext cx="32083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0" y="4365720"/>
            <a:ext cx="37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0" y="620640"/>
            <a:ext cx="4211640" cy="2288520"/>
            <a:chOff x="0" y="620640"/>
            <a:chExt cx="4211640" cy="2288520"/>
          </a:xfrm>
        </p:grpSpPr>
        <p:grpSp>
          <p:nvGrpSpPr>
            <p:cNvPr id="1374" name=""/>
            <p:cNvGrpSpPr/>
            <p:nvPr/>
          </p:nvGrpSpPr>
          <p:grpSpPr>
            <a:xfrm>
              <a:off x="0" y="2373480"/>
              <a:ext cx="4211640" cy="304560"/>
              <a:chOff x="0" y="2373480"/>
              <a:chExt cx="4211640" cy="304560"/>
            </a:xfrm>
          </p:grpSpPr>
          <p:sp>
            <p:nvSpPr>
              <p:cNvPr id="1375" name=""/>
              <p:cNvSpPr/>
              <p:nvPr/>
            </p:nvSpPr>
            <p:spPr>
              <a:xfrm>
                <a:off x="0" y="2525400"/>
                <a:ext cx="421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350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43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93600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22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152100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1813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105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39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690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98296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3275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356832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860640" y="237348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584640" y="620640"/>
              <a:ext cx="3041280" cy="1600200"/>
              <a:chOff x="584640" y="620640"/>
              <a:chExt cx="3041280" cy="1600200"/>
            </a:xfrm>
          </p:grpSpPr>
          <p:sp>
            <p:nvSpPr>
              <p:cNvPr id="1391" name=""/>
              <p:cNvSpPr/>
              <p:nvPr/>
            </p:nvSpPr>
            <p:spPr>
              <a:xfrm>
                <a:off x="584640" y="2068200"/>
                <a:ext cx="1170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87696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116964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1461960" y="2068200"/>
                <a:ext cx="1170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175464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04696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339280" y="2068200"/>
                <a:ext cx="1170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1461960" y="145872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92428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1169640" y="620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350928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876960" y="1763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461960" y="176364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1754640" y="1763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84640" y="176364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2631960" y="20682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169640" y="11538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1169640" y="8492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84640" y="1458720"/>
                <a:ext cx="11700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1169640" y="176364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876960" y="1153800"/>
                <a:ext cx="116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169640" y="145872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876960" y="1458720"/>
                <a:ext cx="11664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4" name=""/>
            <p:cNvSpPr/>
            <p:nvPr/>
          </p:nvSpPr>
          <p:spPr>
            <a:xfrm>
              <a:off x="467640" y="2602080"/>
              <a:ext cx="356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8        50        52        54        56        5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5" name=""/>
          <p:cNvSpPr/>
          <p:nvPr/>
        </p:nvSpPr>
        <p:spPr>
          <a:xfrm flipV="1">
            <a:off x="539640" y="206064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539640" y="170028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539640" y="1412640"/>
            <a:ext cx="216000" cy="21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826920" y="206064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826920" y="170028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826920" y="1412640"/>
            <a:ext cx="216000" cy="21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826920" y="112536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1116000" y="198900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1116000" y="170028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1116000" y="1412640"/>
            <a:ext cx="216000" cy="21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1116000" y="1125360"/>
            <a:ext cx="216000" cy="21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211640" y="189000"/>
            <a:ext cx="4897440" cy="1008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Calculate SIQR then compare remember bigger SIQR means more variation (spread) in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-348120" y="2997360"/>
            <a:ext cx="47379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(c) In a second sampl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semi-interquartile range w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2.5.  How does this comp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284720" y="1413000"/>
            <a:ext cx="4859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bove sa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QR = (52 - 49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 =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284720" y="2708280"/>
            <a:ext cx="48592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sample where the SIQR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ata is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distributed more widely than (or not as clustered a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abo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>
            <a:hlinkClick r:id="rId3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>
            <a:hlinkClick r:id="rId4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282200" y="414972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5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442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0" y="1484280"/>
            <a:ext cx="493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)  Sample size = 2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 median position is 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e  (23+1)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76360" y="2924280"/>
            <a:ext cx="19047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4920" y="765000"/>
            <a:ext cx="464652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median = (n+1) / 2 to find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4920" y="3346560"/>
            <a:ext cx="468144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here are 11 values before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= 12 - (11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4920" y="5013360"/>
            <a:ext cx="468144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here are 11 values after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= 12 + (11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44360" y="414972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Middle of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1 is position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76360" y="4581360"/>
            <a:ext cx="19047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Q1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77920" y="5805360"/>
            <a:ext cx="4475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i)  Middle of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1 is position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76360" y="6381720"/>
            <a:ext cx="19047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Q3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217480" y="11588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 numbers in the li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34560" y="211608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 -  1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   13  - 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6578640" y="2009880"/>
            <a:ext cx="0" cy="72540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398640" y="281628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419440" y="3429000"/>
            <a:ext cx="340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 numbers on either s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272560" y="542880"/>
            <a:ext cx="1678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edi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>
            <a:hlinkClick r:id="rId3" action="ppaction://hlinksldjump"/>
          </p:cNvPr>
          <p:cNvSpPr/>
          <p:nvPr/>
        </p:nvSpPr>
        <p:spPr>
          <a:xfrm>
            <a:off x="6372360" y="602136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3" dur="80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4" dur="80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440"/>
                            </p:stCondLst>
                            <p:childTnLst>
                              <p:par>
                                <p:cTn id="10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8" dur="80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9" dur="80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0" dur="80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9" dur="80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0" dur="80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1" dur="80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820"/>
                            </p:stCondLst>
                            <p:childTnLst>
                              <p:par>
                                <p:cTn id="10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320"/>
                            </p:stCondLst>
                            <p:childTnLst>
                              <p:par>
                                <p:cTn id="10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466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0" y="1484280"/>
            <a:ext cx="493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)  Sample size = 2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 median position is 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e  (23+1)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76360" y="2924280"/>
            <a:ext cx="19047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34920" y="765000"/>
            <a:ext cx="464652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median = (n+1) / 2 to find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4920" y="3346560"/>
            <a:ext cx="468144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here are 11 values before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= 12 - (11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4920" y="5013360"/>
            <a:ext cx="468144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here are 11 values after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= 12 + (11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144360" y="414972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Middle of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1 is position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576360" y="4581360"/>
            <a:ext cx="19047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Q1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77920" y="5805360"/>
            <a:ext cx="4475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i)  Middle of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1 is position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576360" y="6381720"/>
            <a:ext cx="19047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Q3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271480" y="542880"/>
            <a:ext cx="1806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quarti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5445360" y="1504800"/>
            <a:ext cx="33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 -  5    6      7    -  11    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6516720" y="1341360"/>
            <a:ext cx="0" cy="72540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8249760" y="212076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336720" y="213516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7421400" y="2924280"/>
            <a:ext cx="0" cy="72540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459640" y="1341360"/>
            <a:ext cx="0" cy="72540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7241760" y="363204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006600" y="3116160"/>
            <a:ext cx="28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  -  17   18    19   - 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5365440" y="3103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370120" y="371628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580000" y="2936880"/>
            <a:ext cx="0" cy="725400"/>
          </a:xfrm>
          <a:prstGeom prst="line">
            <a:avLst/>
          </a:prstGeom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784400" y="4292640"/>
            <a:ext cx="46033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count through the list until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h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>
            <a:hlinkClick r:id="rId3" action="ppaction://hlinksldjump"/>
          </p:cNvPr>
          <p:cNvSpPr/>
          <p:nvPr/>
        </p:nvSpPr>
        <p:spPr>
          <a:xfrm>
            <a:off x="6372360" y="602136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8" dur="80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9" dur="80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80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80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0" y="981000"/>
            <a:ext cx="4643280" cy="1008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Calculate SIQR then compare remember bigger SIQR means more variation (spread) in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080" y="2205000"/>
            <a:ext cx="4606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bove sa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QR = (52 - 49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 =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080" y="3500280"/>
            <a:ext cx="460692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sample where the SIQR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ata is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distributed more widely than or not as clustered 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abo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784040" y="595440"/>
            <a:ext cx="4095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emi-interquartile range i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asure of the range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ddle” 5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3" name=""/>
          <p:cNvGrpSpPr/>
          <p:nvPr/>
        </p:nvGrpSpPr>
        <p:grpSpPr>
          <a:xfrm>
            <a:off x="5591880" y="1773360"/>
            <a:ext cx="2625480" cy="703800"/>
            <a:chOff x="5591880" y="1773360"/>
            <a:chExt cx="2625480" cy="703800"/>
          </a:xfrm>
        </p:grpSpPr>
        <p:sp>
          <p:nvSpPr>
            <p:cNvPr id="1504" name=""/>
            <p:cNvSpPr/>
            <p:nvPr/>
          </p:nvSpPr>
          <p:spPr>
            <a:xfrm>
              <a:off x="5591880" y="1892160"/>
              <a:ext cx="262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.I.R. 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(Q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  Q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5" name=""/>
            <p:cNvGrpSpPr/>
            <p:nvPr/>
          </p:nvGrpSpPr>
          <p:grpSpPr>
            <a:xfrm>
              <a:off x="6494400" y="1773360"/>
              <a:ext cx="431640" cy="703800"/>
              <a:chOff x="6494400" y="1773360"/>
              <a:chExt cx="431640" cy="703800"/>
            </a:xfrm>
          </p:grpSpPr>
          <p:sp>
            <p:nvSpPr>
              <p:cNvPr id="1506" name=""/>
              <p:cNvSpPr/>
              <p:nvPr/>
            </p:nvSpPr>
            <p:spPr>
              <a:xfrm>
                <a:off x="6537960" y="1773360"/>
                <a:ext cx="322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494400" y="21160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8" name=""/>
          <p:cNvSpPr/>
          <p:nvPr/>
        </p:nvSpPr>
        <p:spPr>
          <a:xfrm>
            <a:off x="5096160" y="4222800"/>
            <a:ext cx="38718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emb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when ask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data always cons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verage and spr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5144040" y="2637000"/>
            <a:ext cx="332172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easure of h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read-out and so h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stent” or “reliabl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ata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>
            <a:hlinkClick r:id="rId3" action="ppaction://hlinksldjump"/>
          </p:cNvPr>
          <p:cNvSpPr/>
          <p:nvPr/>
        </p:nvSpPr>
        <p:spPr>
          <a:xfrm>
            <a:off x="637236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0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8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80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79280" y="692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tem &amp; leaf diagram below shows the weight distribution of 26 people when they joined a slimming clu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24000" y="3789360"/>
            <a:ext cx="80010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d th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dian, lower &amp; upper quartiles for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 the data to construct a boxp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boxplot below shows the weight distribution for these people after several months.  Compare the two &amp; comment on the resul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1258920" y="1413000"/>
            <a:ext cx="4495320" cy="2533320"/>
            <a:chOff x="1258920" y="1413000"/>
            <a:chExt cx="4495320" cy="2533320"/>
          </a:xfrm>
        </p:grpSpPr>
        <p:grpSp>
          <p:nvGrpSpPr>
            <p:cNvPr id="1520" name=""/>
            <p:cNvGrpSpPr/>
            <p:nvPr/>
          </p:nvGrpSpPr>
          <p:grpSpPr>
            <a:xfrm>
              <a:off x="1258920" y="1413000"/>
              <a:ext cx="3200400" cy="2533320"/>
              <a:chOff x="1258920" y="1413000"/>
              <a:chExt cx="3200400" cy="2533320"/>
            </a:xfrm>
          </p:grpSpPr>
          <p:sp>
            <p:nvSpPr>
              <p:cNvPr id="1521" name=""/>
              <p:cNvSpPr/>
              <p:nvPr/>
            </p:nvSpPr>
            <p:spPr>
              <a:xfrm>
                <a:off x="1258920" y="1413000"/>
                <a:ext cx="3200400" cy="25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    0  2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7    1  3  5  7  7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8    2  2  2  5  6  6  8  9          9    4  4  6  9  9                    10  5  7  7                            11                                        12  1  1  3                              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9800" y="1488960"/>
                <a:ext cx="0" cy="20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3773520" y="2860560"/>
              <a:ext cx="1980720" cy="398880"/>
              <a:chOff x="3773520" y="2860560"/>
              <a:chExt cx="1980720" cy="398880"/>
            </a:xfrm>
          </p:grpSpPr>
          <p:sp>
            <p:nvSpPr>
              <p:cNvPr id="1524" name=""/>
              <p:cNvSpPr/>
              <p:nvPr/>
            </p:nvSpPr>
            <p:spPr>
              <a:xfrm>
                <a:off x="3773520" y="2860560"/>
                <a:ext cx="182844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5" name=""/>
              <p:cNvGrpSpPr/>
              <p:nvPr/>
            </p:nvGrpSpPr>
            <p:grpSpPr>
              <a:xfrm>
                <a:off x="3849480" y="2860560"/>
                <a:ext cx="1904760" cy="398880"/>
                <a:chOff x="3849480" y="2860560"/>
                <a:chExt cx="1904760" cy="398880"/>
              </a:xfrm>
            </p:grpSpPr>
            <p:sp>
              <p:nvSpPr>
                <p:cNvPr id="1526" name=""/>
                <p:cNvSpPr/>
                <p:nvPr/>
              </p:nvSpPr>
              <p:spPr>
                <a:xfrm>
                  <a:off x="3849480" y="2860560"/>
                  <a:ext cx="1904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1  4  =  114kg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4230360" y="28605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28" name=""/>
          <p:cNvGrpSpPr/>
          <p:nvPr/>
        </p:nvGrpSpPr>
        <p:grpSpPr>
          <a:xfrm>
            <a:off x="2484360" y="5516640"/>
            <a:ext cx="5638320" cy="1161000"/>
            <a:chOff x="2484360" y="5516640"/>
            <a:chExt cx="5638320" cy="1161000"/>
          </a:xfrm>
        </p:grpSpPr>
        <p:grpSp>
          <p:nvGrpSpPr>
            <p:cNvPr id="1529" name=""/>
            <p:cNvGrpSpPr/>
            <p:nvPr/>
          </p:nvGrpSpPr>
          <p:grpSpPr>
            <a:xfrm>
              <a:off x="2484360" y="6050160"/>
              <a:ext cx="5638320" cy="627480"/>
              <a:chOff x="2484360" y="6050160"/>
              <a:chExt cx="5638320" cy="627480"/>
            </a:xfrm>
          </p:grpSpPr>
          <p:grpSp>
            <p:nvGrpSpPr>
              <p:cNvPr id="1530" name=""/>
              <p:cNvGrpSpPr/>
              <p:nvPr/>
            </p:nvGrpSpPr>
            <p:grpSpPr>
              <a:xfrm>
                <a:off x="2636640" y="6050160"/>
                <a:ext cx="5486040" cy="304560"/>
                <a:chOff x="2636640" y="6050160"/>
                <a:chExt cx="5486040" cy="30456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2636640" y="6202080"/>
                  <a:ext cx="5486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2712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3093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3474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3855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4236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4617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998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5379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5760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6141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6522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6903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7284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7665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6" name=""/>
              <p:cNvSpPr/>
              <p:nvPr/>
            </p:nvSpPr>
            <p:spPr>
              <a:xfrm>
                <a:off x="2484360" y="6278760"/>
                <a:ext cx="5410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0        70        80        90       100       110     12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>
              <a:off x="3855960" y="5516640"/>
              <a:ext cx="1143000" cy="3049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3093480" y="56692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093840" y="5516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998960" y="5669280"/>
              <a:ext cx="1905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904080" y="5516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694040" y="5516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3" name=""/>
          <p:cNvSpPr/>
          <p:nvPr/>
        </p:nvSpPr>
        <p:spPr>
          <a:xfrm>
            <a:off x="7092360" y="25653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7120800" y="32846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7095600" y="184464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>
            <a:hlinkClick r:id="" action="ppaction://hlinkshowjump?jump=nextslide"/>
          </p:cNvPr>
          <p:cNvSpPr/>
          <p:nvPr/>
        </p:nvSpPr>
        <p:spPr>
          <a:xfrm>
            <a:off x="6300720" y="119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6949080" y="1197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>
            <a:hlinkClick r:id="rId2" action="ppaction://hlinksldjump"/>
          </p:cNvPr>
          <p:cNvSpPr/>
          <p:nvPr/>
        </p:nvSpPr>
        <p:spPr>
          <a:xfrm>
            <a:off x="6300720" y="1844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>
            <a:hlinkClick r:id="rId3" action="ppaction://hlinksldjump"/>
          </p:cNvPr>
          <p:cNvSpPr/>
          <p:nvPr/>
        </p:nvSpPr>
        <p:spPr>
          <a:xfrm>
            <a:off x="6300720" y="249228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>
            <a:hlinkClick r:id="rId4" action="ppaction://hlinksldjump"/>
          </p:cNvPr>
          <p:cNvSpPr/>
          <p:nvPr/>
        </p:nvSpPr>
        <p:spPr>
          <a:xfrm>
            <a:off x="6300720" y="32130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179280" y="692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tem &amp; leaf diagram below shows the weight distribution of 26 people when they joined a slimming clu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324000" y="3789360"/>
            <a:ext cx="80010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d th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dian, lower &amp; upper quartiles for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 the data to construct a boxp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boxplot below shows the weight distribution for these people after several months.  Compare the two &amp; comment on the resul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6" name=""/>
          <p:cNvGrpSpPr/>
          <p:nvPr/>
        </p:nvGrpSpPr>
        <p:grpSpPr>
          <a:xfrm>
            <a:off x="1258920" y="1413000"/>
            <a:ext cx="4495320" cy="2533320"/>
            <a:chOff x="1258920" y="1413000"/>
            <a:chExt cx="4495320" cy="2533320"/>
          </a:xfrm>
        </p:grpSpPr>
        <p:grpSp>
          <p:nvGrpSpPr>
            <p:cNvPr id="1567" name=""/>
            <p:cNvGrpSpPr/>
            <p:nvPr/>
          </p:nvGrpSpPr>
          <p:grpSpPr>
            <a:xfrm>
              <a:off x="1258920" y="1413000"/>
              <a:ext cx="3200400" cy="2533320"/>
              <a:chOff x="1258920" y="1413000"/>
              <a:chExt cx="3200400" cy="2533320"/>
            </a:xfrm>
          </p:grpSpPr>
          <p:sp>
            <p:nvSpPr>
              <p:cNvPr id="1568" name=""/>
              <p:cNvSpPr/>
              <p:nvPr/>
            </p:nvSpPr>
            <p:spPr>
              <a:xfrm>
                <a:off x="1258920" y="1413000"/>
                <a:ext cx="3200400" cy="25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    0  2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7    1  3  5  7  7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8    2  2  2  5  6  6  8  9          9    4  4  6  9  9                    10  5  7  7                            11                                        12  1  1  3                              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639800" y="1488960"/>
                <a:ext cx="0" cy="20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3773520" y="2860560"/>
              <a:ext cx="1980720" cy="398880"/>
              <a:chOff x="3773520" y="2860560"/>
              <a:chExt cx="1980720" cy="398880"/>
            </a:xfrm>
          </p:grpSpPr>
          <p:sp>
            <p:nvSpPr>
              <p:cNvPr id="1571" name=""/>
              <p:cNvSpPr/>
              <p:nvPr/>
            </p:nvSpPr>
            <p:spPr>
              <a:xfrm>
                <a:off x="3773520" y="2860560"/>
                <a:ext cx="182844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2" name=""/>
              <p:cNvGrpSpPr/>
              <p:nvPr/>
            </p:nvGrpSpPr>
            <p:grpSpPr>
              <a:xfrm>
                <a:off x="3849480" y="2860560"/>
                <a:ext cx="1904760" cy="398880"/>
                <a:chOff x="3849480" y="2860560"/>
                <a:chExt cx="1904760" cy="398880"/>
              </a:xfrm>
            </p:grpSpPr>
            <p:sp>
              <p:nvSpPr>
                <p:cNvPr id="1573" name=""/>
                <p:cNvSpPr/>
                <p:nvPr/>
              </p:nvSpPr>
              <p:spPr>
                <a:xfrm>
                  <a:off x="3849480" y="2860560"/>
                  <a:ext cx="1904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1  4  =  114kg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4230360" y="28605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75" name=""/>
          <p:cNvGrpSpPr/>
          <p:nvPr/>
        </p:nvGrpSpPr>
        <p:grpSpPr>
          <a:xfrm>
            <a:off x="2484360" y="5516640"/>
            <a:ext cx="5638320" cy="1161000"/>
            <a:chOff x="2484360" y="5516640"/>
            <a:chExt cx="5638320" cy="1161000"/>
          </a:xfrm>
        </p:grpSpPr>
        <p:grpSp>
          <p:nvGrpSpPr>
            <p:cNvPr id="1576" name=""/>
            <p:cNvGrpSpPr/>
            <p:nvPr/>
          </p:nvGrpSpPr>
          <p:grpSpPr>
            <a:xfrm>
              <a:off x="2484360" y="6050160"/>
              <a:ext cx="5638320" cy="627480"/>
              <a:chOff x="2484360" y="6050160"/>
              <a:chExt cx="5638320" cy="627480"/>
            </a:xfrm>
          </p:grpSpPr>
          <p:grpSp>
            <p:nvGrpSpPr>
              <p:cNvPr id="1577" name=""/>
              <p:cNvGrpSpPr/>
              <p:nvPr/>
            </p:nvGrpSpPr>
            <p:grpSpPr>
              <a:xfrm>
                <a:off x="2636640" y="6050160"/>
                <a:ext cx="5486040" cy="304560"/>
                <a:chOff x="2636640" y="6050160"/>
                <a:chExt cx="5486040" cy="304560"/>
              </a:xfrm>
            </p:grpSpPr>
            <p:sp>
              <p:nvSpPr>
                <p:cNvPr id="1578" name=""/>
                <p:cNvSpPr/>
                <p:nvPr/>
              </p:nvSpPr>
              <p:spPr>
                <a:xfrm>
                  <a:off x="2636640" y="6202080"/>
                  <a:ext cx="5486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2712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3093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3474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3855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4236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4617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4998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5379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5760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6141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6522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6903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7284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665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3" name=""/>
              <p:cNvSpPr/>
              <p:nvPr/>
            </p:nvSpPr>
            <p:spPr>
              <a:xfrm>
                <a:off x="2484360" y="6278760"/>
                <a:ext cx="5410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0        70        80        90       100       110     12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4" name=""/>
            <p:cNvSpPr/>
            <p:nvPr/>
          </p:nvSpPr>
          <p:spPr>
            <a:xfrm>
              <a:off x="3855960" y="5516640"/>
              <a:ext cx="1143000" cy="3049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3093480" y="56692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093840" y="5516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998960" y="5669280"/>
              <a:ext cx="1905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904080" y="5516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694040" y="5516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0" name=""/>
          <p:cNvSpPr/>
          <p:nvPr/>
        </p:nvSpPr>
        <p:spPr>
          <a:xfrm>
            <a:off x="2843280" y="981000"/>
            <a:ext cx="3457440" cy="1727280"/>
          </a:xfrm>
          <a:prstGeom prst="cloudCallout">
            <a:avLst>
              <a:gd name="adj1" fmla="val -47337"/>
              <a:gd name="adj2" fmla="val 109009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median position = (n+1) / 2 to find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916360" y="838080"/>
            <a:ext cx="3097080" cy="2952720"/>
          </a:xfrm>
          <a:prstGeom prst="cloudCallout">
            <a:avLst>
              <a:gd name="adj1" fmla="val 25550"/>
              <a:gd name="adj2" fmla="val 4935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1 is midpoint from start to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3 is midpoint from median to 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2881440" y="1270080"/>
            <a:ext cx="2950920" cy="3166920"/>
          </a:xfrm>
          <a:prstGeom prst="cloudCallout">
            <a:avLst>
              <a:gd name="adj1" fmla="val 35958"/>
              <a:gd name="adj2" fmla="val 5837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comparing two data sets comment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read and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7092360" y="25653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7120800" y="32846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7095600" y="184464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7032600" y="11970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>
            <a:hlinkClick r:id="rId2" action="ppaction://hlinksldjump"/>
          </p:cNvPr>
          <p:cNvSpPr/>
          <p:nvPr/>
        </p:nvSpPr>
        <p:spPr>
          <a:xfrm>
            <a:off x="6300720" y="119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>
            <a:hlinkClick r:id="" action="ppaction://hlinkshowjump?jump=nextslide"/>
          </p:cNvPr>
          <p:cNvSpPr/>
          <p:nvPr/>
        </p:nvSpPr>
        <p:spPr>
          <a:xfrm>
            <a:off x="6300720" y="1844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>
            <a:hlinkClick r:id="rId3" action="ppaction://hlinksldjump"/>
          </p:cNvPr>
          <p:cNvSpPr/>
          <p:nvPr/>
        </p:nvSpPr>
        <p:spPr>
          <a:xfrm>
            <a:off x="6300720" y="249228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>
            <a:hlinkClick r:id="rId4" action="ppaction://hlinksldjump"/>
          </p:cNvPr>
          <p:cNvSpPr/>
          <p:nvPr/>
        </p:nvSpPr>
        <p:spPr>
          <a:xfrm>
            <a:off x="6300720" y="32130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6804000" y="260280"/>
            <a:ext cx="15386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0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2" dur="500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3" dur="500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4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4221000"/>
            <a:ext cx="86025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a)  Use this information to find th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(i) 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i) lower &amp; upper quar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iii) the semi-interquartil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0" y="5535720"/>
            <a:ext cx="860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probability that someone chosen at random earns   less than £180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72360" y="3213000"/>
            <a:ext cx="1871640" cy="9478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3716280"/>
            <a:ext cx="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20640"/>
            <a:ext cx="8748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stem &amp; leaf diagram shows the distribution of wages for employees in a small factory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 =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  4  = £1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1413000"/>
            <a:ext cx="0" cy="270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GRAPHS, CHARTS, TABLES : Question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8488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8488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75080" y="587700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7960" y="6381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6381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8160" y="63817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42560" y="4195800"/>
            <a:ext cx="206748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 =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£1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39640" y="4556160"/>
            <a:ext cx="137700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1 = £1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39640" y="4987800"/>
            <a:ext cx="137700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3 = £1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5157720"/>
            <a:ext cx="108576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£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56000" y="5851440"/>
            <a:ext cx="82368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400" y="465300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8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2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62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12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79280" y="692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tem &amp; leaf diagram below shows the weight distribution of 26 people when they joined a slimming clu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24000" y="3789360"/>
            <a:ext cx="80010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d th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dian, lower &amp; upper quartiles for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 the data to construct a boxp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boxplot below shows the weight distribution for these people after several months.  Compare the two &amp; comment on the resul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1258920" y="1413000"/>
            <a:ext cx="4495320" cy="2533320"/>
            <a:chOff x="1258920" y="1413000"/>
            <a:chExt cx="4495320" cy="2533320"/>
          </a:xfrm>
        </p:grpSpPr>
        <p:grpSp>
          <p:nvGrpSpPr>
            <p:cNvPr id="1618" name=""/>
            <p:cNvGrpSpPr/>
            <p:nvPr/>
          </p:nvGrpSpPr>
          <p:grpSpPr>
            <a:xfrm>
              <a:off x="1258920" y="1413000"/>
              <a:ext cx="3200400" cy="2533320"/>
              <a:chOff x="1258920" y="1413000"/>
              <a:chExt cx="3200400" cy="2533320"/>
            </a:xfrm>
          </p:grpSpPr>
          <p:sp>
            <p:nvSpPr>
              <p:cNvPr id="1619" name=""/>
              <p:cNvSpPr/>
              <p:nvPr/>
            </p:nvSpPr>
            <p:spPr>
              <a:xfrm>
                <a:off x="1258920" y="1413000"/>
                <a:ext cx="3200400" cy="25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    0  2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7    1  3  5  7  7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 8    2  2  2  5  6  6  8  9          9    4  4  6  9  9                    10  5  7  7                            11                                        12  1  1  3                              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639800" y="1488960"/>
                <a:ext cx="0" cy="205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3773520" y="2860560"/>
              <a:ext cx="1980720" cy="398880"/>
              <a:chOff x="3773520" y="2860560"/>
              <a:chExt cx="1980720" cy="398880"/>
            </a:xfrm>
          </p:grpSpPr>
          <p:sp>
            <p:nvSpPr>
              <p:cNvPr id="1622" name=""/>
              <p:cNvSpPr/>
              <p:nvPr/>
            </p:nvSpPr>
            <p:spPr>
              <a:xfrm>
                <a:off x="3773520" y="2860560"/>
                <a:ext cx="1828440" cy="38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3" name=""/>
              <p:cNvGrpSpPr/>
              <p:nvPr/>
            </p:nvGrpSpPr>
            <p:grpSpPr>
              <a:xfrm>
                <a:off x="3849480" y="2860560"/>
                <a:ext cx="1904760" cy="398880"/>
                <a:chOff x="3849480" y="2860560"/>
                <a:chExt cx="1904760" cy="39888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3849480" y="2860560"/>
                  <a:ext cx="1904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1  4  =  114kg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4230360" y="28605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26" name=""/>
          <p:cNvGrpSpPr/>
          <p:nvPr/>
        </p:nvGrpSpPr>
        <p:grpSpPr>
          <a:xfrm>
            <a:off x="2484360" y="5516640"/>
            <a:ext cx="5638320" cy="1161000"/>
            <a:chOff x="2484360" y="5516640"/>
            <a:chExt cx="5638320" cy="1161000"/>
          </a:xfrm>
        </p:grpSpPr>
        <p:grpSp>
          <p:nvGrpSpPr>
            <p:cNvPr id="1627" name=""/>
            <p:cNvGrpSpPr/>
            <p:nvPr/>
          </p:nvGrpSpPr>
          <p:grpSpPr>
            <a:xfrm>
              <a:off x="2484360" y="6050160"/>
              <a:ext cx="5638320" cy="627480"/>
              <a:chOff x="2484360" y="6050160"/>
              <a:chExt cx="5638320" cy="627480"/>
            </a:xfrm>
          </p:grpSpPr>
          <p:grpSp>
            <p:nvGrpSpPr>
              <p:cNvPr id="1628" name=""/>
              <p:cNvGrpSpPr/>
              <p:nvPr/>
            </p:nvGrpSpPr>
            <p:grpSpPr>
              <a:xfrm>
                <a:off x="2636640" y="6050160"/>
                <a:ext cx="5486040" cy="304560"/>
                <a:chOff x="2636640" y="6050160"/>
                <a:chExt cx="5486040" cy="304560"/>
              </a:xfrm>
            </p:grpSpPr>
            <p:sp>
              <p:nvSpPr>
                <p:cNvPr id="1629" name=""/>
                <p:cNvSpPr/>
                <p:nvPr/>
              </p:nvSpPr>
              <p:spPr>
                <a:xfrm>
                  <a:off x="2636640" y="6202080"/>
                  <a:ext cx="5486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2712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3093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3474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3855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4236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4617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4998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5379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5760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6141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6522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690372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728460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7665480" y="60501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4" name=""/>
              <p:cNvSpPr/>
              <p:nvPr/>
            </p:nvSpPr>
            <p:spPr>
              <a:xfrm>
                <a:off x="2484360" y="6278760"/>
                <a:ext cx="5410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0        70        80        90       100       110     12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5" name=""/>
            <p:cNvSpPr/>
            <p:nvPr/>
          </p:nvSpPr>
          <p:spPr>
            <a:xfrm>
              <a:off x="3855960" y="5516640"/>
              <a:ext cx="1143000" cy="3049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3093480" y="56692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093840" y="5516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98960" y="5669280"/>
              <a:ext cx="1905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904080" y="5516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694040" y="5516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1" name=""/>
          <p:cNvSpPr/>
          <p:nvPr/>
        </p:nvSpPr>
        <p:spPr>
          <a:xfrm>
            <a:off x="3850920" y="1459080"/>
            <a:ext cx="178380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 =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3850560" y="1916280"/>
            <a:ext cx="109368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1 = 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3850560" y="2421000"/>
            <a:ext cx="109368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3 = 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>
            <a:hlinkClick r:id="" action="ppaction://hlinkshowjump?jump=nextslide"/>
          </p:cNvPr>
          <p:cNvSpPr/>
          <p:nvPr/>
        </p:nvSpPr>
        <p:spPr>
          <a:xfrm>
            <a:off x="6300720" y="2565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7092360" y="25653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7120800" y="32846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878520" y="18446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>
            <a:hlinkClick r:id="rId2" action="ppaction://hlinksldjump"/>
          </p:cNvPr>
          <p:cNvSpPr/>
          <p:nvPr/>
        </p:nvSpPr>
        <p:spPr>
          <a:xfrm>
            <a:off x="6300720" y="1844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>
            <a:hlinkClick r:id="rId3" action="ppaction://hlinksldjump"/>
          </p:cNvPr>
          <p:cNvSpPr/>
          <p:nvPr/>
        </p:nvSpPr>
        <p:spPr>
          <a:xfrm>
            <a:off x="6300720" y="321300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>
            <a:hlinkClick r:id="rId4" action="ppaction://hlinksldjump"/>
          </p:cNvPr>
          <p:cNvSpPr/>
          <p:nvPr/>
        </p:nvSpPr>
        <p:spPr>
          <a:xfrm>
            <a:off x="5724360" y="4292640"/>
            <a:ext cx="936720" cy="431640"/>
          </a:xfrm>
          <a:custGeom>
            <a:avLst/>
            <a:gdLst>
              <a:gd name="textAreaLeft" fmla="*/ 27720 w 936720"/>
              <a:gd name="textAreaRight" fmla="*/ 909000 w 936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854" h="21600">
                <a:moveTo>
                  <a:pt x="0" y="0"/>
                </a:moveTo>
                <a:lnTo>
                  <a:pt x="46854" y="0"/>
                </a:lnTo>
                <a:lnTo>
                  <a:pt x="46854" y="21600"/>
                </a:lnTo>
                <a:lnTo>
                  <a:pt x="0" y="21600"/>
                </a:lnTo>
                <a:close/>
              </a:path>
              <a:path fill="lightenLess" w="46854" h="21600">
                <a:moveTo>
                  <a:pt x="0" y="0"/>
                </a:moveTo>
                <a:lnTo>
                  <a:pt x="46854" y="0"/>
                </a:lnTo>
                <a:lnTo>
                  <a:pt x="45454" y="1400"/>
                </a:lnTo>
                <a:lnTo>
                  <a:pt x="1400" y="1400"/>
                </a:lnTo>
                <a:close/>
              </a:path>
              <a:path fill="darken" w="46854" h="21600">
                <a:moveTo>
                  <a:pt x="46854" y="0"/>
                </a:moveTo>
                <a:lnTo>
                  <a:pt x="46854" y="21600"/>
                </a:lnTo>
                <a:lnTo>
                  <a:pt x="45454" y="20200"/>
                </a:lnTo>
                <a:lnTo>
                  <a:pt x="45454" y="1400"/>
                </a:lnTo>
                <a:close/>
              </a:path>
              <a:path fill="darkenLess" w="46854" h="21600">
                <a:moveTo>
                  <a:pt x="46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454" y="20200"/>
                </a:lnTo>
                <a:close/>
              </a:path>
              <a:path fill="lighten" w="46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>
            <a:hlinkClick r:id="rId5" action="ppaction://hlinksldjump"/>
          </p:cNvPr>
          <p:cNvSpPr/>
          <p:nvPr/>
        </p:nvSpPr>
        <p:spPr>
          <a:xfrm>
            <a:off x="7956720" y="5516640"/>
            <a:ext cx="936360" cy="433440"/>
          </a:xfrm>
          <a:custGeom>
            <a:avLst/>
            <a:gdLst>
              <a:gd name="textAreaLeft" fmla="*/ 28080 w 936360"/>
              <a:gd name="textAreaRight" fmla="*/ 908280 w 93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6642" h="21600">
                <a:moveTo>
                  <a:pt x="0" y="0"/>
                </a:moveTo>
                <a:lnTo>
                  <a:pt x="46642" y="0"/>
                </a:lnTo>
                <a:lnTo>
                  <a:pt x="46642" y="21600"/>
                </a:lnTo>
                <a:lnTo>
                  <a:pt x="0" y="21600"/>
                </a:lnTo>
                <a:close/>
              </a:path>
              <a:path fill="lightenLess" w="46642" h="21600">
                <a:moveTo>
                  <a:pt x="0" y="0"/>
                </a:moveTo>
                <a:lnTo>
                  <a:pt x="46642" y="0"/>
                </a:lnTo>
                <a:lnTo>
                  <a:pt x="45242" y="1400"/>
                </a:lnTo>
                <a:lnTo>
                  <a:pt x="1400" y="1400"/>
                </a:lnTo>
                <a:close/>
              </a:path>
              <a:path fill="darken" w="46642" h="21600">
                <a:moveTo>
                  <a:pt x="46642" y="0"/>
                </a:moveTo>
                <a:lnTo>
                  <a:pt x="46642" y="21600"/>
                </a:lnTo>
                <a:lnTo>
                  <a:pt x="45242" y="20200"/>
                </a:lnTo>
                <a:lnTo>
                  <a:pt x="45242" y="1400"/>
                </a:lnTo>
                <a:close/>
              </a:path>
              <a:path fill="darkenLess" w="46642" h="21600">
                <a:moveTo>
                  <a:pt x="46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2" y="20200"/>
                </a:lnTo>
                <a:close/>
              </a:path>
              <a:path fill="lighten" w="46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0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667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6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9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1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2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median = (n+1) / 2 to find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3995640" y="1125360"/>
            <a:ext cx="6172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(i)  Since n = 26 then the media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ween 1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amp;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500720" y="19162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edian  = 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5435640" y="3284640"/>
            <a:ext cx="1504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3995640" y="328464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1 = 7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4067280" y="2421000"/>
            <a:ext cx="489744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here are 13 values before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is 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4067280" y="3860640"/>
            <a:ext cx="489744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here are 13 values after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is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5724360" y="4941720"/>
            <a:ext cx="15051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4356000" y="494172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3 = 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3" name=""/>
          <p:cNvGrpSpPr/>
          <p:nvPr/>
        </p:nvGrpSpPr>
        <p:grpSpPr>
          <a:xfrm>
            <a:off x="179280" y="476280"/>
            <a:ext cx="3200400" cy="2533320"/>
            <a:chOff x="179280" y="476280"/>
            <a:chExt cx="3200400" cy="2533320"/>
          </a:xfrm>
        </p:grpSpPr>
        <p:sp>
          <p:nvSpPr>
            <p:cNvPr id="1684" name=""/>
            <p:cNvSpPr/>
            <p:nvPr/>
          </p:nvSpPr>
          <p:spPr>
            <a:xfrm>
              <a:off x="179280" y="476280"/>
              <a:ext cx="320040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    0  2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7    1  3  5  7  7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8    2  2  2  5  6  6  8  9          9    4  4  6  9  9                    10  5  7  7                            11                                        12  1  1  3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60160" y="552240"/>
              <a:ext cx="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1908000" y="1989000"/>
            <a:ext cx="1981080" cy="398880"/>
            <a:chOff x="1908000" y="1989000"/>
            <a:chExt cx="1981080" cy="398880"/>
          </a:xfrm>
        </p:grpSpPr>
        <p:sp>
          <p:nvSpPr>
            <p:cNvPr id="1687" name=""/>
            <p:cNvSpPr/>
            <p:nvPr/>
          </p:nvSpPr>
          <p:spPr>
            <a:xfrm>
              <a:off x="1908000" y="1989000"/>
              <a:ext cx="18288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"/>
            <p:cNvGrpSpPr/>
            <p:nvPr/>
          </p:nvGrpSpPr>
          <p:grpSpPr>
            <a:xfrm>
              <a:off x="1984320" y="1989000"/>
              <a:ext cx="1904760" cy="398880"/>
              <a:chOff x="1984320" y="1989000"/>
              <a:chExt cx="1904760" cy="398880"/>
            </a:xfrm>
          </p:grpSpPr>
          <p:sp>
            <p:nvSpPr>
              <p:cNvPr id="1689" name=""/>
              <p:cNvSpPr/>
              <p:nvPr/>
            </p:nvSpPr>
            <p:spPr>
              <a:xfrm>
                <a:off x="1984320" y="1989000"/>
                <a:ext cx="190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  4  =  114k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365200" y="198900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1" name=""/>
          <p:cNvSpPr/>
          <p:nvPr/>
        </p:nvSpPr>
        <p:spPr>
          <a:xfrm>
            <a:off x="-347400" y="2997360"/>
            <a:ext cx="46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nd th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dian, lower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pper quartiles for thi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835280" y="1052640"/>
            <a:ext cx="50472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1258920" y="765000"/>
            <a:ext cx="433440" cy="360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1547640" y="1413000"/>
            <a:ext cx="433440" cy="360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>
            <a:hlinkClick r:id="rId3" action="ppaction://hlinksldjump"/>
          </p:cNvPr>
          <p:cNvSpPr/>
          <p:nvPr/>
        </p:nvSpPr>
        <p:spPr>
          <a:xfrm>
            <a:off x="250920" y="551664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>
            <a:hlinkClick r:id="rId4" action="ppaction://hlinksldjump"/>
          </p:cNvPr>
          <p:cNvSpPr/>
          <p:nvPr/>
        </p:nvSpPr>
        <p:spPr>
          <a:xfrm>
            <a:off x="250920" y="595008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500"/>
                            </p:stCondLst>
                            <p:childTnLst>
                              <p:par>
                                <p:cTn id="1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7" name=""/>
          <p:cNvGrpSpPr/>
          <p:nvPr/>
        </p:nvGrpSpPr>
        <p:grpSpPr>
          <a:xfrm>
            <a:off x="3708360" y="0"/>
            <a:ext cx="5687280" cy="6858000"/>
            <a:chOff x="3708360" y="0"/>
            <a:chExt cx="5687280" cy="6858000"/>
          </a:xfrm>
        </p:grpSpPr>
        <p:grpSp>
          <p:nvGrpSpPr>
            <p:cNvPr id="1708" name=""/>
            <p:cNvGrpSpPr/>
            <p:nvPr/>
          </p:nvGrpSpPr>
          <p:grpSpPr>
            <a:xfrm>
              <a:off x="3708360" y="0"/>
              <a:ext cx="5687280" cy="6858000"/>
              <a:chOff x="3708360" y="0"/>
              <a:chExt cx="5687280" cy="6858000"/>
            </a:xfrm>
          </p:grpSpPr>
          <p:pic>
            <p:nvPicPr>
              <p:cNvPr id="17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08360" y="0"/>
                <a:ext cx="568728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0" name=""/>
              <p:cNvSpPr/>
              <p:nvPr/>
            </p:nvSpPr>
            <p:spPr>
              <a:xfrm>
                <a:off x="4115880" y="333360"/>
                <a:ext cx="1270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767720" y="404640"/>
                <a:ext cx="6354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2" name=""/>
            <p:cNvSpPr/>
            <p:nvPr/>
          </p:nvSpPr>
          <p:spPr>
            <a:xfrm>
              <a:off x="4751640" y="2565360"/>
              <a:ext cx="333504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3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5" name=""/>
          <p:cNvGrpSpPr/>
          <p:nvPr/>
        </p:nvGrpSpPr>
        <p:grpSpPr>
          <a:xfrm>
            <a:off x="179280" y="476280"/>
            <a:ext cx="3200400" cy="2533320"/>
            <a:chOff x="179280" y="476280"/>
            <a:chExt cx="3200400" cy="2533320"/>
          </a:xfrm>
        </p:grpSpPr>
        <p:sp>
          <p:nvSpPr>
            <p:cNvPr id="1716" name=""/>
            <p:cNvSpPr/>
            <p:nvPr/>
          </p:nvSpPr>
          <p:spPr>
            <a:xfrm>
              <a:off x="179280" y="476280"/>
              <a:ext cx="320040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    0  2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7    1  3  5  7  7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8    2  2  2  5  6  6  8  9          9    4  4  6  9  9                    10  5  7  7                            11                                        12  1  1  3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60160" y="552240"/>
              <a:ext cx="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1908000" y="1989000"/>
            <a:ext cx="1981080" cy="398880"/>
            <a:chOff x="1908000" y="1989000"/>
            <a:chExt cx="1981080" cy="398880"/>
          </a:xfrm>
        </p:grpSpPr>
        <p:sp>
          <p:nvSpPr>
            <p:cNvPr id="1719" name=""/>
            <p:cNvSpPr/>
            <p:nvPr/>
          </p:nvSpPr>
          <p:spPr>
            <a:xfrm>
              <a:off x="1908000" y="1989000"/>
              <a:ext cx="18288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0" name=""/>
            <p:cNvGrpSpPr/>
            <p:nvPr/>
          </p:nvGrpSpPr>
          <p:grpSpPr>
            <a:xfrm>
              <a:off x="1984320" y="1989000"/>
              <a:ext cx="1904760" cy="398880"/>
              <a:chOff x="1984320" y="1989000"/>
              <a:chExt cx="1904760" cy="398880"/>
            </a:xfrm>
          </p:grpSpPr>
          <p:sp>
            <p:nvSpPr>
              <p:cNvPr id="1721" name=""/>
              <p:cNvSpPr/>
              <p:nvPr/>
            </p:nvSpPr>
            <p:spPr>
              <a:xfrm>
                <a:off x="1984320" y="1989000"/>
                <a:ext cx="190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  4  =  114k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365200" y="198900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3" name=""/>
          <p:cNvSpPr/>
          <p:nvPr/>
        </p:nvSpPr>
        <p:spPr>
          <a:xfrm>
            <a:off x="1835280" y="1052640"/>
            <a:ext cx="50472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1258920" y="765000"/>
            <a:ext cx="433440" cy="360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1547640" y="1413000"/>
            <a:ext cx="433440" cy="360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3995640" y="0"/>
            <a:ext cx="4897440" cy="1368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Draw number line with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sure you note highest &amp; lo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well as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4211640" y="1413000"/>
            <a:ext cx="493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st = 60, Q1 = 77, Q2 = 87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3 = 99 &amp; Highest = 12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8" name=""/>
          <p:cNvGrpSpPr/>
          <p:nvPr/>
        </p:nvGrpSpPr>
        <p:grpSpPr>
          <a:xfrm>
            <a:off x="3924360" y="3213000"/>
            <a:ext cx="5074920" cy="573840"/>
            <a:chOff x="3924360" y="3213000"/>
            <a:chExt cx="5074920" cy="573840"/>
          </a:xfrm>
        </p:grpSpPr>
        <p:grpSp>
          <p:nvGrpSpPr>
            <p:cNvPr id="1729" name=""/>
            <p:cNvGrpSpPr/>
            <p:nvPr/>
          </p:nvGrpSpPr>
          <p:grpSpPr>
            <a:xfrm>
              <a:off x="4061520" y="3213000"/>
              <a:ext cx="4937760" cy="273960"/>
              <a:chOff x="4061520" y="3213000"/>
              <a:chExt cx="4937760" cy="273960"/>
            </a:xfrm>
          </p:grpSpPr>
          <p:sp>
            <p:nvSpPr>
              <p:cNvPr id="1730" name=""/>
              <p:cNvSpPr/>
              <p:nvPr/>
            </p:nvSpPr>
            <p:spPr>
              <a:xfrm>
                <a:off x="4061520" y="3349800"/>
                <a:ext cx="493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12992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47300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1608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15880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50152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84460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18732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53040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87348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21620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55892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90200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824472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8587800" y="321300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5" name=""/>
            <p:cNvSpPr/>
            <p:nvPr/>
          </p:nvSpPr>
          <p:spPr>
            <a:xfrm>
              <a:off x="3924360" y="3418560"/>
              <a:ext cx="486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        70        80        90       100       110     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6" name=""/>
          <p:cNvGrpSpPr/>
          <p:nvPr/>
        </p:nvGrpSpPr>
        <p:grpSpPr>
          <a:xfrm>
            <a:off x="4152600" y="2755800"/>
            <a:ext cx="4321440" cy="274680"/>
            <a:chOff x="4152600" y="2755800"/>
            <a:chExt cx="4321440" cy="274680"/>
          </a:xfrm>
        </p:grpSpPr>
        <p:sp>
          <p:nvSpPr>
            <p:cNvPr id="1747" name=""/>
            <p:cNvSpPr/>
            <p:nvPr/>
          </p:nvSpPr>
          <p:spPr>
            <a:xfrm>
              <a:off x="5319000" y="2755800"/>
              <a:ext cx="1508400" cy="27468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>
              <a:off x="4152600" y="2893320"/>
              <a:ext cx="11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152960" y="275580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827760" y="2893320"/>
              <a:ext cx="1645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474040" y="275580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004800" y="275580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3" name=""/>
          <p:cNvSpPr/>
          <p:nvPr/>
        </p:nvSpPr>
        <p:spPr>
          <a:xfrm>
            <a:off x="-348120" y="2971800"/>
            <a:ext cx="439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(b) Use the data to constr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 boxp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>
            <a:hlinkClick r:id="rId3" action="ppaction://hlinksldjump"/>
          </p:cNvPr>
          <p:cNvSpPr/>
          <p:nvPr/>
        </p:nvSpPr>
        <p:spPr>
          <a:xfrm>
            <a:off x="250920" y="551664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>
            <a:hlinkClick r:id="rId4" action="ppaction://hlinksldjump"/>
          </p:cNvPr>
          <p:cNvSpPr/>
          <p:nvPr/>
        </p:nvSpPr>
        <p:spPr>
          <a:xfrm>
            <a:off x="250920" y="595008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0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6" name=""/>
          <p:cNvGrpSpPr/>
          <p:nvPr/>
        </p:nvGrpSpPr>
        <p:grpSpPr>
          <a:xfrm>
            <a:off x="3708360" y="0"/>
            <a:ext cx="5687280" cy="6858000"/>
            <a:chOff x="3708360" y="0"/>
            <a:chExt cx="5687280" cy="6858000"/>
          </a:xfrm>
        </p:grpSpPr>
        <p:grpSp>
          <p:nvGrpSpPr>
            <p:cNvPr id="1767" name=""/>
            <p:cNvGrpSpPr/>
            <p:nvPr/>
          </p:nvGrpSpPr>
          <p:grpSpPr>
            <a:xfrm>
              <a:off x="3708360" y="0"/>
              <a:ext cx="5687280" cy="6858000"/>
              <a:chOff x="3708360" y="0"/>
              <a:chExt cx="5687280" cy="6858000"/>
            </a:xfrm>
          </p:grpSpPr>
          <p:pic>
            <p:nvPicPr>
              <p:cNvPr id="17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08360" y="0"/>
                <a:ext cx="568728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115880" y="333360"/>
                <a:ext cx="1270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767720" y="404640"/>
                <a:ext cx="6354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1" name=""/>
            <p:cNvSpPr/>
            <p:nvPr/>
          </p:nvSpPr>
          <p:spPr>
            <a:xfrm>
              <a:off x="4751640" y="2565360"/>
              <a:ext cx="333504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2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3995640" y="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Comp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r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relevan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-347760" y="549360"/>
            <a:ext cx="44848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c) The boxplot below show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weight distribution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se people after seve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nth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re the two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ent on the result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6" name=""/>
          <p:cNvGrpSpPr/>
          <p:nvPr/>
        </p:nvGrpSpPr>
        <p:grpSpPr>
          <a:xfrm>
            <a:off x="0" y="3213000"/>
            <a:ext cx="3995280" cy="1069200"/>
            <a:chOff x="0" y="3213000"/>
            <a:chExt cx="3995280" cy="1069200"/>
          </a:xfrm>
        </p:grpSpPr>
        <p:grpSp>
          <p:nvGrpSpPr>
            <p:cNvPr id="1777" name=""/>
            <p:cNvGrpSpPr/>
            <p:nvPr/>
          </p:nvGrpSpPr>
          <p:grpSpPr>
            <a:xfrm>
              <a:off x="0" y="3746520"/>
              <a:ext cx="3995280" cy="535680"/>
              <a:chOff x="0" y="3746520"/>
              <a:chExt cx="3995280" cy="535680"/>
            </a:xfrm>
          </p:grpSpPr>
          <p:grpSp>
            <p:nvGrpSpPr>
              <p:cNvPr id="1778" name=""/>
              <p:cNvGrpSpPr/>
              <p:nvPr/>
            </p:nvGrpSpPr>
            <p:grpSpPr>
              <a:xfrm>
                <a:off x="108000" y="3746520"/>
                <a:ext cx="3887280" cy="304560"/>
                <a:chOff x="108000" y="3746520"/>
                <a:chExt cx="3887280" cy="30456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108000" y="3898440"/>
                  <a:ext cx="3887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16200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43164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70200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97164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124164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151164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178164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205164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232164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259164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286128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313164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340128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3671280" y="374652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4" name=""/>
              <p:cNvSpPr/>
              <p:nvPr/>
            </p:nvSpPr>
            <p:spPr>
              <a:xfrm>
                <a:off x="0" y="3975120"/>
                <a:ext cx="383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60        70        80        90       100       110     1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5" name=""/>
            <p:cNvSpPr/>
            <p:nvPr/>
          </p:nvSpPr>
          <p:spPr>
            <a:xfrm>
              <a:off x="971640" y="3213000"/>
              <a:ext cx="809640" cy="30492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431640" y="3365640"/>
              <a:ext cx="5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640" y="32130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781640" y="3365640"/>
              <a:ext cx="135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131640" y="32130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565640" y="32130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1" name=""/>
          <p:cNvSpPr/>
          <p:nvPr/>
        </p:nvSpPr>
        <p:spPr>
          <a:xfrm>
            <a:off x="4067280" y="907920"/>
            <a:ext cx="5076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est has put on weight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lowest now 6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viest 3 have lost weight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highest now 1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median sa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ut over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spread of weights has decrea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Q3-Q1 was 2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is now only 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>
            <a:hlinkClick r:id="rId3" action="ppaction://hlinksldjump"/>
          </p:cNvPr>
          <p:cNvSpPr/>
          <p:nvPr/>
        </p:nvSpPr>
        <p:spPr>
          <a:xfrm>
            <a:off x="250920" y="551664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>
            <a:hlinkClick r:id="rId4" action="ppaction://hlinksldjump"/>
          </p:cNvPr>
          <p:cNvSpPr/>
          <p:nvPr/>
        </p:nvSpPr>
        <p:spPr>
          <a:xfrm>
            <a:off x="250920" y="595008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4425120" y="501336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500"/>
                            </p:stCondLst>
                            <p:childTnLst>
                              <p:par>
                                <p:cTn id="1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3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3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1814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0" y="765000"/>
            <a:ext cx="4716360" cy="1368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Draw number line with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sure you note highest &amp; lo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well as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216000" y="2178000"/>
            <a:ext cx="493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st = 60, Q1 = 77, Q2 = 87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3 = 99 &amp; Highest = 12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8" name=""/>
          <p:cNvGrpSpPr/>
          <p:nvPr/>
        </p:nvGrpSpPr>
        <p:grpSpPr>
          <a:xfrm>
            <a:off x="-71280" y="3978360"/>
            <a:ext cx="5074560" cy="573840"/>
            <a:chOff x="-71280" y="3978360"/>
            <a:chExt cx="5074560" cy="573840"/>
          </a:xfrm>
        </p:grpSpPr>
        <p:grpSp>
          <p:nvGrpSpPr>
            <p:cNvPr id="1819" name=""/>
            <p:cNvGrpSpPr/>
            <p:nvPr/>
          </p:nvGrpSpPr>
          <p:grpSpPr>
            <a:xfrm>
              <a:off x="65880" y="3978360"/>
              <a:ext cx="4937400" cy="273960"/>
              <a:chOff x="65880" y="3978360"/>
              <a:chExt cx="4937400" cy="273960"/>
            </a:xfrm>
          </p:grpSpPr>
          <p:sp>
            <p:nvSpPr>
              <p:cNvPr id="1820" name=""/>
              <p:cNvSpPr/>
              <p:nvPr/>
            </p:nvSpPr>
            <p:spPr>
              <a:xfrm>
                <a:off x="65880" y="4115160"/>
                <a:ext cx="4937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3428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7700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82008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16316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150588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84896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219168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253440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287748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322020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356292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390600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24908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591800" y="3978360"/>
                <a:ext cx="0" cy="27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5" name=""/>
            <p:cNvSpPr/>
            <p:nvPr/>
          </p:nvSpPr>
          <p:spPr>
            <a:xfrm>
              <a:off x="-71280" y="4183920"/>
              <a:ext cx="486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        70        80        90       100       110     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6" name=""/>
          <p:cNvGrpSpPr/>
          <p:nvPr/>
        </p:nvGrpSpPr>
        <p:grpSpPr>
          <a:xfrm>
            <a:off x="156960" y="3521160"/>
            <a:ext cx="4321440" cy="274680"/>
            <a:chOff x="156960" y="3521160"/>
            <a:chExt cx="4321440" cy="274680"/>
          </a:xfrm>
        </p:grpSpPr>
        <p:sp>
          <p:nvSpPr>
            <p:cNvPr id="1837" name=""/>
            <p:cNvSpPr/>
            <p:nvPr/>
          </p:nvSpPr>
          <p:spPr>
            <a:xfrm>
              <a:off x="1323360" y="3521160"/>
              <a:ext cx="1508400" cy="27468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156960" y="3658680"/>
              <a:ext cx="11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57320" y="352116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832120" y="3658680"/>
              <a:ext cx="1645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478400" y="352116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009160" y="352116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3" name=""/>
          <p:cNvSpPr/>
          <p:nvPr/>
        </p:nvSpPr>
        <p:spPr>
          <a:xfrm>
            <a:off x="5076720" y="2205000"/>
            <a:ext cx="1368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x P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056200" y="304956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5056200" y="3136680"/>
            <a:ext cx="1171440" cy="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6227640" y="2820960"/>
            <a:ext cx="1584360" cy="64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7812000" y="3122640"/>
            <a:ext cx="792360" cy="1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8604360" y="299736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7399440" y="283356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829400" y="3470400"/>
            <a:ext cx="1058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o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8028360" y="34704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igh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6017760" y="347040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7200360" y="347040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7602120" y="347040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5054760" y="542880"/>
            <a:ext cx="36144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99"/>
                </a:solidFill>
                <a:latin typeface="Arial"/>
              </a:rPr>
              <a:t>Rememb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draw a boxplot you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“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five-figure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summary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5722200" y="4545000"/>
            <a:ext cx="26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five-figur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 flipH="1" flipV="1">
            <a:off x="5724360" y="3933360"/>
            <a:ext cx="935280" cy="57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 flipH="1" flipV="1">
            <a:off x="6300720" y="3933360"/>
            <a:ext cx="503280" cy="57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6877080" y="3860640"/>
            <a:ext cx="43164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 flipV="1">
            <a:off x="7020000" y="3860640"/>
            <a:ext cx="72072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7164360" y="3860640"/>
            <a:ext cx="115272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>
            <a:hlinkClick r:id="rId3" action="ppaction://hlinksldjump"/>
          </p:cNvPr>
          <p:cNvSpPr/>
          <p:nvPr/>
        </p:nvSpPr>
        <p:spPr>
          <a:xfrm>
            <a:off x="6372360" y="5950080"/>
            <a:ext cx="433080" cy="287280"/>
          </a:xfrm>
          <a:custGeom>
            <a:avLst/>
            <a:gdLst>
              <a:gd name="textAreaLeft" fmla="*/ 18360 w 433080"/>
              <a:gd name="textAreaRight" fmla="*/ 414720 w 433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49" h="21600">
                <a:moveTo>
                  <a:pt x="0" y="0"/>
                </a:moveTo>
                <a:lnTo>
                  <a:pt x="32549" y="0"/>
                </a:lnTo>
                <a:lnTo>
                  <a:pt x="32549" y="21600"/>
                </a:lnTo>
                <a:lnTo>
                  <a:pt x="0" y="21600"/>
                </a:lnTo>
                <a:close/>
              </a:path>
              <a:path fill="lightenLess" w="32549" h="21600">
                <a:moveTo>
                  <a:pt x="0" y="0"/>
                </a:moveTo>
                <a:lnTo>
                  <a:pt x="32549" y="0"/>
                </a:lnTo>
                <a:lnTo>
                  <a:pt x="31149" y="1400"/>
                </a:lnTo>
                <a:lnTo>
                  <a:pt x="1400" y="1400"/>
                </a:lnTo>
                <a:close/>
              </a:path>
              <a:path fill="darken" w="32549" h="21600">
                <a:moveTo>
                  <a:pt x="32549" y="0"/>
                </a:moveTo>
                <a:lnTo>
                  <a:pt x="32549" y="21600"/>
                </a:lnTo>
                <a:lnTo>
                  <a:pt x="31149" y="20200"/>
                </a:lnTo>
                <a:lnTo>
                  <a:pt x="31149" y="1400"/>
                </a:lnTo>
                <a:close/>
              </a:path>
              <a:path fill="darkenLess" w="32549" h="21600">
                <a:moveTo>
                  <a:pt x="32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9" y="20200"/>
                </a:lnTo>
                <a:close/>
              </a:path>
              <a:path fill="lighten" w="32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0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0" dur="80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1" dur="80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2" dur="80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2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9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10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9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1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9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9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9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250920" y="765000"/>
            <a:ext cx="8893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ie chart below shows the breakdown of how a sampl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ople spent their Saturday nigh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0" name=""/>
          <p:cNvGrpSpPr/>
          <p:nvPr/>
        </p:nvGrpSpPr>
        <p:grpSpPr>
          <a:xfrm>
            <a:off x="5181480" y="1341360"/>
            <a:ext cx="3962160" cy="3429000"/>
            <a:chOff x="5181480" y="1341360"/>
            <a:chExt cx="3962160" cy="3429000"/>
          </a:xfrm>
        </p:grpSpPr>
        <p:grpSp>
          <p:nvGrpSpPr>
            <p:cNvPr id="1871" name=""/>
            <p:cNvGrpSpPr/>
            <p:nvPr/>
          </p:nvGrpSpPr>
          <p:grpSpPr>
            <a:xfrm>
              <a:off x="5181480" y="1341360"/>
              <a:ext cx="3429000" cy="3429000"/>
              <a:chOff x="5181480" y="1341360"/>
              <a:chExt cx="3429000" cy="3429000"/>
            </a:xfrm>
          </p:grpSpPr>
          <p:sp>
            <p:nvSpPr>
              <p:cNvPr id="1872" name=""/>
              <p:cNvSpPr/>
              <p:nvPr/>
            </p:nvSpPr>
            <p:spPr>
              <a:xfrm>
                <a:off x="5181480" y="1341360"/>
                <a:ext cx="3429000" cy="342900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>
                <a:off x="5181480" y="2941560"/>
                <a:ext cx="167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857640" y="2941560"/>
                <a:ext cx="1600200" cy="83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V="1">
                <a:off x="6857640" y="2712600"/>
                <a:ext cx="16765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V="1">
                <a:off x="6857640" y="1417320"/>
                <a:ext cx="53352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7" name=""/>
            <p:cNvSpPr/>
            <p:nvPr/>
          </p:nvSpPr>
          <p:spPr>
            <a:xfrm>
              <a:off x="6095880" y="36273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ubb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400440" y="30178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4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314840" y="28652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696080" y="294156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a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238880" y="21034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in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562360" y="21034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atching T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3" name=""/>
          <p:cNvSpPr/>
          <p:nvPr/>
        </p:nvSpPr>
        <p:spPr>
          <a:xfrm>
            <a:off x="250920" y="2205000"/>
            <a:ext cx="4752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many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nt clubb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If 84 people went 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atre then how big is 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5670360" y="55897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5673240" y="623736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2774520" y="628164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>
            <a:hlinkClick r:id="" action="ppaction://hlinkshowjump?jump=nextslide"/>
          </p:cNvPr>
          <p:cNvSpPr/>
          <p:nvPr/>
        </p:nvSpPr>
        <p:spPr>
          <a:xfrm>
            <a:off x="1979640" y="472428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2843640" y="472428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2751120" y="55897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>
            <a:hlinkClick r:id="rId1"/>
          </p:cNvPr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>
            <a:hlinkClick r:id="rId2" action="ppaction://hlinksldjump"/>
          </p:cNvPr>
          <p:cNvSpPr/>
          <p:nvPr/>
        </p:nvSpPr>
        <p:spPr>
          <a:xfrm>
            <a:off x="1979640" y="551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>
            <a:hlinkClick r:id="rId3" action="ppaction://hlinksldjump"/>
          </p:cNvPr>
          <p:cNvSpPr/>
          <p:nvPr/>
        </p:nvSpPr>
        <p:spPr>
          <a:xfrm>
            <a:off x="197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>
            <a:hlinkClick r:id="rId4" action="ppaction://hlinksldjump"/>
          </p:cNvPr>
          <p:cNvSpPr/>
          <p:nvPr/>
        </p:nvSpPr>
        <p:spPr>
          <a:xfrm>
            <a:off x="507672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>
            <a:hlinkClick r:id="rId5" action="ppaction://hlinksldjump"/>
          </p:cNvPr>
          <p:cNvSpPr/>
          <p:nvPr/>
        </p:nvSpPr>
        <p:spPr>
          <a:xfrm>
            <a:off x="5076720" y="551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250920" y="765000"/>
            <a:ext cx="8893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ie chart below shows the breakdown of how a sampl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ople spent their Saturday nigh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8" name=""/>
          <p:cNvGrpSpPr/>
          <p:nvPr/>
        </p:nvGrpSpPr>
        <p:grpSpPr>
          <a:xfrm>
            <a:off x="5181480" y="1341360"/>
            <a:ext cx="3962160" cy="3429000"/>
            <a:chOff x="5181480" y="1341360"/>
            <a:chExt cx="3962160" cy="3429000"/>
          </a:xfrm>
        </p:grpSpPr>
        <p:grpSp>
          <p:nvGrpSpPr>
            <p:cNvPr id="1899" name=""/>
            <p:cNvGrpSpPr/>
            <p:nvPr/>
          </p:nvGrpSpPr>
          <p:grpSpPr>
            <a:xfrm>
              <a:off x="5181480" y="1341360"/>
              <a:ext cx="3429000" cy="3429000"/>
              <a:chOff x="5181480" y="1341360"/>
              <a:chExt cx="3429000" cy="3429000"/>
            </a:xfrm>
          </p:grpSpPr>
          <p:sp>
            <p:nvSpPr>
              <p:cNvPr id="1900" name=""/>
              <p:cNvSpPr/>
              <p:nvPr/>
            </p:nvSpPr>
            <p:spPr>
              <a:xfrm>
                <a:off x="5181480" y="1341360"/>
                <a:ext cx="3429000" cy="342900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>
                <a:off x="5181480" y="2941560"/>
                <a:ext cx="167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6857640" y="2941560"/>
                <a:ext cx="1600200" cy="83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V="1">
                <a:off x="6857640" y="2712600"/>
                <a:ext cx="16765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V="1">
                <a:off x="6857640" y="1417320"/>
                <a:ext cx="53352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5" name=""/>
            <p:cNvSpPr/>
            <p:nvPr/>
          </p:nvSpPr>
          <p:spPr>
            <a:xfrm>
              <a:off x="6095880" y="36273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ubb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400440" y="30178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4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314840" y="28652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696080" y="294156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a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238880" y="21034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in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562360" y="21034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atching T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1" name=""/>
          <p:cNvSpPr/>
          <p:nvPr/>
        </p:nvSpPr>
        <p:spPr>
          <a:xfrm>
            <a:off x="250920" y="2205000"/>
            <a:ext cx="4752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many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nt clubb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If 84 people went 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atre then how big is 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2" name=""/>
          <p:cNvGrpSpPr/>
          <p:nvPr/>
        </p:nvGrpSpPr>
        <p:grpSpPr>
          <a:xfrm>
            <a:off x="3132000" y="404640"/>
            <a:ext cx="3456000" cy="1727280"/>
            <a:chOff x="3132000" y="404640"/>
            <a:chExt cx="3456000" cy="1727280"/>
          </a:xfrm>
        </p:grpSpPr>
        <p:sp>
          <p:nvSpPr>
            <p:cNvPr id="1913" name=""/>
            <p:cNvSpPr/>
            <p:nvPr/>
          </p:nvSpPr>
          <p:spPr>
            <a:xfrm>
              <a:off x="3132000" y="404640"/>
              <a:ext cx="3456000" cy="1727280"/>
            </a:xfrm>
            <a:prstGeom prst="cloudCallout">
              <a:avLst>
                <a:gd name="adj1" fmla="val -45680"/>
                <a:gd name="adj2" fmla="val 10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4" name=""/>
            <p:cNvGrpSpPr/>
            <p:nvPr/>
          </p:nvGrpSpPr>
          <p:grpSpPr>
            <a:xfrm>
              <a:off x="3419280" y="836280"/>
              <a:ext cx="2743200" cy="840960"/>
              <a:chOff x="3419280" y="836280"/>
              <a:chExt cx="2743200" cy="840960"/>
            </a:xfrm>
          </p:grpSpPr>
          <p:grpSp>
            <p:nvGrpSpPr>
              <p:cNvPr id="1915" name=""/>
              <p:cNvGrpSpPr/>
              <p:nvPr/>
            </p:nvGrpSpPr>
            <p:grpSpPr>
              <a:xfrm>
                <a:off x="3419280" y="836280"/>
                <a:ext cx="2362320" cy="840960"/>
                <a:chOff x="3419280" y="836280"/>
                <a:chExt cx="2362320" cy="840960"/>
              </a:xfrm>
            </p:grpSpPr>
            <p:grpSp>
              <p:nvGrpSpPr>
                <p:cNvPr id="1916" name=""/>
                <p:cNvGrpSpPr/>
                <p:nvPr/>
              </p:nvGrpSpPr>
              <p:grpSpPr>
                <a:xfrm>
                  <a:off x="3419280" y="836280"/>
                  <a:ext cx="2362320" cy="840960"/>
                  <a:chOff x="3419280" y="836280"/>
                  <a:chExt cx="2362320" cy="840960"/>
                </a:xfrm>
              </p:grpSpPr>
              <p:sp>
                <p:nvSpPr>
                  <p:cNvPr id="1917" name=""/>
                  <p:cNvSpPr/>
                  <p:nvPr/>
                </p:nvSpPr>
                <p:spPr>
                  <a:xfrm>
                    <a:off x="3419280" y="836280"/>
                    <a:ext cx="2362320" cy="4597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 u="sng">
                        <a:solidFill>
                          <a:srgbClr val="ff3300"/>
                        </a:solidFill>
                        <a:uFillTx/>
                        <a:latin typeface="Times New Roman"/>
                      </a:rPr>
                      <a:t>angl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8" name=""/>
                  <p:cNvSpPr/>
                  <p:nvPr/>
                </p:nvSpPr>
                <p:spPr>
                  <a:xfrm>
                    <a:off x="3495600" y="1217520"/>
                    <a:ext cx="990360" cy="45972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60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°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9" name=""/>
                <p:cNvSpPr/>
                <p:nvPr/>
              </p:nvSpPr>
              <p:spPr>
                <a:xfrm>
                  <a:off x="4410000" y="988920"/>
                  <a:ext cx="685800" cy="459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0" name=""/>
              <p:cNvGrpSpPr/>
              <p:nvPr/>
            </p:nvGrpSpPr>
            <p:grpSpPr>
              <a:xfrm>
                <a:off x="4790880" y="836280"/>
                <a:ext cx="1371600" cy="840600"/>
                <a:chOff x="4790880" y="836280"/>
                <a:chExt cx="1371600" cy="840600"/>
              </a:xfrm>
            </p:grpSpPr>
            <p:sp>
              <p:nvSpPr>
                <p:cNvPr id="1921" name=""/>
                <p:cNvSpPr/>
                <p:nvPr/>
              </p:nvSpPr>
              <p:spPr>
                <a:xfrm>
                  <a:off x="4790880" y="836280"/>
                  <a:ext cx="1371600" cy="459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amoun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5019480" y="1217160"/>
                  <a:ext cx="914400" cy="45972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3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23" name=""/>
          <p:cNvSpPr/>
          <p:nvPr/>
        </p:nvSpPr>
        <p:spPr>
          <a:xfrm>
            <a:off x="3492360" y="12682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932360" y="126828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670360" y="55897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673240" y="623736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2774520" y="628164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al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2701800" y="55897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>
            <a:hlinkClick r:id="rId1" action="ppaction://hlinksldjump"/>
          </p:cNvPr>
          <p:cNvSpPr/>
          <p:nvPr/>
        </p:nvSpPr>
        <p:spPr>
          <a:xfrm>
            <a:off x="1979640" y="551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>
            <a:hlinkClick r:id="" action="ppaction://hlinkshowjump?jump=nextslide"/>
          </p:cNvPr>
          <p:cNvSpPr/>
          <p:nvPr/>
        </p:nvSpPr>
        <p:spPr>
          <a:xfrm>
            <a:off x="197964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>
            <a:hlinkClick r:id="rId2" action="ppaction://hlinksldjump"/>
          </p:cNvPr>
          <p:cNvSpPr/>
          <p:nvPr/>
        </p:nvSpPr>
        <p:spPr>
          <a:xfrm>
            <a:off x="507672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>
            <a:hlinkClick r:id="rId3" action="ppaction://hlinksldjump"/>
          </p:cNvPr>
          <p:cNvSpPr/>
          <p:nvPr/>
        </p:nvSpPr>
        <p:spPr>
          <a:xfrm>
            <a:off x="5076720" y="551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1905480" y="494172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0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6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"/>
          <p:cNvSpPr/>
          <p:nvPr/>
        </p:nvSpPr>
        <p:spPr>
          <a:xfrm>
            <a:off x="4572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harts, Graphs &amp; Tables : Question 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250920" y="765000"/>
            <a:ext cx="8893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ie chart below shows the breakdown of how a sampl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ople spent their Saturday nigh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8" name=""/>
          <p:cNvGrpSpPr/>
          <p:nvPr/>
        </p:nvGrpSpPr>
        <p:grpSpPr>
          <a:xfrm>
            <a:off x="5181480" y="1341360"/>
            <a:ext cx="3962160" cy="3429000"/>
            <a:chOff x="5181480" y="1341360"/>
            <a:chExt cx="3962160" cy="3429000"/>
          </a:xfrm>
        </p:grpSpPr>
        <p:grpSp>
          <p:nvGrpSpPr>
            <p:cNvPr id="1939" name=""/>
            <p:cNvGrpSpPr/>
            <p:nvPr/>
          </p:nvGrpSpPr>
          <p:grpSpPr>
            <a:xfrm>
              <a:off x="5181480" y="1341360"/>
              <a:ext cx="3429000" cy="3429000"/>
              <a:chOff x="5181480" y="1341360"/>
              <a:chExt cx="3429000" cy="3429000"/>
            </a:xfrm>
          </p:grpSpPr>
          <p:sp>
            <p:nvSpPr>
              <p:cNvPr id="1940" name=""/>
              <p:cNvSpPr/>
              <p:nvPr/>
            </p:nvSpPr>
            <p:spPr>
              <a:xfrm>
                <a:off x="5181480" y="1341360"/>
                <a:ext cx="3429000" cy="342900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H="1">
                <a:off x="5181480" y="2941560"/>
                <a:ext cx="167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857640" y="2941560"/>
                <a:ext cx="1600200" cy="83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V="1">
                <a:off x="6857640" y="2712600"/>
                <a:ext cx="16765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flipV="1">
                <a:off x="6857640" y="1417320"/>
                <a:ext cx="53352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5" name=""/>
            <p:cNvSpPr/>
            <p:nvPr/>
          </p:nvSpPr>
          <p:spPr>
            <a:xfrm>
              <a:off x="6095880" y="36273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ubb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400440" y="30178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4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314840" y="28652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696080" y="294156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a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238880" y="21034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in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562360" y="21034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atching T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1" name=""/>
          <p:cNvSpPr/>
          <p:nvPr/>
        </p:nvSpPr>
        <p:spPr>
          <a:xfrm>
            <a:off x="250920" y="2205000"/>
            <a:ext cx="4752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many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nt clubb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If 84 people went 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atre then how big is 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3348000" y="2349360"/>
            <a:ext cx="1295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2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3635280" y="4437000"/>
            <a:ext cx="12621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4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864072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10800" y="4825"/>
                </a:moveTo>
                <a:lnTo>
                  <a:pt x="13376" y="7436"/>
                </a:ln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lnTo>
                  <a:pt x="17763" y="11788"/>
                </a:lnTo>
                <a:lnTo>
                  <a:pt x="16109" y="11788"/>
                </a:lnTo>
                <a:lnTo>
                  <a:pt x="16109" y="18977"/>
                </a:lnTo>
                <a:lnTo>
                  <a:pt x="5491" y="18977"/>
                </a:lnTo>
                <a:lnTo>
                  <a:pt x="5491" y="11788"/>
                </a:lnTo>
                <a:lnTo>
                  <a:pt x="3837" y="11788"/>
                </a:lnTo>
                <a:close/>
              </a:path>
              <a:path fill="darkenLess" w="21600" h="23576">
                <a:moveTo>
                  <a:pt x="13376" y="7436"/>
                </a:moveTo>
                <a:lnTo>
                  <a:pt x="13376" y="5696"/>
                </a:lnTo>
                <a:lnTo>
                  <a:pt x="15152" y="5696"/>
                </a:lnTo>
                <a:lnTo>
                  <a:pt x="15152" y="9212"/>
                </a:lnTo>
                <a:close/>
              </a:path>
              <a:path fill="darkenLess" w="21600" h="23576">
                <a:moveTo>
                  <a:pt x="9877" y="15287"/>
                </a:moveTo>
                <a:lnTo>
                  <a:pt x="11723" y="15287"/>
                </a:lnTo>
                <a:lnTo>
                  <a:pt x="11723" y="18977"/>
                </a:lnTo>
                <a:lnTo>
                  <a:pt x="16109" y="18977"/>
                </a:lnTo>
                <a:lnTo>
                  <a:pt x="16109" y="11788"/>
                </a:lnTo>
                <a:lnTo>
                  <a:pt x="5491" y="11788"/>
                </a:lnTo>
                <a:lnTo>
                  <a:pt x="5491" y="18977"/>
                </a:lnTo>
                <a:lnTo>
                  <a:pt x="9877" y="189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5670360" y="55897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ful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5673240" y="623736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2557440" y="55897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s etc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>
            <a:hlinkClick r:id="rId1" action="ppaction://hlinksldjump"/>
          </p:cNvPr>
          <p:cNvSpPr/>
          <p:nvPr/>
        </p:nvSpPr>
        <p:spPr>
          <a:xfrm>
            <a:off x="1979640" y="551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>
            <a:hlinkClick r:id="rId2" action="ppaction://hlinksldjump"/>
          </p:cNvPr>
          <p:cNvSpPr/>
          <p:nvPr/>
        </p:nvSpPr>
        <p:spPr>
          <a:xfrm>
            <a:off x="507672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>
            <a:hlinkClick r:id="" action="ppaction://hlinkshowjump?jump=nextslide"/>
          </p:cNvPr>
          <p:cNvSpPr/>
          <p:nvPr/>
        </p:nvSpPr>
        <p:spPr>
          <a:xfrm>
            <a:off x="5076720" y="551664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1977120" y="501336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0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1" dur="5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5" name=""/>
          <p:cNvGrpSpPr/>
          <p:nvPr/>
        </p:nvGrpSpPr>
        <p:grpSpPr>
          <a:xfrm>
            <a:off x="3635280" y="0"/>
            <a:ext cx="5760360" cy="6858000"/>
            <a:chOff x="3635280" y="0"/>
            <a:chExt cx="5760360" cy="6858000"/>
          </a:xfrm>
        </p:grpSpPr>
        <p:grpSp>
          <p:nvGrpSpPr>
            <p:cNvPr id="1966" name=""/>
            <p:cNvGrpSpPr/>
            <p:nvPr/>
          </p:nvGrpSpPr>
          <p:grpSpPr>
            <a:xfrm>
              <a:off x="3635280" y="0"/>
              <a:ext cx="5760360" cy="6858000"/>
              <a:chOff x="3635280" y="0"/>
              <a:chExt cx="5760360" cy="6858000"/>
            </a:xfrm>
          </p:grpSpPr>
          <p:pic>
            <p:nvPicPr>
              <p:cNvPr id="19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5280" y="0"/>
                <a:ext cx="5760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8" name=""/>
              <p:cNvSpPr/>
              <p:nvPr/>
            </p:nvSpPr>
            <p:spPr>
              <a:xfrm>
                <a:off x="4048200" y="333360"/>
                <a:ext cx="12873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746840" y="404640"/>
                <a:ext cx="6436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0" name=""/>
            <p:cNvSpPr/>
            <p:nvPr/>
          </p:nvSpPr>
          <p:spPr>
            <a:xfrm>
              <a:off x="4691880" y="2565360"/>
              <a:ext cx="33778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0" y="4365720"/>
            <a:ext cx="37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3" name=""/>
          <p:cNvGrpSpPr/>
          <p:nvPr/>
        </p:nvGrpSpPr>
        <p:grpSpPr>
          <a:xfrm>
            <a:off x="250560" y="404640"/>
            <a:ext cx="3492360" cy="3022920"/>
            <a:chOff x="250560" y="404640"/>
            <a:chExt cx="3492360" cy="3022920"/>
          </a:xfrm>
        </p:grpSpPr>
        <p:grpSp>
          <p:nvGrpSpPr>
            <p:cNvPr id="1974" name=""/>
            <p:cNvGrpSpPr/>
            <p:nvPr/>
          </p:nvGrpSpPr>
          <p:grpSpPr>
            <a:xfrm>
              <a:off x="250560" y="404640"/>
              <a:ext cx="3022560" cy="3022920"/>
              <a:chOff x="250560" y="404640"/>
              <a:chExt cx="3022560" cy="3022920"/>
            </a:xfrm>
          </p:grpSpPr>
          <p:sp>
            <p:nvSpPr>
              <p:cNvPr id="1975" name=""/>
              <p:cNvSpPr/>
              <p:nvPr/>
            </p:nvSpPr>
            <p:spPr>
              <a:xfrm>
                <a:off x="250920" y="404640"/>
                <a:ext cx="3022200" cy="302292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H="1">
                <a:off x="250560" y="1815120"/>
                <a:ext cx="147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728000" y="1815120"/>
                <a:ext cx="1410120" cy="73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1728000" y="1613160"/>
                <a:ext cx="1477440" cy="20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1728000" y="471240"/>
                <a:ext cx="470160" cy="134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0" name=""/>
            <p:cNvSpPr/>
            <p:nvPr/>
          </p:nvSpPr>
          <p:spPr>
            <a:xfrm>
              <a:off x="1056600" y="2419920"/>
              <a:ext cx="93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ubb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325160" y="1882440"/>
              <a:ext cx="120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4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131200" y="174780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467080" y="1816560"/>
              <a:ext cx="127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a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064240" y="1076400"/>
              <a:ext cx="107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in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87880" y="1076400"/>
              <a:ext cx="14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atching T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6" name=""/>
          <p:cNvSpPr/>
          <p:nvPr/>
        </p:nvSpPr>
        <p:spPr>
          <a:xfrm>
            <a:off x="250920" y="350028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How many people w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clubb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Set up ratio of angles and sectors and cross 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6100920" y="4508640"/>
            <a:ext cx="6858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851280" y="1197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  The angle is 14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 so 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0" name=""/>
          <p:cNvGrpSpPr/>
          <p:nvPr/>
        </p:nvGrpSpPr>
        <p:grpSpPr>
          <a:xfrm>
            <a:off x="5146560" y="1654200"/>
            <a:ext cx="2743200" cy="840600"/>
            <a:chOff x="5146560" y="1654200"/>
            <a:chExt cx="2743200" cy="840600"/>
          </a:xfrm>
        </p:grpSpPr>
        <p:grpSp>
          <p:nvGrpSpPr>
            <p:cNvPr id="1991" name=""/>
            <p:cNvGrpSpPr/>
            <p:nvPr/>
          </p:nvGrpSpPr>
          <p:grpSpPr>
            <a:xfrm>
              <a:off x="5146560" y="1654200"/>
              <a:ext cx="2362320" cy="840600"/>
              <a:chOff x="5146560" y="1654200"/>
              <a:chExt cx="2362320" cy="840600"/>
            </a:xfrm>
          </p:grpSpPr>
          <p:grpSp>
            <p:nvGrpSpPr>
              <p:cNvPr id="1992" name=""/>
              <p:cNvGrpSpPr/>
              <p:nvPr/>
            </p:nvGrpSpPr>
            <p:grpSpPr>
              <a:xfrm>
                <a:off x="5146560" y="1654200"/>
                <a:ext cx="2362320" cy="840600"/>
                <a:chOff x="5146560" y="1654200"/>
                <a:chExt cx="2362320" cy="840600"/>
              </a:xfrm>
            </p:grpSpPr>
            <p:sp>
              <p:nvSpPr>
                <p:cNvPr id="1993" name=""/>
                <p:cNvSpPr/>
                <p:nvPr/>
              </p:nvSpPr>
              <p:spPr>
                <a:xfrm>
                  <a:off x="5146560" y="1654200"/>
                  <a:ext cx="2362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ff3300"/>
                      </a:solidFill>
                      <a:uFillTx/>
                      <a:latin typeface="Times New Roman"/>
                    </a:rPr>
                    <a:t>ang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5222880" y="2035080"/>
                  <a:ext cx="99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60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5" name=""/>
              <p:cNvSpPr/>
              <p:nvPr/>
            </p:nvSpPr>
            <p:spPr>
              <a:xfrm>
                <a:off x="6137280" y="18064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6518160" y="1654200"/>
              <a:ext cx="1371600" cy="840600"/>
              <a:chOff x="6518160" y="1654200"/>
              <a:chExt cx="1371600" cy="840600"/>
            </a:xfrm>
          </p:grpSpPr>
          <p:sp>
            <p:nvSpPr>
              <p:cNvPr id="1997" name=""/>
              <p:cNvSpPr/>
              <p:nvPr/>
            </p:nvSpPr>
            <p:spPr>
              <a:xfrm>
                <a:off x="6518160" y="16542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amou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6746760" y="20350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9" name=""/>
          <p:cNvGrpSpPr/>
          <p:nvPr/>
        </p:nvGrpSpPr>
        <p:grpSpPr>
          <a:xfrm>
            <a:off x="5070600" y="2492280"/>
            <a:ext cx="2743200" cy="840960"/>
            <a:chOff x="5070600" y="2492280"/>
            <a:chExt cx="2743200" cy="840960"/>
          </a:xfrm>
        </p:grpSpPr>
        <p:grpSp>
          <p:nvGrpSpPr>
            <p:cNvPr id="2000" name=""/>
            <p:cNvGrpSpPr/>
            <p:nvPr/>
          </p:nvGrpSpPr>
          <p:grpSpPr>
            <a:xfrm>
              <a:off x="5070600" y="2492280"/>
              <a:ext cx="2362320" cy="840960"/>
              <a:chOff x="5070600" y="2492280"/>
              <a:chExt cx="2362320" cy="840960"/>
            </a:xfrm>
          </p:grpSpPr>
          <p:grpSp>
            <p:nvGrpSpPr>
              <p:cNvPr id="2001" name=""/>
              <p:cNvGrpSpPr/>
              <p:nvPr/>
            </p:nvGrpSpPr>
            <p:grpSpPr>
              <a:xfrm>
                <a:off x="5070600" y="2492280"/>
                <a:ext cx="2362320" cy="840960"/>
                <a:chOff x="5070600" y="2492280"/>
                <a:chExt cx="2362320" cy="840960"/>
              </a:xfrm>
            </p:grpSpPr>
            <p:sp>
              <p:nvSpPr>
                <p:cNvPr id="2002" name=""/>
                <p:cNvSpPr/>
                <p:nvPr/>
              </p:nvSpPr>
              <p:spPr>
                <a:xfrm>
                  <a:off x="5070600" y="2492280"/>
                  <a:ext cx="2362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 </a:t>
                  </a: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144</a:t>
                  </a: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5146920" y="2873520"/>
                  <a:ext cx="99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60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4" name=""/>
              <p:cNvSpPr/>
              <p:nvPr/>
            </p:nvSpPr>
            <p:spPr>
              <a:xfrm>
                <a:off x="6061320" y="2644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5" name=""/>
            <p:cNvGrpSpPr/>
            <p:nvPr/>
          </p:nvGrpSpPr>
          <p:grpSpPr>
            <a:xfrm>
              <a:off x="6442200" y="2492280"/>
              <a:ext cx="1371600" cy="840600"/>
              <a:chOff x="6442200" y="2492280"/>
              <a:chExt cx="1371600" cy="840600"/>
            </a:xfrm>
          </p:grpSpPr>
          <p:sp>
            <p:nvSpPr>
              <p:cNvPr id="2006" name=""/>
              <p:cNvSpPr/>
              <p:nvPr/>
            </p:nvSpPr>
            <p:spPr>
              <a:xfrm>
                <a:off x="6442200" y="249228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amou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6670800" y="28731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8" name=""/>
          <p:cNvSpPr/>
          <p:nvPr/>
        </p:nvSpPr>
        <p:spPr>
          <a:xfrm>
            <a:off x="4613400" y="3330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0 x amount  =  144 x 6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4613400" y="3863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ount  =  144 x 63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5796000" y="4508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2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 flipV="1">
            <a:off x="5940360" y="2781360"/>
            <a:ext cx="503280" cy="2872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 flipH="1" flipV="1">
            <a:off x="5867280" y="2781360"/>
            <a:ext cx="649440" cy="2872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>
            <a:hlinkClick r:id="rId2" action="ppaction://hlinksldjump"/>
          </p:cNvPr>
          <p:cNvSpPr/>
          <p:nvPr/>
        </p:nvSpPr>
        <p:spPr>
          <a:xfrm>
            <a:off x="250920" y="551664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>
            <a:hlinkClick r:id="rId3" action="ppaction://hlinksldjump"/>
          </p:cNvPr>
          <p:cNvSpPr/>
          <p:nvPr/>
        </p:nvSpPr>
        <p:spPr>
          <a:xfrm>
            <a:off x="250920" y="595008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0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3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500"/>
                            </p:stCondLst>
                            <p:childTnLst>
                              <p:par>
                                <p:cTn id="1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5" name=""/>
          <p:cNvGrpSpPr/>
          <p:nvPr/>
        </p:nvGrpSpPr>
        <p:grpSpPr>
          <a:xfrm>
            <a:off x="3635280" y="0"/>
            <a:ext cx="5760360" cy="6858000"/>
            <a:chOff x="3635280" y="0"/>
            <a:chExt cx="5760360" cy="6858000"/>
          </a:xfrm>
        </p:grpSpPr>
        <p:grpSp>
          <p:nvGrpSpPr>
            <p:cNvPr id="2026" name=""/>
            <p:cNvGrpSpPr/>
            <p:nvPr/>
          </p:nvGrpSpPr>
          <p:grpSpPr>
            <a:xfrm>
              <a:off x="3635280" y="0"/>
              <a:ext cx="5760360" cy="6858000"/>
              <a:chOff x="3635280" y="0"/>
              <a:chExt cx="5760360" cy="6858000"/>
            </a:xfrm>
          </p:grpSpPr>
          <p:pic>
            <p:nvPicPr>
              <p:cNvPr id="20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5280" y="0"/>
                <a:ext cx="5760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8" name=""/>
              <p:cNvSpPr/>
              <p:nvPr/>
            </p:nvSpPr>
            <p:spPr>
              <a:xfrm>
                <a:off x="4048200" y="333360"/>
                <a:ext cx="12873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7746840" y="404640"/>
                <a:ext cx="6436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0" name=""/>
            <p:cNvSpPr/>
            <p:nvPr/>
          </p:nvSpPr>
          <p:spPr>
            <a:xfrm>
              <a:off x="4691880" y="2565360"/>
              <a:ext cx="33778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0" y="4365720"/>
            <a:ext cx="378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250560" y="404640"/>
            <a:ext cx="3492360" cy="3022920"/>
            <a:chOff x="250560" y="404640"/>
            <a:chExt cx="3492360" cy="3022920"/>
          </a:xfrm>
        </p:grpSpPr>
        <p:grpSp>
          <p:nvGrpSpPr>
            <p:cNvPr id="2034" name=""/>
            <p:cNvGrpSpPr/>
            <p:nvPr/>
          </p:nvGrpSpPr>
          <p:grpSpPr>
            <a:xfrm>
              <a:off x="250560" y="404640"/>
              <a:ext cx="3022560" cy="3022920"/>
              <a:chOff x="250560" y="404640"/>
              <a:chExt cx="3022560" cy="3022920"/>
            </a:xfrm>
          </p:grpSpPr>
          <p:sp>
            <p:nvSpPr>
              <p:cNvPr id="2035" name=""/>
              <p:cNvSpPr/>
              <p:nvPr/>
            </p:nvSpPr>
            <p:spPr>
              <a:xfrm>
                <a:off x="250920" y="404640"/>
                <a:ext cx="3022200" cy="302292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>
                <a:off x="250560" y="1815120"/>
                <a:ext cx="147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728000" y="1815120"/>
                <a:ext cx="1410120" cy="73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flipV="1">
                <a:off x="1728000" y="1613160"/>
                <a:ext cx="1477440" cy="20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flipV="1">
                <a:off x="1728000" y="471240"/>
                <a:ext cx="470160" cy="134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0" name=""/>
            <p:cNvSpPr/>
            <p:nvPr/>
          </p:nvSpPr>
          <p:spPr>
            <a:xfrm>
              <a:off x="1056600" y="2419920"/>
              <a:ext cx="93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ubb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325160" y="1882440"/>
              <a:ext cx="120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4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131200" y="174780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467080" y="1816560"/>
              <a:ext cx="127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a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064240" y="1076400"/>
              <a:ext cx="107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in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87880" y="1076400"/>
              <a:ext cx="14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atching T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6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Set up ratio of angles and sectors and cross 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 flipV="1">
            <a:off x="6084720" y="2637000"/>
            <a:ext cx="792360" cy="3585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 flipH="1" flipV="1">
            <a:off x="6084720" y="2637000"/>
            <a:ext cx="649440" cy="2872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3924360" y="11253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 The amount is 8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o 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5219640" y="1582560"/>
            <a:ext cx="2743200" cy="840960"/>
            <a:chOff x="5219640" y="1582560"/>
            <a:chExt cx="2743200" cy="840960"/>
          </a:xfrm>
        </p:grpSpPr>
        <p:grpSp>
          <p:nvGrpSpPr>
            <p:cNvPr id="2051" name=""/>
            <p:cNvGrpSpPr/>
            <p:nvPr/>
          </p:nvGrpSpPr>
          <p:grpSpPr>
            <a:xfrm>
              <a:off x="5219640" y="1582560"/>
              <a:ext cx="2362320" cy="840960"/>
              <a:chOff x="5219640" y="1582560"/>
              <a:chExt cx="2362320" cy="840960"/>
            </a:xfrm>
          </p:grpSpPr>
          <p:grpSp>
            <p:nvGrpSpPr>
              <p:cNvPr id="2052" name=""/>
              <p:cNvGrpSpPr/>
              <p:nvPr/>
            </p:nvGrpSpPr>
            <p:grpSpPr>
              <a:xfrm>
                <a:off x="5219640" y="1582560"/>
                <a:ext cx="2362320" cy="840960"/>
                <a:chOff x="5219640" y="1582560"/>
                <a:chExt cx="2362320" cy="840960"/>
              </a:xfrm>
            </p:grpSpPr>
            <p:sp>
              <p:nvSpPr>
                <p:cNvPr id="2053" name=""/>
                <p:cNvSpPr/>
                <p:nvPr/>
              </p:nvSpPr>
              <p:spPr>
                <a:xfrm>
                  <a:off x="5219640" y="1582560"/>
                  <a:ext cx="2362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ang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5295960" y="1963800"/>
                  <a:ext cx="99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60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5" name=""/>
              <p:cNvSpPr/>
              <p:nvPr/>
            </p:nvSpPr>
            <p:spPr>
              <a:xfrm>
                <a:off x="6210360" y="1735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6" name=""/>
            <p:cNvGrpSpPr/>
            <p:nvPr/>
          </p:nvGrpSpPr>
          <p:grpSpPr>
            <a:xfrm>
              <a:off x="6591240" y="1582560"/>
              <a:ext cx="1371600" cy="840600"/>
              <a:chOff x="6591240" y="1582560"/>
              <a:chExt cx="1371600" cy="840600"/>
            </a:xfrm>
          </p:grpSpPr>
          <p:sp>
            <p:nvSpPr>
              <p:cNvPr id="2057" name=""/>
              <p:cNvSpPr/>
              <p:nvPr/>
            </p:nvSpPr>
            <p:spPr>
              <a:xfrm>
                <a:off x="6591240" y="15825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3300"/>
                    </a:solidFill>
                    <a:uFillTx/>
                    <a:latin typeface="Times New Roman"/>
                  </a:rPr>
                  <a:t>amou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6819840" y="19634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9" name=""/>
          <p:cNvGrpSpPr/>
          <p:nvPr/>
        </p:nvGrpSpPr>
        <p:grpSpPr>
          <a:xfrm>
            <a:off x="5219640" y="2349360"/>
            <a:ext cx="2743200" cy="840960"/>
            <a:chOff x="5219640" y="2349360"/>
            <a:chExt cx="2743200" cy="840960"/>
          </a:xfrm>
        </p:grpSpPr>
        <p:grpSp>
          <p:nvGrpSpPr>
            <p:cNvPr id="2060" name=""/>
            <p:cNvGrpSpPr/>
            <p:nvPr/>
          </p:nvGrpSpPr>
          <p:grpSpPr>
            <a:xfrm>
              <a:off x="5219640" y="2349360"/>
              <a:ext cx="2362320" cy="840960"/>
              <a:chOff x="5219640" y="2349360"/>
              <a:chExt cx="2362320" cy="840960"/>
            </a:xfrm>
          </p:grpSpPr>
          <p:grpSp>
            <p:nvGrpSpPr>
              <p:cNvPr id="2061" name=""/>
              <p:cNvGrpSpPr/>
              <p:nvPr/>
            </p:nvGrpSpPr>
            <p:grpSpPr>
              <a:xfrm>
                <a:off x="5219640" y="2349360"/>
                <a:ext cx="2362320" cy="840960"/>
                <a:chOff x="5219640" y="2349360"/>
                <a:chExt cx="2362320" cy="840960"/>
              </a:xfrm>
            </p:grpSpPr>
            <p:sp>
              <p:nvSpPr>
                <p:cNvPr id="2062" name=""/>
                <p:cNvSpPr/>
                <p:nvPr/>
              </p:nvSpPr>
              <p:spPr>
                <a:xfrm>
                  <a:off x="5219640" y="2349360"/>
                  <a:ext cx="2362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ang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5295960" y="2730600"/>
                  <a:ext cx="99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60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4" name=""/>
              <p:cNvSpPr/>
              <p:nvPr/>
            </p:nvSpPr>
            <p:spPr>
              <a:xfrm>
                <a:off x="6210360" y="25020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5" name=""/>
            <p:cNvGrpSpPr/>
            <p:nvPr/>
          </p:nvGrpSpPr>
          <p:grpSpPr>
            <a:xfrm>
              <a:off x="6591240" y="2349360"/>
              <a:ext cx="1371600" cy="840600"/>
              <a:chOff x="6591240" y="2349360"/>
              <a:chExt cx="1371600" cy="840600"/>
            </a:xfrm>
          </p:grpSpPr>
          <p:sp>
            <p:nvSpPr>
              <p:cNvPr id="2066" name=""/>
              <p:cNvSpPr/>
              <p:nvPr/>
            </p:nvSpPr>
            <p:spPr>
              <a:xfrm>
                <a:off x="6591240" y="23493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8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819840" y="2730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8" name=""/>
          <p:cNvSpPr/>
          <p:nvPr/>
        </p:nvSpPr>
        <p:spPr>
          <a:xfrm>
            <a:off x="4643280" y="32846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30 x angle  =  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x 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4719600" y="3894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le  =  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x 84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6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5923080" y="4543560"/>
            <a:ext cx="6858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5541840" y="45435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4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108000" y="3429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(b) If 84 people went 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theatre then how big is x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>
            <a:hlinkClick r:id="rId2" action="ppaction://hlinksldjump"/>
          </p:cNvPr>
          <p:cNvSpPr/>
          <p:nvPr/>
        </p:nvSpPr>
        <p:spPr>
          <a:xfrm>
            <a:off x="250920" y="551664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>
            <a:hlinkClick r:id="rId3" action="ppaction://hlinksldjump"/>
          </p:cNvPr>
          <p:cNvSpPr/>
          <p:nvPr/>
        </p:nvSpPr>
        <p:spPr>
          <a:xfrm>
            <a:off x="250920" y="595008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0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3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8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500"/>
                            </p:stCondLst>
                            <p:childTnLst>
                              <p:par>
                                <p:cTn id="15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9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4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195640" y="2205000"/>
            <a:ext cx="1584360" cy="7192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256536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25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2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4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125360"/>
            <a:ext cx="39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   2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6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   1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 1    8    8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   2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3    5    6    7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    1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  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   1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   5   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    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 4  = £1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981000"/>
            <a:ext cx="0" cy="1943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1700280"/>
            <a:ext cx="505080" cy="36036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13000"/>
            <a:ext cx="39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wer &amp; upper quar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ii) the semi-interquartile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920" y="1413000"/>
            <a:ext cx="360360" cy="36036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1413000"/>
            <a:ext cx="360360" cy="36036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1989000"/>
            <a:ext cx="433440" cy="360360"/>
          </a:xfrm>
          <a:prstGeom prst="ellipse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1989000"/>
            <a:ext cx="433440" cy="360360"/>
          </a:xfrm>
          <a:prstGeom prst="ellipse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67280" y="260280"/>
            <a:ext cx="4897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median = (n+1) / 2 to find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1125360"/>
            <a:ext cx="514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(i)  Since n = 25 then the media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19162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edian  = 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£1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35640" y="3573360"/>
            <a:ext cx="150480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3268800"/>
            <a:ext cx="495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Both 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amp;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s are £171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1 = £17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2421000"/>
            <a:ext cx="489744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here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s before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= 13 - 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4076640"/>
            <a:ext cx="489744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here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s after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= 13 + 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2920" y="5300640"/>
            <a:ext cx="1504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4941720"/>
            <a:ext cx="36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£192  &amp;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£198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3 = £1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98200" y="5950080"/>
            <a:ext cx="4051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you like to do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41680" y="1911240"/>
            <a:ext cx="135720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OT 3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3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2084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34920" y="907920"/>
            <a:ext cx="4681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Set up ratio of angles and sectors and cross 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2249640" y="5156280"/>
            <a:ext cx="6858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0" y="1844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  The angle is 14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 so 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9" name=""/>
          <p:cNvGrpSpPr/>
          <p:nvPr/>
        </p:nvGrpSpPr>
        <p:grpSpPr>
          <a:xfrm>
            <a:off x="1295280" y="2301840"/>
            <a:ext cx="2743200" cy="840600"/>
            <a:chOff x="1295280" y="2301840"/>
            <a:chExt cx="2743200" cy="840600"/>
          </a:xfrm>
        </p:grpSpPr>
        <p:grpSp>
          <p:nvGrpSpPr>
            <p:cNvPr id="2090" name=""/>
            <p:cNvGrpSpPr/>
            <p:nvPr/>
          </p:nvGrpSpPr>
          <p:grpSpPr>
            <a:xfrm>
              <a:off x="1295280" y="2301840"/>
              <a:ext cx="2362320" cy="840600"/>
              <a:chOff x="1295280" y="2301840"/>
              <a:chExt cx="2362320" cy="840600"/>
            </a:xfrm>
          </p:grpSpPr>
          <p:grpSp>
            <p:nvGrpSpPr>
              <p:cNvPr id="2091" name=""/>
              <p:cNvGrpSpPr/>
              <p:nvPr/>
            </p:nvGrpSpPr>
            <p:grpSpPr>
              <a:xfrm>
                <a:off x="1295280" y="2301840"/>
                <a:ext cx="2362320" cy="840600"/>
                <a:chOff x="1295280" y="2301840"/>
                <a:chExt cx="2362320" cy="840600"/>
              </a:xfrm>
            </p:grpSpPr>
            <p:sp>
              <p:nvSpPr>
                <p:cNvPr id="2092" name=""/>
                <p:cNvSpPr/>
                <p:nvPr/>
              </p:nvSpPr>
              <p:spPr>
                <a:xfrm>
                  <a:off x="1295280" y="2301840"/>
                  <a:ext cx="2362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ff3300"/>
                      </a:solidFill>
                      <a:uFillTx/>
                      <a:latin typeface="Times New Roman"/>
                    </a:rPr>
                    <a:t>ang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1371600" y="2682720"/>
                  <a:ext cx="99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60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4" name=""/>
              <p:cNvSpPr/>
              <p:nvPr/>
            </p:nvSpPr>
            <p:spPr>
              <a:xfrm>
                <a:off x="2286000" y="2454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2666880" y="2301840"/>
              <a:ext cx="1371600" cy="840600"/>
              <a:chOff x="2666880" y="2301840"/>
              <a:chExt cx="1371600" cy="840600"/>
            </a:xfrm>
          </p:grpSpPr>
          <p:sp>
            <p:nvSpPr>
              <p:cNvPr id="2096" name=""/>
              <p:cNvSpPr/>
              <p:nvPr/>
            </p:nvSpPr>
            <p:spPr>
              <a:xfrm>
                <a:off x="2666880" y="230184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amou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895480" y="2682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8" name=""/>
          <p:cNvGrpSpPr/>
          <p:nvPr/>
        </p:nvGrpSpPr>
        <p:grpSpPr>
          <a:xfrm>
            <a:off x="1219320" y="3139920"/>
            <a:ext cx="2743200" cy="840960"/>
            <a:chOff x="1219320" y="3139920"/>
            <a:chExt cx="2743200" cy="840960"/>
          </a:xfrm>
        </p:grpSpPr>
        <p:grpSp>
          <p:nvGrpSpPr>
            <p:cNvPr id="2099" name=""/>
            <p:cNvGrpSpPr/>
            <p:nvPr/>
          </p:nvGrpSpPr>
          <p:grpSpPr>
            <a:xfrm>
              <a:off x="1219320" y="3139920"/>
              <a:ext cx="2362320" cy="840960"/>
              <a:chOff x="1219320" y="3139920"/>
              <a:chExt cx="2362320" cy="840960"/>
            </a:xfrm>
          </p:grpSpPr>
          <p:grpSp>
            <p:nvGrpSpPr>
              <p:cNvPr id="2100" name=""/>
              <p:cNvGrpSpPr/>
              <p:nvPr/>
            </p:nvGrpSpPr>
            <p:grpSpPr>
              <a:xfrm>
                <a:off x="1219320" y="3139920"/>
                <a:ext cx="2362320" cy="840960"/>
                <a:chOff x="1219320" y="3139920"/>
                <a:chExt cx="2362320" cy="840960"/>
              </a:xfrm>
            </p:grpSpPr>
            <p:sp>
              <p:nvSpPr>
                <p:cNvPr id="2101" name=""/>
                <p:cNvSpPr/>
                <p:nvPr/>
              </p:nvSpPr>
              <p:spPr>
                <a:xfrm>
                  <a:off x="1219320" y="3139920"/>
                  <a:ext cx="2362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 </a:t>
                  </a: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144</a:t>
                  </a: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295640" y="3521160"/>
                  <a:ext cx="99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60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3" name=""/>
              <p:cNvSpPr/>
              <p:nvPr/>
            </p:nvSpPr>
            <p:spPr>
              <a:xfrm>
                <a:off x="2210040" y="32925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4" name=""/>
            <p:cNvGrpSpPr/>
            <p:nvPr/>
          </p:nvGrpSpPr>
          <p:grpSpPr>
            <a:xfrm>
              <a:off x="2590920" y="3139920"/>
              <a:ext cx="1371600" cy="840600"/>
              <a:chOff x="2590920" y="3139920"/>
              <a:chExt cx="1371600" cy="840600"/>
            </a:xfrm>
          </p:grpSpPr>
          <p:sp>
            <p:nvSpPr>
              <p:cNvPr id="2105" name=""/>
              <p:cNvSpPr/>
              <p:nvPr/>
            </p:nvSpPr>
            <p:spPr>
              <a:xfrm>
                <a:off x="2590920" y="313992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amou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819520" y="3520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7" name=""/>
          <p:cNvSpPr/>
          <p:nvPr/>
        </p:nvSpPr>
        <p:spPr>
          <a:xfrm>
            <a:off x="762120" y="39783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0 x amount  =  144 x 6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762120" y="4511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ount  =  144 x 63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1944720" y="5156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2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 flipV="1">
            <a:off x="2089080" y="3429000"/>
            <a:ext cx="503280" cy="2872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 flipH="1" flipV="1">
            <a:off x="2016000" y="3429000"/>
            <a:ext cx="649440" cy="2872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5154480" y="692280"/>
            <a:ext cx="381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also be tackled by us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r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5363280" y="278928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ount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x  6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6844680" y="2655720"/>
            <a:ext cx="605880" cy="703800"/>
            <a:chOff x="6844680" y="2655720"/>
            <a:chExt cx="605880" cy="703800"/>
          </a:xfrm>
        </p:grpSpPr>
        <p:sp>
          <p:nvSpPr>
            <p:cNvPr id="2115" name=""/>
            <p:cNvSpPr/>
            <p:nvPr/>
          </p:nvSpPr>
          <p:spPr>
            <a:xfrm>
              <a:off x="6844680" y="2655720"/>
              <a:ext cx="605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4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6949800" y="29937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7" name=""/>
          <p:cNvSpPr/>
          <p:nvPr/>
        </p:nvSpPr>
        <p:spPr>
          <a:xfrm>
            <a:off x="4788000" y="1700280"/>
            <a:ext cx="4282920" cy="792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8" name=""/>
          <p:cNvGraphicFramePr/>
          <p:nvPr/>
        </p:nvGraphicFramePr>
        <p:xfrm>
          <a:off x="4859280" y="1700280"/>
          <a:ext cx="4211640" cy="69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700280"/>
                    <a:ext cx="421164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0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>
            <a:hlinkClick r:id="rId4" action="ppaction://hlinksldjump"/>
          </p:cNvPr>
          <p:cNvSpPr/>
          <p:nvPr/>
        </p:nvSpPr>
        <p:spPr>
          <a:xfrm>
            <a:off x="6372360" y="5950080"/>
            <a:ext cx="433080" cy="287280"/>
          </a:xfrm>
          <a:custGeom>
            <a:avLst/>
            <a:gdLst>
              <a:gd name="textAreaLeft" fmla="*/ 18360 w 433080"/>
              <a:gd name="textAreaRight" fmla="*/ 414720 w 433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49" h="21600">
                <a:moveTo>
                  <a:pt x="0" y="0"/>
                </a:moveTo>
                <a:lnTo>
                  <a:pt x="32549" y="0"/>
                </a:lnTo>
                <a:lnTo>
                  <a:pt x="32549" y="21600"/>
                </a:lnTo>
                <a:lnTo>
                  <a:pt x="0" y="21600"/>
                </a:lnTo>
                <a:close/>
              </a:path>
              <a:path fill="lightenLess" w="32549" h="21600">
                <a:moveTo>
                  <a:pt x="0" y="0"/>
                </a:moveTo>
                <a:lnTo>
                  <a:pt x="32549" y="0"/>
                </a:lnTo>
                <a:lnTo>
                  <a:pt x="31149" y="1400"/>
                </a:lnTo>
                <a:lnTo>
                  <a:pt x="1400" y="1400"/>
                </a:lnTo>
                <a:close/>
              </a:path>
              <a:path fill="darken" w="32549" h="21600">
                <a:moveTo>
                  <a:pt x="32549" y="0"/>
                </a:moveTo>
                <a:lnTo>
                  <a:pt x="32549" y="21600"/>
                </a:lnTo>
                <a:lnTo>
                  <a:pt x="31149" y="20200"/>
                </a:lnTo>
                <a:lnTo>
                  <a:pt x="31149" y="1400"/>
                </a:lnTo>
                <a:close/>
              </a:path>
              <a:path fill="darkenLess" w="32549" h="21600">
                <a:moveTo>
                  <a:pt x="32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9" y="20200"/>
                </a:lnTo>
                <a:close/>
              </a:path>
              <a:path fill="lighten" w="32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0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0" dur="80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1" dur="80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2" dur="80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400"/>
                            </p:stCondLst>
                            <p:childTnLst>
                              <p:par>
                                <p:cTn id="1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1900"/>
                            </p:stCondLst>
                            <p:childTnLst>
                              <p:par>
                                <p:cTn id="1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8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6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2127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5154480" y="692280"/>
            <a:ext cx="381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also be tackled by us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r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4788000" y="1700280"/>
            <a:ext cx="4282920" cy="7920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1" name=""/>
          <p:cNvGraphicFramePr/>
          <p:nvPr/>
        </p:nvGraphicFramePr>
        <p:xfrm>
          <a:off x="4859280" y="1700280"/>
          <a:ext cx="4211640" cy="69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700280"/>
                    <a:ext cx="421164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3" name=""/>
          <p:cNvSpPr/>
          <p:nvPr/>
        </p:nvSpPr>
        <p:spPr>
          <a:xfrm>
            <a:off x="34920" y="836640"/>
            <a:ext cx="468144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Set up ratio of angles and sectors and cross 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 flipV="1">
            <a:off x="2160720" y="3212640"/>
            <a:ext cx="792000" cy="358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 flipH="1" flipV="1">
            <a:off x="2160360" y="3213000"/>
            <a:ext cx="649080" cy="2872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0" y="1701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)  The amount is 8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o 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7" name=""/>
          <p:cNvGrpSpPr/>
          <p:nvPr/>
        </p:nvGrpSpPr>
        <p:grpSpPr>
          <a:xfrm>
            <a:off x="1295280" y="2158920"/>
            <a:ext cx="2743200" cy="840960"/>
            <a:chOff x="1295280" y="2158920"/>
            <a:chExt cx="2743200" cy="840960"/>
          </a:xfrm>
        </p:grpSpPr>
        <p:grpSp>
          <p:nvGrpSpPr>
            <p:cNvPr id="2138" name=""/>
            <p:cNvGrpSpPr/>
            <p:nvPr/>
          </p:nvGrpSpPr>
          <p:grpSpPr>
            <a:xfrm>
              <a:off x="1295280" y="2158920"/>
              <a:ext cx="2362320" cy="840960"/>
              <a:chOff x="1295280" y="2158920"/>
              <a:chExt cx="2362320" cy="840960"/>
            </a:xfrm>
          </p:grpSpPr>
          <p:grpSp>
            <p:nvGrpSpPr>
              <p:cNvPr id="2139" name=""/>
              <p:cNvGrpSpPr/>
              <p:nvPr/>
            </p:nvGrpSpPr>
            <p:grpSpPr>
              <a:xfrm>
                <a:off x="1295280" y="2158920"/>
                <a:ext cx="2362320" cy="840960"/>
                <a:chOff x="1295280" y="2158920"/>
                <a:chExt cx="2362320" cy="840960"/>
              </a:xfrm>
            </p:grpSpPr>
            <p:sp>
              <p:nvSpPr>
                <p:cNvPr id="2140" name=""/>
                <p:cNvSpPr/>
                <p:nvPr/>
              </p:nvSpPr>
              <p:spPr>
                <a:xfrm>
                  <a:off x="1295280" y="2158920"/>
                  <a:ext cx="2362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ang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1371600" y="2540160"/>
                  <a:ext cx="99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60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2" name=""/>
              <p:cNvSpPr/>
              <p:nvPr/>
            </p:nvSpPr>
            <p:spPr>
              <a:xfrm>
                <a:off x="2286000" y="23115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3" name=""/>
            <p:cNvGrpSpPr/>
            <p:nvPr/>
          </p:nvGrpSpPr>
          <p:grpSpPr>
            <a:xfrm>
              <a:off x="2666880" y="2158920"/>
              <a:ext cx="1371600" cy="840600"/>
              <a:chOff x="2666880" y="2158920"/>
              <a:chExt cx="1371600" cy="840600"/>
            </a:xfrm>
          </p:grpSpPr>
          <p:sp>
            <p:nvSpPr>
              <p:cNvPr id="2144" name=""/>
              <p:cNvSpPr/>
              <p:nvPr/>
            </p:nvSpPr>
            <p:spPr>
              <a:xfrm>
                <a:off x="2666880" y="215892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3300"/>
                    </a:solidFill>
                    <a:uFillTx/>
                    <a:latin typeface="Times New Roman"/>
                  </a:rPr>
                  <a:t>amou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895480" y="2539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6" name=""/>
          <p:cNvGrpSpPr/>
          <p:nvPr/>
        </p:nvGrpSpPr>
        <p:grpSpPr>
          <a:xfrm>
            <a:off x="1295280" y="2925720"/>
            <a:ext cx="2743200" cy="840600"/>
            <a:chOff x="1295280" y="2925720"/>
            <a:chExt cx="2743200" cy="840600"/>
          </a:xfrm>
        </p:grpSpPr>
        <p:grpSp>
          <p:nvGrpSpPr>
            <p:cNvPr id="2147" name=""/>
            <p:cNvGrpSpPr/>
            <p:nvPr/>
          </p:nvGrpSpPr>
          <p:grpSpPr>
            <a:xfrm>
              <a:off x="1295280" y="2925720"/>
              <a:ext cx="2362320" cy="840600"/>
              <a:chOff x="1295280" y="2925720"/>
              <a:chExt cx="2362320" cy="840600"/>
            </a:xfrm>
          </p:grpSpPr>
          <p:grpSp>
            <p:nvGrpSpPr>
              <p:cNvPr id="2148" name=""/>
              <p:cNvGrpSpPr/>
              <p:nvPr/>
            </p:nvGrpSpPr>
            <p:grpSpPr>
              <a:xfrm>
                <a:off x="1295280" y="2925720"/>
                <a:ext cx="2362320" cy="840600"/>
                <a:chOff x="1295280" y="2925720"/>
                <a:chExt cx="2362320" cy="840600"/>
              </a:xfrm>
            </p:grpSpPr>
            <p:sp>
              <p:nvSpPr>
                <p:cNvPr id="2149" name=""/>
                <p:cNvSpPr/>
                <p:nvPr/>
              </p:nvSpPr>
              <p:spPr>
                <a:xfrm>
                  <a:off x="1295280" y="2925720"/>
                  <a:ext cx="2362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ang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1371600" y="3306600"/>
                  <a:ext cx="99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60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1" name=""/>
              <p:cNvSpPr/>
              <p:nvPr/>
            </p:nvSpPr>
            <p:spPr>
              <a:xfrm>
                <a:off x="2286000" y="30780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2" name=""/>
            <p:cNvGrpSpPr/>
            <p:nvPr/>
          </p:nvGrpSpPr>
          <p:grpSpPr>
            <a:xfrm>
              <a:off x="2666880" y="2925720"/>
              <a:ext cx="1371600" cy="840600"/>
              <a:chOff x="2666880" y="2925720"/>
              <a:chExt cx="1371600" cy="840600"/>
            </a:xfrm>
          </p:grpSpPr>
          <p:sp>
            <p:nvSpPr>
              <p:cNvPr id="2153" name=""/>
              <p:cNvSpPr/>
              <p:nvPr/>
            </p:nvSpPr>
            <p:spPr>
              <a:xfrm>
                <a:off x="2666880" y="292572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8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895480" y="3306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5" name=""/>
          <p:cNvSpPr/>
          <p:nvPr/>
        </p:nvSpPr>
        <p:spPr>
          <a:xfrm>
            <a:off x="719280" y="38606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30 x angle  =  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x 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795240" y="4470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le  =  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x 84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6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1998720" y="5119560"/>
            <a:ext cx="6858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1617840" y="511956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4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9" name=""/>
          <p:cNvGrpSpPr/>
          <p:nvPr/>
        </p:nvGrpSpPr>
        <p:grpSpPr>
          <a:xfrm>
            <a:off x="5795280" y="2708280"/>
            <a:ext cx="2573280" cy="764640"/>
            <a:chOff x="5795280" y="2708280"/>
            <a:chExt cx="2573280" cy="764640"/>
          </a:xfrm>
        </p:grpSpPr>
        <p:sp>
          <p:nvSpPr>
            <p:cNvPr id="2160" name=""/>
            <p:cNvSpPr/>
            <p:nvPr/>
          </p:nvSpPr>
          <p:spPr>
            <a:xfrm>
              <a:off x="5795280" y="288936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4 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x  630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1" name=""/>
            <p:cNvGrpSpPr/>
            <p:nvPr/>
          </p:nvGrpSpPr>
          <p:grpSpPr>
            <a:xfrm>
              <a:off x="6732360" y="2708280"/>
              <a:ext cx="605880" cy="764640"/>
              <a:chOff x="6732360" y="2708280"/>
              <a:chExt cx="605880" cy="764640"/>
            </a:xfrm>
          </p:grpSpPr>
          <p:sp>
            <p:nvSpPr>
              <p:cNvPr id="2162" name=""/>
              <p:cNvSpPr/>
              <p:nvPr/>
            </p:nvSpPr>
            <p:spPr>
              <a:xfrm>
                <a:off x="6732360" y="2708280"/>
                <a:ext cx="60588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6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837480" y="3093840"/>
                <a:ext cx="4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4" name=""/>
          <p:cNvSpPr/>
          <p:nvPr/>
        </p:nvSpPr>
        <p:spPr>
          <a:xfrm>
            <a:off x="5722200" y="3573360"/>
            <a:ext cx="23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=  84  x  3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5" name=""/>
          <p:cNvGrpSpPr/>
          <p:nvPr/>
        </p:nvGrpSpPr>
        <p:grpSpPr>
          <a:xfrm>
            <a:off x="6228000" y="4200480"/>
            <a:ext cx="2098080" cy="743400"/>
            <a:chOff x="6228000" y="4200480"/>
            <a:chExt cx="2098080" cy="743400"/>
          </a:xfrm>
        </p:grpSpPr>
        <p:sp>
          <p:nvSpPr>
            <p:cNvPr id="2166" name=""/>
            <p:cNvSpPr/>
            <p:nvPr/>
          </p:nvSpPr>
          <p:spPr>
            <a:xfrm>
              <a:off x="6228000" y="4298760"/>
              <a:ext cx="69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=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7" name=""/>
            <p:cNvGrpSpPr/>
            <p:nvPr/>
          </p:nvGrpSpPr>
          <p:grpSpPr>
            <a:xfrm>
              <a:off x="6753600" y="4240080"/>
              <a:ext cx="1572480" cy="703800"/>
              <a:chOff x="6753600" y="4240080"/>
              <a:chExt cx="1572480" cy="703800"/>
            </a:xfrm>
          </p:grpSpPr>
          <p:sp>
            <p:nvSpPr>
              <p:cNvPr id="2168" name=""/>
              <p:cNvSpPr/>
              <p:nvPr/>
            </p:nvSpPr>
            <p:spPr>
              <a:xfrm>
                <a:off x="6753600" y="4240080"/>
                <a:ext cx="15724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buClr>
                    <a:srgbClr val="000000"/>
                  </a:buClr>
                  <a:buFont typeface="Arial"/>
                  <a:buAutoNum type="arabicPlain" startAt="84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6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3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7059240" y="4562280"/>
                <a:ext cx="9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0" name=""/>
            <p:cNvSpPr/>
            <p:nvPr/>
          </p:nvSpPr>
          <p:spPr>
            <a:xfrm>
              <a:off x="7310160" y="42004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1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6372360" y="6453360"/>
            <a:ext cx="430200" cy="387000"/>
          </a:xfrm>
          <a:custGeom>
            <a:avLst/>
            <a:gdLst>
              <a:gd name="textAreaLeft" fmla="*/ 24840 w 430200"/>
              <a:gd name="textAreaRight" fmla="*/ 405360 w 430200"/>
              <a:gd name="textAreaTop" fmla="*/ 24840 h 387000"/>
              <a:gd name="textAreaBottom" fmla="*/ 362160 h 387000"/>
            </a:gdLst>
            <a:ahLst/>
            <a:rect l="textAreaLeft" t="textAreaTop" r="textAreaRight" b="textAreaBottom"/>
            <a:pathLst>
              <a:path w="24009" h="21600">
                <a:moveTo>
                  <a:pt x="0" y="0"/>
                </a:moveTo>
                <a:lnTo>
                  <a:pt x="24009" y="0"/>
                </a:lnTo>
                <a:lnTo>
                  <a:pt x="24009" y="21600"/>
                </a:lnTo>
                <a:lnTo>
                  <a:pt x="0" y="21600"/>
                </a:lnTo>
                <a:close/>
              </a:path>
              <a:path fill="lightenLess" w="24009" h="21600">
                <a:moveTo>
                  <a:pt x="0" y="0"/>
                </a:moveTo>
                <a:lnTo>
                  <a:pt x="24009" y="0"/>
                </a:lnTo>
                <a:lnTo>
                  <a:pt x="22609" y="1400"/>
                </a:lnTo>
                <a:lnTo>
                  <a:pt x="1400" y="1400"/>
                </a:lnTo>
                <a:close/>
              </a:path>
              <a:path fill="darken" w="24009" h="21600">
                <a:moveTo>
                  <a:pt x="24009" y="0"/>
                </a:moveTo>
                <a:lnTo>
                  <a:pt x="24009" y="21600"/>
                </a:lnTo>
                <a:lnTo>
                  <a:pt x="22609" y="20200"/>
                </a:lnTo>
                <a:lnTo>
                  <a:pt x="22609" y="1400"/>
                </a:lnTo>
                <a:close/>
              </a:path>
              <a:path fill="darkenLess" w="24009" h="21600">
                <a:moveTo>
                  <a:pt x="24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9" y="20200"/>
                </a:lnTo>
                <a:close/>
              </a:path>
              <a:path fill="lighten" w="24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9" h="21600">
                <a:moveTo>
                  <a:pt x="12004" y="3837"/>
                </a:moveTo>
                <a:lnTo>
                  <a:pt x="14581" y="6448"/>
                </a:lnTo>
                <a:lnTo>
                  <a:pt x="14581" y="4707"/>
                </a:lnTo>
                <a:lnTo>
                  <a:pt x="16356" y="4707"/>
                </a:lnTo>
                <a:lnTo>
                  <a:pt x="16356" y="8224"/>
                </a:lnTo>
                <a:lnTo>
                  <a:pt x="18967" y="10800"/>
                </a:lnTo>
                <a:lnTo>
                  <a:pt x="17314" y="10800"/>
                </a:lnTo>
                <a:lnTo>
                  <a:pt x="17314" y="17989"/>
                </a:lnTo>
                <a:lnTo>
                  <a:pt x="6695" y="17989"/>
                </a:lnTo>
                <a:lnTo>
                  <a:pt x="6695" y="10800"/>
                </a:lnTo>
                <a:lnTo>
                  <a:pt x="5041" y="10800"/>
                </a:lnTo>
                <a:close/>
              </a:path>
              <a:path fill="darkenLess" w="24009" h="21600">
                <a:moveTo>
                  <a:pt x="14581" y="6448"/>
                </a:moveTo>
                <a:lnTo>
                  <a:pt x="14581" y="4707"/>
                </a:lnTo>
                <a:lnTo>
                  <a:pt x="16356" y="4707"/>
                </a:lnTo>
                <a:lnTo>
                  <a:pt x="16356" y="8224"/>
                </a:lnTo>
                <a:close/>
              </a:path>
              <a:path fill="darkenLess" w="24009" h="21600">
                <a:moveTo>
                  <a:pt x="11082" y="14299"/>
                </a:moveTo>
                <a:lnTo>
                  <a:pt x="12927" y="14299"/>
                </a:lnTo>
                <a:lnTo>
                  <a:pt x="12927" y="17989"/>
                </a:lnTo>
                <a:lnTo>
                  <a:pt x="17314" y="17989"/>
                </a:lnTo>
                <a:lnTo>
                  <a:pt x="17314" y="10800"/>
                </a:lnTo>
                <a:lnTo>
                  <a:pt x="6695" y="10800"/>
                </a:lnTo>
                <a:lnTo>
                  <a:pt x="6695" y="17989"/>
                </a:lnTo>
                <a:lnTo>
                  <a:pt x="1108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6372360" y="5950080"/>
            <a:ext cx="433080" cy="287280"/>
          </a:xfrm>
          <a:custGeom>
            <a:avLst/>
            <a:gdLst>
              <a:gd name="textAreaLeft" fmla="*/ 18360 w 433080"/>
              <a:gd name="textAreaRight" fmla="*/ 414720 w 433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49" h="21600">
                <a:moveTo>
                  <a:pt x="0" y="0"/>
                </a:moveTo>
                <a:lnTo>
                  <a:pt x="32549" y="0"/>
                </a:lnTo>
                <a:lnTo>
                  <a:pt x="32549" y="21600"/>
                </a:lnTo>
                <a:lnTo>
                  <a:pt x="0" y="21600"/>
                </a:lnTo>
                <a:close/>
              </a:path>
              <a:path fill="lightenLess" w="32549" h="21600">
                <a:moveTo>
                  <a:pt x="0" y="0"/>
                </a:moveTo>
                <a:lnTo>
                  <a:pt x="32549" y="0"/>
                </a:lnTo>
                <a:lnTo>
                  <a:pt x="31149" y="1400"/>
                </a:lnTo>
                <a:lnTo>
                  <a:pt x="1400" y="1400"/>
                </a:lnTo>
                <a:close/>
              </a:path>
              <a:path fill="darken" w="32549" h="21600">
                <a:moveTo>
                  <a:pt x="32549" y="0"/>
                </a:moveTo>
                <a:lnTo>
                  <a:pt x="32549" y="21600"/>
                </a:lnTo>
                <a:lnTo>
                  <a:pt x="31149" y="20200"/>
                </a:lnTo>
                <a:lnTo>
                  <a:pt x="31149" y="1400"/>
                </a:lnTo>
                <a:close/>
              </a:path>
              <a:path fill="darkenLess" w="32549" h="21600">
                <a:moveTo>
                  <a:pt x="32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9" y="20200"/>
                </a:lnTo>
                <a:close/>
              </a:path>
              <a:path fill="lighten" w="32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5662080" y="4941720"/>
            <a:ext cx="33048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of graphs, chart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0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195640" y="2205000"/>
            <a:ext cx="1584360" cy="7192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256536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66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1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125360"/>
            <a:ext cx="39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   2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6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   1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 1    8    8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   2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3    5    6    7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    1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  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   1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   5   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    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 4  = £1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981000"/>
            <a:ext cx="0" cy="1943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1700280"/>
            <a:ext cx="505080" cy="36036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213000"/>
            <a:ext cx="39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wer &amp; upper quar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ii) the semi-interquartile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1413000"/>
            <a:ext cx="360360" cy="36036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1413000"/>
            <a:ext cx="360360" cy="36036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1989000"/>
            <a:ext cx="433440" cy="360360"/>
          </a:xfrm>
          <a:prstGeom prst="ellipse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1989000"/>
            <a:ext cx="433440" cy="360360"/>
          </a:xfrm>
          <a:prstGeom prst="ellipse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67280" y="260280"/>
            <a:ext cx="4897440" cy="440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Use SIQR = ½  (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11640" y="9079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i)  SIQR = ½(Q3 – Q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30960" y="128916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(£195 - £171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30960" y="1746360"/>
            <a:ext cx="108576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£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3" action="ppaction://hlinksldjump"/>
          </p:cNvPr>
          <p:cNvSpPr/>
          <p:nvPr/>
        </p:nvSpPr>
        <p:spPr>
          <a:xfrm>
            <a:off x="250920" y="551808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4" action="ppaction://hlinksldjump"/>
          </p:cNvPr>
          <p:cNvSpPr/>
          <p:nvPr/>
        </p:nvSpPr>
        <p:spPr>
          <a:xfrm>
            <a:off x="250920" y="595008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95640" y="2205000"/>
            <a:ext cx="1584360" cy="7192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76720" y="2708280"/>
            <a:ext cx="71640" cy="73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03640" y="2708280"/>
            <a:ext cx="288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780000" y="0"/>
            <a:ext cx="5615640" cy="6858000"/>
            <a:chOff x="3780000" y="0"/>
            <a:chExt cx="5615640" cy="6858000"/>
          </a:xfrm>
        </p:grpSpPr>
        <p:grpSp>
          <p:nvGrpSpPr>
            <p:cNvPr id="199" name=""/>
            <p:cNvGrpSpPr/>
            <p:nvPr/>
          </p:nvGrpSpPr>
          <p:grpSpPr>
            <a:xfrm>
              <a:off x="3780000" y="0"/>
              <a:ext cx="5615640" cy="6858000"/>
              <a:chOff x="3780000" y="0"/>
              <a:chExt cx="5615640" cy="6858000"/>
            </a:xfrm>
          </p:grpSpPr>
          <p:pic>
            <p:nvPicPr>
              <p:cNvPr id="2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80000" y="0"/>
                <a:ext cx="56156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4182480" y="333360"/>
                <a:ext cx="1254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88240" y="404640"/>
                <a:ext cx="627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4809960" y="2565360"/>
              <a:ext cx="3292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4365720"/>
            <a:ext cx="39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67280" y="260280"/>
            <a:ext cx="48974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Use P = no of favourable / no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125360"/>
            <a:ext cx="39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   2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6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   1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 1    8    8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   2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3    5    6    7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    1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  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   1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   5   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    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 4  = £1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256536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981000"/>
            <a:ext cx="0" cy="1943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1413000"/>
            <a:ext cx="504720" cy="36036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068640"/>
            <a:ext cx="406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probability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one chosen at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ns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less than £18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34960" y="907920"/>
            <a:ext cx="448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of favourable ( under £180)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8000" y="1413000"/>
            <a:ext cx="505080" cy="360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413000"/>
            <a:ext cx="504720" cy="360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1413000"/>
            <a:ext cx="505080" cy="36036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1413000"/>
            <a:ext cx="505080" cy="360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47640" y="1413000"/>
            <a:ext cx="505080" cy="36036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47640" y="1125360"/>
            <a:ext cx="505080" cy="36072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1125360"/>
            <a:ext cx="504720" cy="36072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6920" y="1125360"/>
            <a:ext cx="505080" cy="36072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87280" y="1125360"/>
            <a:ext cx="505080" cy="36072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37480" y="148428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of data = n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24000" y="2205000"/>
            <a:ext cx="1224000" cy="360360"/>
          </a:xfrm>
          <a:prstGeom prst="ellipse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028000" y="1989000"/>
            <a:ext cx="647640" cy="719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95640" y="206064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b)  Prob(under £180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2680" y="5445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9800" y="458136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80" y="5013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952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2"/>
          </p:cNvPr>
          <p:cNvSpPr/>
          <p:nvPr/>
        </p:nvSpPr>
        <p:spPr>
          <a:xfrm>
            <a:off x="25092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816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4653000"/>
            <a:ext cx="433440" cy="288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5084640"/>
            <a:ext cx="433440" cy="2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250920" y="595008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280" y="765000"/>
            <a:ext cx="457200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median = (n+1) / 2 to find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630440"/>
            <a:ext cx="6172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(i)  Since n = 25 then the media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4720" y="2421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edian  = 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£1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78936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Both 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amp;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s are £171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1 = £17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280" y="2925720"/>
            <a:ext cx="464508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here are 12 values before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= 13 - (12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1280" y="4581360"/>
            <a:ext cx="464508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here are 12 values after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3 + (12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27280" y="5805360"/>
            <a:ext cx="150480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0360" y="54468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£192  &amp;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£198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3 = £1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02560" y="523800"/>
            <a:ext cx="327276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edi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iddle number i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ed l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 numbers in th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3480" y="220500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– 12    13    14 -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20000" y="2060640"/>
            <a:ext cx="0" cy="57636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268000" y="765000"/>
            <a:ext cx="2808360" cy="8636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2050920" y="2349000"/>
            <a:ext cx="2881440" cy="792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32360" y="3284640"/>
            <a:ext cx="42116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2 numbers on either side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dian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dian is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3th number in order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27640" y="371628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3" action="ppaction://hlinksldjump"/>
          </p:cNvPr>
          <p:cNvSpPr/>
          <p:nvPr/>
        </p:nvSpPr>
        <p:spPr>
          <a:xfrm>
            <a:off x="6372360" y="595008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36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48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6048360" cy="7101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085440" y="-255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92720" y="5445000"/>
            <a:ext cx="385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32600" y="59500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2"/>
          </p:cNvPr>
          <p:cNvSpPr/>
          <p:nvPr/>
        </p:nvSpPr>
        <p:spPr>
          <a:xfrm>
            <a:off x="6372360" y="642636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79600" y="649116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72360" y="5516640"/>
            <a:ext cx="431640" cy="2872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30360" y="54658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280" y="765000"/>
            <a:ext cx="4572000" cy="703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Use median = (n+1) / 2 to find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1630440"/>
            <a:ext cx="6172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(i)  Since n = 25 then the media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4720" y="2421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edian  = 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£1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78936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i)  Both 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amp;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s are £171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1 = £17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280" y="2925720"/>
            <a:ext cx="464508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here are 12 values before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ition = 13 - (12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1280" y="4581360"/>
            <a:ext cx="4645080" cy="745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here are 12 values after median so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3 + (12 + 1) /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27280" y="5805360"/>
            <a:ext cx="150480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0360" y="54468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£192  &amp;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£198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3 = £1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28760" y="476280"/>
            <a:ext cx="399672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ind the upper and lo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iles deal with th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either side of the medi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65040" y="2062080"/>
            <a:ext cx="461160" cy="440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13040" y="2062080"/>
            <a:ext cx="351216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numbers before medi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numbers either side of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midway 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6th and 7th numb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1640" y="2781360"/>
            <a:ext cx="287280" cy="144360"/>
          </a:xfrm>
          <a:prstGeom prst="rightArrow">
            <a:avLst>
              <a:gd name="adj1" fmla="val 50000"/>
              <a:gd name="adj2" fmla="val 4975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276720" y="2276640"/>
            <a:ext cx="1582560" cy="6476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3" action="ppaction://hlinksldjump"/>
          </p:cNvPr>
          <p:cNvSpPr/>
          <p:nvPr/>
        </p:nvSpPr>
        <p:spPr>
          <a:xfrm>
            <a:off x="6372360" y="595008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66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19:22:44Z</dcterms:created>
  <dc:creator>Richardson</dc:creator>
  <dc:description/>
  <dc:language>en-US</dc:language>
  <cp:lastModifiedBy>Richardson</cp:lastModifiedBy>
  <dcterms:modified xsi:type="dcterms:W3CDTF">2006-01-08T16:05:16Z</dcterms:modified>
  <cp:revision>20</cp:revision>
  <dc:subject/>
  <dc:title>Slide 1</dc:title>
</cp:coreProperties>
</file>