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1FF-1EAF-46BD-B7AB-BCAAE54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271-1179-43E3-BFCC-C3400C9B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961-F911-43C8-99BD-A7575C11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D3A-C19A-4AED-885F-2903BAA7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4F4-3A6E-4F87-97C5-F2CE03D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706-619A-4CBA-8163-9360E03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D21-E394-4BCE-823E-A3D62BB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499-FBD9-484B-8421-02C3A2C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4D4-5690-437C-ABD7-D41768D4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9F7-D601-4EA4-918E-597BAC1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B11-4550-4FAB-9B55-D1D10BB8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290-4E34-4020-AF34-6C4AB04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D67E-2094-4848-8523-F6F0A498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Others/Other%20Slides4.ppt" TargetMode="External"/><Relationship Id="rId2" Type="http://schemas.openxmlformats.org/officeDocument/2006/relationships/hyperlink" Target="Others/Other%20Slides4.ppt" TargetMode="External"/><Relationship Id="rId3" Type="http://schemas.openxmlformats.org/officeDocument/2006/relationships/hyperlink" Target="Others/Other%2520Slides4.ppt" TargetMode="External"/><Relationship Id="rId4" Type="http://schemas.openxmlformats.org/officeDocument/2006/relationships/hyperlink" Target="Others/UNIT%204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4936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MEDIATE 2 – ADDITIONAL QUESTION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79840" y="502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endshow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df53"/>
                </a:solidFill>
                <a:latin typeface="Tahoma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/>
          </p:cNvPr>
          <p:cNvSpPr/>
          <p:nvPr/>
        </p:nvSpPr>
        <p:spPr>
          <a:xfrm>
            <a:off x="0" y="2349360"/>
            <a:ext cx="1979640" cy="900360"/>
          </a:xfrm>
          <a:custGeom>
            <a:avLst/>
            <a:gdLst>
              <a:gd name="textAreaLeft" fmla="*/ 58320 w 1979640"/>
              <a:gd name="textAreaRight" fmla="*/ 1921320 w 19796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47482" h="21600">
                <a:moveTo>
                  <a:pt x="0" y="0"/>
                </a:moveTo>
                <a:lnTo>
                  <a:pt x="47482" y="0"/>
                </a:lnTo>
                <a:lnTo>
                  <a:pt x="47482" y="21600"/>
                </a:lnTo>
                <a:lnTo>
                  <a:pt x="0" y="21600"/>
                </a:lnTo>
                <a:close/>
              </a:path>
              <a:path fill="lightenLess" w="47482" h="21600">
                <a:moveTo>
                  <a:pt x="0" y="0"/>
                </a:moveTo>
                <a:lnTo>
                  <a:pt x="47482" y="0"/>
                </a:lnTo>
                <a:lnTo>
                  <a:pt x="46082" y="1400"/>
                </a:lnTo>
                <a:lnTo>
                  <a:pt x="1400" y="1400"/>
                </a:lnTo>
                <a:close/>
              </a:path>
              <a:path fill="darken" w="47482" h="21600">
                <a:moveTo>
                  <a:pt x="47482" y="0"/>
                </a:moveTo>
                <a:lnTo>
                  <a:pt x="47482" y="21600"/>
                </a:lnTo>
                <a:lnTo>
                  <a:pt x="46082" y="20200"/>
                </a:lnTo>
                <a:lnTo>
                  <a:pt x="46082" y="1400"/>
                </a:lnTo>
                <a:close/>
              </a:path>
              <a:path fill="darkenLess" w="47482" h="21600">
                <a:moveTo>
                  <a:pt x="474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2" y="20200"/>
                </a:lnTo>
                <a:close/>
              </a:path>
              <a:path fill="lighten" w="474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/>
          </p:cNvPr>
          <p:cNvSpPr/>
          <p:nvPr/>
        </p:nvSpPr>
        <p:spPr>
          <a:xfrm>
            <a:off x="2268360" y="2349360"/>
            <a:ext cx="2087640" cy="900360"/>
          </a:xfrm>
          <a:custGeom>
            <a:avLst/>
            <a:gdLst>
              <a:gd name="textAreaLeft" fmla="*/ 58320 w 2087640"/>
              <a:gd name="textAreaRight" fmla="*/ 2029320 w 20876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50072" h="21600">
                <a:moveTo>
                  <a:pt x="0" y="0"/>
                </a:moveTo>
                <a:lnTo>
                  <a:pt x="50072" y="0"/>
                </a:lnTo>
                <a:lnTo>
                  <a:pt x="50072" y="21600"/>
                </a:lnTo>
                <a:lnTo>
                  <a:pt x="0" y="21600"/>
                </a:lnTo>
                <a:close/>
              </a:path>
              <a:path fill="lightenLess" w="50072" h="21600">
                <a:moveTo>
                  <a:pt x="0" y="0"/>
                </a:moveTo>
                <a:lnTo>
                  <a:pt x="50072" y="0"/>
                </a:lnTo>
                <a:lnTo>
                  <a:pt x="48672" y="1400"/>
                </a:lnTo>
                <a:lnTo>
                  <a:pt x="1400" y="1400"/>
                </a:lnTo>
                <a:close/>
              </a:path>
              <a:path fill="darken" w="50072" h="21600">
                <a:moveTo>
                  <a:pt x="50072" y="0"/>
                </a:moveTo>
                <a:lnTo>
                  <a:pt x="50072" y="21600"/>
                </a:lnTo>
                <a:lnTo>
                  <a:pt x="48672" y="20200"/>
                </a:lnTo>
                <a:lnTo>
                  <a:pt x="48672" y="1400"/>
                </a:lnTo>
                <a:close/>
              </a:path>
              <a:path fill="darkenLess" w="50072" h="21600">
                <a:moveTo>
                  <a:pt x="50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72" y="20200"/>
                </a:lnTo>
                <a:close/>
              </a:path>
              <a:path fill="lighten" w="50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/>
          </p:cNvPr>
          <p:cNvSpPr/>
          <p:nvPr/>
        </p:nvSpPr>
        <p:spPr>
          <a:xfrm>
            <a:off x="4643280" y="2349360"/>
            <a:ext cx="2089440" cy="900360"/>
          </a:xfrm>
          <a:custGeom>
            <a:avLst/>
            <a:gdLst>
              <a:gd name="textAreaLeft" fmla="*/ 58320 w 2089440"/>
              <a:gd name="textAreaRight" fmla="*/ 2031120 w 208944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50115" h="21600">
                <a:moveTo>
                  <a:pt x="0" y="0"/>
                </a:moveTo>
                <a:lnTo>
                  <a:pt x="50115" y="0"/>
                </a:lnTo>
                <a:lnTo>
                  <a:pt x="50115" y="21600"/>
                </a:lnTo>
                <a:lnTo>
                  <a:pt x="0" y="21600"/>
                </a:lnTo>
                <a:close/>
              </a:path>
              <a:path fill="lightenLess" w="50115" h="21600">
                <a:moveTo>
                  <a:pt x="0" y="0"/>
                </a:moveTo>
                <a:lnTo>
                  <a:pt x="50115" y="0"/>
                </a:lnTo>
                <a:lnTo>
                  <a:pt x="48715" y="1400"/>
                </a:lnTo>
                <a:lnTo>
                  <a:pt x="1400" y="1400"/>
                </a:lnTo>
                <a:close/>
              </a:path>
              <a:path fill="darken" w="50115" h="21600">
                <a:moveTo>
                  <a:pt x="50115" y="0"/>
                </a:moveTo>
                <a:lnTo>
                  <a:pt x="50115" y="21600"/>
                </a:lnTo>
                <a:lnTo>
                  <a:pt x="48715" y="20200"/>
                </a:lnTo>
                <a:lnTo>
                  <a:pt x="48715" y="1400"/>
                </a:lnTo>
                <a:close/>
              </a:path>
              <a:path fill="darkenLess" w="50115" h="21600">
                <a:moveTo>
                  <a:pt x="50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15" y="20200"/>
                </a:lnTo>
                <a:close/>
              </a:path>
              <a:path fill="lighten" w="50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4960" y="1496880"/>
            <a:ext cx="77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ease decide which Unit you would like to rev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0280"/>
            <a:ext cx="197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igh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ce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r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3500280"/>
            <a:ext cx="2087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igon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ultane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raphs, Charts,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2240" y="3500280"/>
            <a:ext cx="212868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urther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adr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urther 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/>
          </p:cNvPr>
          <p:cNvSpPr/>
          <p:nvPr/>
        </p:nvSpPr>
        <p:spPr>
          <a:xfrm>
            <a:off x="6985080" y="2349360"/>
            <a:ext cx="1942920" cy="900360"/>
          </a:xfrm>
          <a:custGeom>
            <a:avLst/>
            <a:gdLst>
              <a:gd name="textAreaLeft" fmla="*/ 58320 w 1942920"/>
              <a:gd name="textAreaRight" fmla="*/ 1884600 w 1942920"/>
              <a:gd name="textAreaTop" fmla="*/ 58320 h 900360"/>
              <a:gd name="textAreaBottom" fmla="*/ 842040 h 900360"/>
            </a:gdLst>
            <a:ahLst/>
            <a:rect l="textAreaLeft" t="textAreaTop" r="textAreaRight" b="textAreaBottom"/>
            <a:pathLst>
              <a:path w="46601" h="21600">
                <a:moveTo>
                  <a:pt x="0" y="0"/>
                </a:moveTo>
                <a:lnTo>
                  <a:pt x="46601" y="0"/>
                </a:lnTo>
                <a:lnTo>
                  <a:pt x="46601" y="21600"/>
                </a:lnTo>
                <a:lnTo>
                  <a:pt x="0" y="21600"/>
                </a:lnTo>
                <a:close/>
              </a:path>
              <a:path fill="lightenLess" w="46601" h="21600">
                <a:moveTo>
                  <a:pt x="0" y="0"/>
                </a:moveTo>
                <a:lnTo>
                  <a:pt x="46601" y="0"/>
                </a:lnTo>
                <a:lnTo>
                  <a:pt x="45202" y="1400"/>
                </a:lnTo>
                <a:lnTo>
                  <a:pt x="1400" y="1400"/>
                </a:lnTo>
                <a:close/>
              </a:path>
              <a:path fill="darken" w="46601" h="21600">
                <a:moveTo>
                  <a:pt x="46601" y="0"/>
                </a:moveTo>
                <a:lnTo>
                  <a:pt x="46601" y="21600"/>
                </a:lnTo>
                <a:lnTo>
                  <a:pt x="45202" y="20200"/>
                </a:lnTo>
                <a:lnTo>
                  <a:pt x="45202" y="1400"/>
                </a:lnTo>
                <a:close/>
              </a:path>
              <a:path fill="darkenLess" w="46601" h="21600">
                <a:moveTo>
                  <a:pt x="46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02" y="20200"/>
                </a:lnTo>
                <a:close/>
              </a:path>
              <a:path fill="lighten" w="46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500280"/>
            <a:ext cx="21290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cial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gic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mul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0:37:42Z</dcterms:created>
  <dc:creator>Richardson</dc:creator>
  <dc:description/>
  <dc:language>en-US</dc:language>
  <cp:lastModifiedBy>Richardson</cp:lastModifiedBy>
  <dcterms:modified xsi:type="dcterms:W3CDTF">2006-01-08T12:53:43Z</dcterms:modified>
  <cp:revision>173</cp:revision>
  <dc:subject/>
  <dc:title>Slide 1</dc:title>
</cp:coreProperties>
</file>