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4.png" ContentType="image/png"/>
  <Override PartName="/ppt/media/image13.wmf" ContentType="image/x-wmf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A257-9A3E-48C5-BB15-10B2A04A9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6953-0778-46C7-A7B7-E9D826CD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4762-C291-4414-8275-7CAB6AB4D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6412-F398-421F-9D5D-B97B10B02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3EEE-87B8-4FA1-9818-051F7391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28D0-2F7F-4ED8-A943-EBA4DE43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790F-F7BD-4E49-A447-18F1E17B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2262-7723-4DC3-B3E8-B1C672EE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8BF3-8FDE-422A-890D-02ACF946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8C65-97AD-4AFF-8FA3-8B039D2F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A6E9-ED84-4076-81CF-4AB1F041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FE47-69D6-4078-A93A-660E2B3A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52FC-855D-4E21-A221-95944DB49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ther%20Slides4.ppt" TargetMode="External"/><Relationship Id="rId2" Type="http://schemas.openxmlformats.org/officeDocument/2006/relationships/hyperlink" Target="file:///Other%20Slides4.ppt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file:///Other%20Slides4.ppt" TargetMode="External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hyperlink" Target="file:///Other%20Slides4.ppt" TargetMode="External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hyperlink" Target="file:///Other%20Slides4.ppt" TargetMode="External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image" Target="../media/image13.wmf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file:///Other%20Slides4.ppt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file:///Other%20Slides4.ppt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file:///Other%20Slides4.ppt" TargetMode="External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file:///Other%20Slides4.ppt" TargetMode="External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file:///Other%20Slides4.ppt" TargetMode="External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hyperlink" Target="file:///Other%20Slides4.ppt" TargetMode="External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hyperlink" Target="file:///Other%20Slides4.ppt" TargetMode="Externa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Other%20Slides4.ppt" TargetMode="External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Other%20Slides4.ppt" TargetMode="External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Other%20Slides4.ppt" TargetMode="External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hyperlink" Target="file:///Other%20Slides4.ppt" TargetMode="External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Other%20Slides4.ppt" TargetMode="External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Other%20Slides4.ppt" TargetMode="External"/><Relationship Id="rId5" Type="http://schemas.openxmlformats.org/officeDocument/2006/relationships/oleObject" Target="../embeddings/oleObject1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Other%20Slides4.ppt" TargetMode="External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Other%20Slides4.ppt" TargetMode="External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Other%20Slides4.ppt" TargetMode="External"/><Relationship Id="rId5" Type="http://schemas.openxmlformats.org/officeDocument/2006/relationships/oleObject" Target="../embeddings/oleObject1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file:///Other%20Slides4.ppt" TargetMode="External"/><Relationship Id="rId3" Type="http://schemas.openxmlformats.org/officeDocument/2006/relationships/slide" Target="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file:///Other%20Slides4.ppt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1.wmf"/><Relationship Id="rId11" Type="http://schemas.openxmlformats.org/officeDocument/2006/relationships/slide" Target="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62064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TERMEDIATE 2 – ADDITIONAL QUESTION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91760" y="2073240"/>
            <a:ext cx="1374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UNIT 2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79840" y="5027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84360" y="2060640"/>
            <a:ext cx="2808360" cy="900000"/>
          </a:xfrm>
          <a:custGeom>
            <a:avLst/>
            <a:gdLst>
              <a:gd name="textAreaLeft" fmla="*/ 58320 w 2808360"/>
              <a:gd name="textAreaRight" fmla="*/ 2750040 w 2808360"/>
              <a:gd name="textAreaTop" fmla="*/ 58320 h 900000"/>
              <a:gd name="textAreaBottom" fmla="*/ 841680 h 900000"/>
            </a:gdLst>
            <a:ahLst/>
            <a:rect l="textAreaLeft" t="textAreaTop" r="textAreaRight" b="textAreaBottom"/>
            <a:pathLst>
              <a:path w="67382" h="21600">
                <a:moveTo>
                  <a:pt x="0" y="0"/>
                </a:moveTo>
                <a:lnTo>
                  <a:pt x="67382" y="0"/>
                </a:lnTo>
                <a:lnTo>
                  <a:pt x="67382" y="21600"/>
                </a:lnTo>
                <a:lnTo>
                  <a:pt x="0" y="21600"/>
                </a:lnTo>
                <a:close/>
              </a:path>
              <a:path fill="lightenLess" w="67382" h="21600">
                <a:moveTo>
                  <a:pt x="0" y="0"/>
                </a:moveTo>
                <a:lnTo>
                  <a:pt x="67382" y="0"/>
                </a:lnTo>
                <a:lnTo>
                  <a:pt x="65982" y="1400"/>
                </a:lnTo>
                <a:lnTo>
                  <a:pt x="1400" y="1400"/>
                </a:lnTo>
                <a:close/>
              </a:path>
              <a:path fill="darken" w="67382" h="21600">
                <a:moveTo>
                  <a:pt x="67382" y="0"/>
                </a:moveTo>
                <a:lnTo>
                  <a:pt x="67382" y="21600"/>
                </a:lnTo>
                <a:lnTo>
                  <a:pt x="65982" y="20200"/>
                </a:lnTo>
                <a:lnTo>
                  <a:pt x="65982" y="1400"/>
                </a:lnTo>
                <a:close/>
              </a:path>
              <a:path fill="darkenLess" w="67382" h="21600">
                <a:moveTo>
                  <a:pt x="67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982" y="20200"/>
                </a:lnTo>
                <a:close/>
              </a:path>
              <a:path fill="lighten" w="67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3920" y="134136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 have chosen to stu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5600" y="3502080"/>
            <a:ext cx="686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lease choose a question to attempt from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1619280" y="432900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1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endshow"/>
          </p:cNvPr>
          <p:cNvSpPr/>
          <p:nvPr/>
        </p:nvSpPr>
        <p:spPr>
          <a:xfrm>
            <a:off x="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2"/>
          </p:cNvPr>
          <p:cNvSpPr/>
          <p:nvPr/>
        </p:nvSpPr>
        <p:spPr>
          <a:xfrm>
            <a:off x="3708360" y="6237360"/>
            <a:ext cx="1368360" cy="620640"/>
          </a:xfrm>
          <a:custGeom>
            <a:avLst/>
            <a:gdLst>
              <a:gd name="textAreaLeft" fmla="*/ 39960 w 1368360"/>
              <a:gd name="textAreaRight" fmla="*/ 1328400 w 1368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47608" h="21600">
                <a:moveTo>
                  <a:pt x="0" y="0"/>
                </a:moveTo>
                <a:lnTo>
                  <a:pt x="47608" y="0"/>
                </a:lnTo>
                <a:lnTo>
                  <a:pt x="47608" y="21600"/>
                </a:lnTo>
                <a:lnTo>
                  <a:pt x="0" y="21600"/>
                </a:lnTo>
                <a:close/>
              </a:path>
              <a:path fill="lightenLess" w="47608" h="21600">
                <a:moveTo>
                  <a:pt x="0" y="0"/>
                </a:moveTo>
                <a:lnTo>
                  <a:pt x="47608" y="0"/>
                </a:lnTo>
                <a:lnTo>
                  <a:pt x="46208" y="1400"/>
                </a:lnTo>
                <a:lnTo>
                  <a:pt x="1400" y="1400"/>
                </a:lnTo>
                <a:close/>
              </a:path>
              <a:path fill="darken" w="47608" h="21600">
                <a:moveTo>
                  <a:pt x="47608" y="0"/>
                </a:moveTo>
                <a:lnTo>
                  <a:pt x="47608" y="21600"/>
                </a:lnTo>
                <a:lnTo>
                  <a:pt x="46208" y="20200"/>
                </a:lnTo>
                <a:lnTo>
                  <a:pt x="46208" y="1400"/>
                </a:lnTo>
                <a:close/>
              </a:path>
              <a:path fill="darkenLess" w="47608" h="21600">
                <a:moveTo>
                  <a:pt x="47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208" y="20200"/>
                </a:lnTo>
                <a:close/>
              </a:path>
              <a:path fill="lighten" w="47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 2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3" action="ppaction://hlinksldjump"/>
          </p:cNvPr>
          <p:cNvSpPr/>
          <p:nvPr/>
        </p:nvSpPr>
        <p:spPr>
          <a:xfrm>
            <a:off x="2627280" y="436572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4" action="ppaction://hlinksldjump"/>
          </p:cNvPr>
          <p:cNvSpPr/>
          <p:nvPr/>
        </p:nvSpPr>
        <p:spPr>
          <a:xfrm>
            <a:off x="3564000" y="436572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5" action="ppaction://hlinksldjump"/>
          </p:cNvPr>
          <p:cNvSpPr/>
          <p:nvPr/>
        </p:nvSpPr>
        <p:spPr>
          <a:xfrm>
            <a:off x="4572000" y="436572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6" action="ppaction://hlinksldjump"/>
          </p:cNvPr>
          <p:cNvSpPr/>
          <p:nvPr/>
        </p:nvSpPr>
        <p:spPr>
          <a:xfrm>
            <a:off x="5508720" y="436572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5616360" cy="38098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TATISTICS : Question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rId2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39640" y="1557360"/>
            <a:ext cx="125640" cy="1191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042920" y="1413000"/>
            <a:ext cx="127080" cy="118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941640" y="2230560"/>
            <a:ext cx="125640" cy="118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92360" y="1844640"/>
            <a:ext cx="127080" cy="120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987640" y="2133720"/>
            <a:ext cx="125280" cy="118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050920" y="1916280"/>
            <a:ext cx="125640" cy="118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47640" y="1557360"/>
            <a:ext cx="125640" cy="1191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84360" y="1700280"/>
            <a:ext cx="125640" cy="1191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932360" y="2205000"/>
            <a:ext cx="125280" cy="1191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427640" y="2060640"/>
            <a:ext cx="125280" cy="120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35640" y="2421000"/>
            <a:ext cx="125280" cy="1191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322360" y="4278240"/>
            <a:ext cx="25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eks of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6020600">
            <a:off x="-582120" y="1696320"/>
            <a:ext cx="152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1066680" y="2492280"/>
            <a:ext cx="938160" cy="14353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0" y="501336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TV personality takes part in a 20 week training schedule to copy a 100m sprinter.  Her times are recorded every 2 weeks and plotted in the graph  then a line of best fit is drawn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" action="ppaction://hlinkshowjump?jump=nextslide"/>
          </p:cNvPr>
          <p:cNvSpPr/>
          <p:nvPr/>
        </p:nvSpPr>
        <p:spPr>
          <a:xfrm>
            <a:off x="2124000" y="6165720"/>
            <a:ext cx="792360" cy="432000"/>
          </a:xfrm>
          <a:custGeom>
            <a:avLst/>
            <a:gdLst>
              <a:gd name="textAreaLeft" fmla="*/ 27720 w 792360"/>
              <a:gd name="textAreaRight" fmla="*/ 764640 w 792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603" h="21600">
                <a:moveTo>
                  <a:pt x="0" y="0"/>
                </a:moveTo>
                <a:lnTo>
                  <a:pt x="39603" y="0"/>
                </a:lnTo>
                <a:lnTo>
                  <a:pt x="39603" y="21600"/>
                </a:lnTo>
                <a:lnTo>
                  <a:pt x="0" y="21600"/>
                </a:lnTo>
                <a:close/>
              </a:path>
              <a:path fill="lightenLess" w="39603" h="21600">
                <a:moveTo>
                  <a:pt x="0" y="0"/>
                </a:moveTo>
                <a:lnTo>
                  <a:pt x="39603" y="0"/>
                </a:lnTo>
                <a:lnTo>
                  <a:pt x="38203" y="1400"/>
                </a:lnTo>
                <a:lnTo>
                  <a:pt x="1400" y="1400"/>
                </a:lnTo>
                <a:close/>
              </a:path>
              <a:path fill="darken" w="39603" h="21600">
                <a:moveTo>
                  <a:pt x="39603" y="0"/>
                </a:moveTo>
                <a:lnTo>
                  <a:pt x="39603" y="21600"/>
                </a:lnTo>
                <a:lnTo>
                  <a:pt x="38203" y="20200"/>
                </a:lnTo>
                <a:lnTo>
                  <a:pt x="38203" y="1400"/>
                </a:lnTo>
                <a:close/>
              </a:path>
              <a:path fill="darkenLess" w="39603" h="21600">
                <a:moveTo>
                  <a:pt x="396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03" y="20200"/>
                </a:lnTo>
                <a:close/>
              </a:path>
              <a:path fill="lighten" w="396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84560" y="6159600"/>
            <a:ext cx="24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 qu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5616360" cy="38098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TATISTICS : Question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rId2" action="ppaction://hlinksldjump"/>
          </p:cNvPr>
          <p:cNvSpPr/>
          <p:nvPr/>
        </p:nvSpPr>
        <p:spPr>
          <a:xfrm>
            <a:off x="6046920" y="15289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rId3" action="ppaction://hlinksldjump"/>
          </p:cNvPr>
          <p:cNvSpPr/>
          <p:nvPr/>
        </p:nvSpPr>
        <p:spPr>
          <a:xfrm>
            <a:off x="6046920" y="23479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rId4" action="ppaction://hlinksldjump"/>
          </p:cNvPr>
          <p:cNvSpPr/>
          <p:nvPr/>
        </p:nvSpPr>
        <p:spPr>
          <a:xfrm>
            <a:off x="6084720" y="306864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5" action="ppaction://hlinksldjump"/>
          </p:cNvPr>
          <p:cNvSpPr/>
          <p:nvPr/>
        </p:nvSpPr>
        <p:spPr>
          <a:xfrm>
            <a:off x="6084720" y="37609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764040" y="234792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78160" y="306864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877440" y="3760920"/>
            <a:ext cx="20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Stat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841080" y="15289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answer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6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>
            <a:hlinkClick r:id="" action="ppaction://hlinkshowjump?jump=nextslide"/>
          </p:cNvPr>
          <p:cNvSpPr/>
          <p:nvPr/>
        </p:nvSpPr>
        <p:spPr>
          <a:xfrm>
            <a:off x="6046920" y="83664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910920" y="83664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h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9640" y="1557360"/>
            <a:ext cx="125640" cy="1191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42920" y="1413000"/>
            <a:ext cx="127080" cy="118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941640" y="2230560"/>
            <a:ext cx="125640" cy="118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492360" y="1844640"/>
            <a:ext cx="127080" cy="120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987640" y="2133720"/>
            <a:ext cx="125280" cy="118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050920" y="1916280"/>
            <a:ext cx="125640" cy="118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547640" y="1557360"/>
            <a:ext cx="125640" cy="1191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484360" y="1700280"/>
            <a:ext cx="125640" cy="1191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932360" y="2205000"/>
            <a:ext cx="125280" cy="1191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427640" y="2060640"/>
            <a:ext cx="125280" cy="120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435640" y="2421000"/>
            <a:ext cx="125280" cy="1191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322360" y="4278240"/>
            <a:ext cx="25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eks of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6020600">
            <a:off x="-582120" y="1696320"/>
            <a:ext cx="152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7"/>
          <a:stretch/>
        </p:blipFill>
        <p:spPr>
          <a:xfrm>
            <a:off x="1066680" y="2492280"/>
            <a:ext cx="938160" cy="14353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250920" y="4724280"/>
            <a:ext cx="889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) Find the equation of the line in terms of  T and 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i) Use answer (i)  to predict     (a) her time after 12 weeks of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) the week when her time was 11.5s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50920" y="4724280"/>
            <a:ext cx="889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) Find the equation of the line in terms of  T and 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i) Use answer (i)  to predict     (a) her time after 12 weeks of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) the week when her time was 11.5s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796000" y="0"/>
            <a:ext cx="3097080" cy="1557360"/>
          </a:xfrm>
          <a:prstGeom prst="cloudCallout">
            <a:avLst>
              <a:gd name="adj1" fmla="val -20476"/>
              <a:gd name="adj2" fmla="val 29332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your equation and substitu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 = 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5616360" cy="380988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TATISTICS : Question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>
            <a:hlinkClick r:id="" action="ppaction://hlinkshowjump?jump=nextslide"/>
          </p:cNvPr>
          <p:cNvSpPr/>
          <p:nvPr/>
        </p:nvSpPr>
        <p:spPr>
          <a:xfrm>
            <a:off x="6046920" y="15289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>
            <a:hlinkClick r:id="rId2" action="ppaction://hlinksldjump"/>
          </p:cNvPr>
          <p:cNvSpPr/>
          <p:nvPr/>
        </p:nvSpPr>
        <p:spPr>
          <a:xfrm>
            <a:off x="6046920" y="23479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>
            <a:hlinkClick r:id="rId3" action="ppaction://hlinksldjump"/>
          </p:cNvPr>
          <p:cNvSpPr/>
          <p:nvPr/>
        </p:nvSpPr>
        <p:spPr>
          <a:xfrm>
            <a:off x="6084720" y="306864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rId4" action="ppaction://hlinksldjump"/>
          </p:cNvPr>
          <p:cNvSpPr/>
          <p:nvPr/>
        </p:nvSpPr>
        <p:spPr>
          <a:xfrm>
            <a:off x="6084720" y="37609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764040" y="234792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878160" y="306864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877440" y="3760920"/>
            <a:ext cx="20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Stat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841080" y="15289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answer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>
            <a:hlinkClick r:id="rId5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39640" y="1557360"/>
            <a:ext cx="125640" cy="1191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042920" y="1413000"/>
            <a:ext cx="127080" cy="118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941640" y="2230560"/>
            <a:ext cx="125640" cy="118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492360" y="1844640"/>
            <a:ext cx="127080" cy="120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987640" y="2133720"/>
            <a:ext cx="125280" cy="118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050920" y="1916280"/>
            <a:ext cx="125640" cy="118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547640" y="1557360"/>
            <a:ext cx="125640" cy="1191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484360" y="1700280"/>
            <a:ext cx="125640" cy="1191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932360" y="2205000"/>
            <a:ext cx="125280" cy="1191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427640" y="2060640"/>
            <a:ext cx="125280" cy="120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435640" y="2421000"/>
            <a:ext cx="125280" cy="1191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322360" y="4278240"/>
            <a:ext cx="25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eks of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rot="16020600">
            <a:off x="-582120" y="1696320"/>
            <a:ext cx="152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6"/>
          <a:stretch/>
        </p:blipFill>
        <p:spPr>
          <a:xfrm>
            <a:off x="1066680" y="2492280"/>
            <a:ext cx="938160" cy="143532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5400720" y="0"/>
            <a:ext cx="3743280" cy="1413000"/>
          </a:xfrm>
          <a:prstGeom prst="cloudCallout">
            <a:avLst>
              <a:gd name="adj1" fmla="val -87787"/>
              <a:gd name="adj2" fmla="val 284606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 gradient and note intercept of T ax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84720" y="0"/>
            <a:ext cx="2592720" cy="1557360"/>
          </a:xfrm>
          <a:prstGeom prst="cloudCallout">
            <a:avLst>
              <a:gd name="adj1" fmla="val 20421"/>
              <a:gd name="adj2" fmla="val 3294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your equation and substitu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= 1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602360" y="634536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7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8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5616360" cy="38098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TATISTICS : Question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" action="ppaction://hlinkshowjump?jump=nextslide"/>
          </p:cNvPr>
          <p:cNvSpPr/>
          <p:nvPr/>
        </p:nvSpPr>
        <p:spPr>
          <a:xfrm>
            <a:off x="6046920" y="23479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rId2" action="ppaction://hlinksldjump"/>
          </p:cNvPr>
          <p:cNvSpPr/>
          <p:nvPr/>
        </p:nvSpPr>
        <p:spPr>
          <a:xfrm>
            <a:off x="6084720" y="306864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764040" y="234792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878160" y="306864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877440" y="3760920"/>
            <a:ext cx="20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Stat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rId3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39640" y="1557360"/>
            <a:ext cx="125640" cy="1191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042920" y="1413000"/>
            <a:ext cx="127080" cy="118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941640" y="2230560"/>
            <a:ext cx="125640" cy="118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492360" y="1844640"/>
            <a:ext cx="127080" cy="120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987640" y="2133720"/>
            <a:ext cx="125280" cy="118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050920" y="1916280"/>
            <a:ext cx="125640" cy="118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547640" y="1557360"/>
            <a:ext cx="125640" cy="1191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484360" y="1700280"/>
            <a:ext cx="125640" cy="1191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932360" y="2205000"/>
            <a:ext cx="125280" cy="1191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427640" y="2060640"/>
            <a:ext cx="125280" cy="120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435640" y="2421000"/>
            <a:ext cx="125280" cy="1191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322360" y="4278240"/>
            <a:ext cx="25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eks of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rot="16020600">
            <a:off x="-582120" y="1696320"/>
            <a:ext cx="152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4"/>
          <a:stretch/>
        </p:blipFill>
        <p:spPr>
          <a:xfrm>
            <a:off x="1066680" y="2492280"/>
            <a:ext cx="938160" cy="143532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250920" y="4724280"/>
            <a:ext cx="889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) Find the equation of the line in terms of  T and 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i) Use answer (i)  to predict     (a) her time after 12 weeks of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) the week when her time was 11.5s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6732720" y="4653000"/>
            <a:ext cx="2133360" cy="533520"/>
            <a:chOff x="6732720" y="4653000"/>
            <a:chExt cx="2133360" cy="533520"/>
          </a:xfrm>
        </p:grpSpPr>
        <p:sp>
          <p:nvSpPr>
            <p:cNvPr id="385" name=""/>
            <p:cNvSpPr/>
            <p:nvPr/>
          </p:nvSpPr>
          <p:spPr>
            <a:xfrm>
              <a:off x="6732720" y="4653000"/>
              <a:ext cx="2133360" cy="533520"/>
            </a:xfrm>
            <a:prstGeom prst="rect">
              <a:avLst/>
            </a:prstGeom>
            <a:solidFill>
              <a:srgbClr val="00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835680" y="4724640"/>
              <a:ext cx="185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 =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¼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W + 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7380360" y="5661000"/>
            <a:ext cx="110124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se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233840" y="6345360"/>
            <a:ext cx="129924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>
            <a:hlinkClick r:id="rId5" action="ppaction://hlinksldjump"/>
          </p:cNvPr>
          <p:cNvSpPr/>
          <p:nvPr/>
        </p:nvSpPr>
        <p:spPr>
          <a:xfrm>
            <a:off x="6084720" y="3789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29840" y="26028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394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39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8652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5528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8364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85800" y="59500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stic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>
            <a:hlinkClick r:id="rId2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067280" y="26028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gradient and note intercept of T ax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-3960" y="765000"/>
            <a:ext cx="3952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) Find the equation of the l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erms of  T and 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39640" y="2997360"/>
            <a:ext cx="16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 to 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4952880" y="901800"/>
            <a:ext cx="1905120" cy="745200"/>
            <a:chOff x="4952880" y="901800"/>
            <a:chExt cx="1905120" cy="745200"/>
          </a:xfrm>
        </p:grpSpPr>
        <p:sp>
          <p:nvSpPr>
            <p:cNvPr id="413" name=""/>
            <p:cNvSpPr/>
            <p:nvPr/>
          </p:nvSpPr>
          <p:spPr>
            <a:xfrm>
              <a:off x="4952880" y="901800"/>
              <a:ext cx="1706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 = (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– 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10080" y="1206360"/>
              <a:ext cx="144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x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– x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486400" y="128268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4343400" y="9018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6705720" y="901800"/>
            <a:ext cx="1828800" cy="703800"/>
            <a:chOff x="6705720" y="901800"/>
            <a:chExt cx="1828800" cy="703800"/>
          </a:xfrm>
        </p:grpSpPr>
        <p:sp>
          <p:nvSpPr>
            <p:cNvPr id="418" name=""/>
            <p:cNvSpPr/>
            <p:nvPr/>
          </p:nvSpPr>
          <p:spPr>
            <a:xfrm>
              <a:off x="6705720" y="9018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10 - 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705720" y="120672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 - 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6400800" y="1054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876920" y="173988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cept at 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29400" y="2349360"/>
            <a:ext cx="2133720" cy="53352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876920" y="2349360"/>
            <a:ext cx="40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ation 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 +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620120" y="981000"/>
            <a:ext cx="13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>
            <a:hlinkClick r:id="rId3" action="ppaction://hlinksldjump"/>
          </p:cNvPr>
          <p:cNvSpPr/>
          <p:nvPr/>
        </p:nvSpPr>
        <p:spPr>
          <a:xfrm>
            <a:off x="826920" y="1773360"/>
            <a:ext cx="1152720" cy="1079280"/>
          </a:xfrm>
          <a:custGeom>
            <a:avLst/>
            <a:gdLst>
              <a:gd name="textAreaLeft" fmla="*/ 69840 w 1152720"/>
              <a:gd name="textAreaRight" fmla="*/ 1082880 w 115272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9" h="21600">
                <a:moveTo>
                  <a:pt x="0" y="0"/>
                </a:moveTo>
                <a:lnTo>
                  <a:pt x="23069" y="0"/>
                </a:lnTo>
                <a:lnTo>
                  <a:pt x="23069" y="21600"/>
                </a:lnTo>
                <a:lnTo>
                  <a:pt x="0" y="21600"/>
                </a:lnTo>
                <a:close/>
              </a:path>
              <a:path fill="lightenLess" w="23069" h="21600">
                <a:moveTo>
                  <a:pt x="0" y="0"/>
                </a:moveTo>
                <a:lnTo>
                  <a:pt x="23069" y="0"/>
                </a:lnTo>
                <a:lnTo>
                  <a:pt x="21669" y="1400"/>
                </a:lnTo>
                <a:lnTo>
                  <a:pt x="1400" y="1400"/>
                </a:lnTo>
                <a:close/>
              </a:path>
              <a:path fill="darken" w="23069" h="21600">
                <a:moveTo>
                  <a:pt x="23069" y="0"/>
                </a:moveTo>
                <a:lnTo>
                  <a:pt x="23069" y="21600"/>
                </a:lnTo>
                <a:lnTo>
                  <a:pt x="21669" y="20200"/>
                </a:lnTo>
                <a:lnTo>
                  <a:pt x="21669" y="1400"/>
                </a:lnTo>
                <a:close/>
              </a:path>
              <a:path fill="darkenLess" w="23069" h="21600">
                <a:moveTo>
                  <a:pt x="230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9" y="20200"/>
                </a:lnTo>
                <a:close/>
              </a:path>
              <a:path fill="lighten" w="230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69" h="21600">
                <a:moveTo>
                  <a:pt x="11535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3069" h="21600">
                <a:moveTo>
                  <a:pt x="11535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3069" h="21600">
                <a:moveTo>
                  <a:pt x="8958" y="8224"/>
                </a:moveTo>
                <a:lnTo>
                  <a:pt x="12823" y="8224"/>
                </a:lnTo>
                <a:lnTo>
                  <a:pt x="12823" y="15221"/>
                </a:lnTo>
                <a:lnTo>
                  <a:pt x="14111" y="15221"/>
                </a:lnTo>
                <a:lnTo>
                  <a:pt x="14111" y="16144"/>
                </a:lnTo>
                <a:lnTo>
                  <a:pt x="8958" y="16144"/>
                </a:lnTo>
                <a:lnTo>
                  <a:pt x="8958" y="15221"/>
                </a:lnTo>
                <a:lnTo>
                  <a:pt x="10246" y="15221"/>
                </a:lnTo>
                <a:lnTo>
                  <a:pt x="10246" y="9129"/>
                </a:lnTo>
                <a:lnTo>
                  <a:pt x="8958" y="9129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>
            <a:hlinkClick r:id="rId4" action="ppaction://hlinksldjump"/>
          </p:cNvPr>
          <p:cNvSpPr/>
          <p:nvPr/>
        </p:nvSpPr>
        <p:spPr>
          <a:xfrm>
            <a:off x="250920" y="5516640"/>
            <a:ext cx="433440" cy="288720"/>
          </a:xfrm>
          <a:custGeom>
            <a:avLst/>
            <a:gdLst>
              <a:gd name="textAreaLeft" fmla="*/ 18720 w 433440"/>
              <a:gd name="textAreaRight" fmla="*/ 414720 w 4334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4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4" y="20200"/>
                </a:lnTo>
                <a:lnTo>
                  <a:pt x="31014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4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>
            <a:hlinkClick r:id="rId5" action="ppaction://hlinksldjump"/>
          </p:cNvPr>
          <p:cNvSpPr/>
          <p:nvPr/>
        </p:nvSpPr>
        <p:spPr>
          <a:xfrm>
            <a:off x="250920" y="5950080"/>
            <a:ext cx="433440" cy="288720"/>
          </a:xfrm>
          <a:custGeom>
            <a:avLst/>
            <a:gdLst>
              <a:gd name="textAreaLeft" fmla="*/ 18720 w 433440"/>
              <a:gd name="textAreaRight" fmla="*/ 414720 w 4334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4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4" y="20200"/>
                </a:lnTo>
                <a:lnTo>
                  <a:pt x="31014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4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0" y="549360"/>
            <a:ext cx="457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i) Use answer (i)  to predict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 her time after 12 weeks of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) the week when her time was 11.5s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432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43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8652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5528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8364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" y="59500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stic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>
            <a:hlinkClick r:id="rId2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067280" y="260280"/>
            <a:ext cx="4897440" cy="862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your equation and substitu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 = 1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995640" y="134136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)(i) If  w = 12 then   T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 + 1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605480" y="179856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=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x 12) +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662880" y="21798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 -3 +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662880" y="25606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643280" y="2941560"/>
            <a:ext cx="3919680" cy="53352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788000" y="2997360"/>
            <a:ext cx="37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at 12 weeks is 12se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>
            <a:hlinkClick r:id="rId3" action="ppaction://hlinksldjump"/>
          </p:cNvPr>
          <p:cNvSpPr/>
          <p:nvPr/>
        </p:nvSpPr>
        <p:spPr>
          <a:xfrm>
            <a:off x="250920" y="5516640"/>
            <a:ext cx="433440" cy="288720"/>
          </a:xfrm>
          <a:custGeom>
            <a:avLst/>
            <a:gdLst>
              <a:gd name="textAreaLeft" fmla="*/ 18720 w 433440"/>
              <a:gd name="textAreaRight" fmla="*/ 414720 w 4334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4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4" y="20200"/>
                </a:lnTo>
                <a:lnTo>
                  <a:pt x="31014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4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>
            <a:hlinkClick r:id="rId4" action="ppaction://hlinksldjump"/>
          </p:cNvPr>
          <p:cNvSpPr/>
          <p:nvPr/>
        </p:nvSpPr>
        <p:spPr>
          <a:xfrm>
            <a:off x="250920" y="5950080"/>
            <a:ext cx="433440" cy="288720"/>
          </a:xfrm>
          <a:custGeom>
            <a:avLst/>
            <a:gdLst>
              <a:gd name="textAreaLeft" fmla="*/ 18720 w 433440"/>
              <a:gd name="textAreaRight" fmla="*/ 414720 w 4334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4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4" y="20200"/>
                </a:lnTo>
                <a:lnTo>
                  <a:pt x="31014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4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0" y="549360"/>
            <a:ext cx="457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i) Use answer (i)  to predict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 her time after 12 weeks of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) the week when her time was 11.5s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460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46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2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8652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>
            <a:hlinkClick r:id="" action="ppaction://hlinkshowjump?jump=nextslide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5528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8364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85800" y="59500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stic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>
            <a:hlinkClick r:id="rId2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995640" y="0"/>
            <a:ext cx="4897440" cy="862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Use your equation and substitu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= 11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995640" y="1008000"/>
            <a:ext cx="51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)(i) If  t = 11.5 then       T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 + 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924360" y="14842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 + 15  = 11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588000" y="177336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(-15)    (-15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372360" y="206064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  =  -3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8028000" y="2060640"/>
            <a:ext cx="1116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(–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770520" y="24922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  = 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995640" y="3213000"/>
            <a:ext cx="5148360" cy="53352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067280" y="3284640"/>
            <a:ext cx="50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ch a time of 11.5sec after 14 wee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>
            <a:hlinkClick r:id="rId3" action="ppaction://hlinksldjump"/>
          </p:cNvPr>
          <p:cNvSpPr/>
          <p:nvPr/>
        </p:nvSpPr>
        <p:spPr>
          <a:xfrm>
            <a:off x="25092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353480" y="414972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6085440" y="-255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807240" y="59500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stic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>
            <a:hlinkClick r:id="rId2"/>
          </p:cNvPr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-36360" y="907920"/>
            <a:ext cx="46796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gradient and note intercept of T ax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276120" y="1735200"/>
            <a:ext cx="5257800" cy="745560"/>
            <a:chOff x="276120" y="1735200"/>
            <a:chExt cx="5257800" cy="745560"/>
          </a:xfrm>
        </p:grpSpPr>
        <p:grpSp>
          <p:nvGrpSpPr>
            <p:cNvPr id="497" name=""/>
            <p:cNvGrpSpPr/>
            <p:nvPr/>
          </p:nvGrpSpPr>
          <p:grpSpPr>
            <a:xfrm>
              <a:off x="276120" y="1735200"/>
              <a:ext cx="5257800" cy="745560"/>
              <a:chOff x="276120" y="1735200"/>
              <a:chExt cx="5257800" cy="745560"/>
            </a:xfrm>
          </p:grpSpPr>
          <p:grpSp>
            <p:nvGrpSpPr>
              <p:cNvPr id="498" name=""/>
              <p:cNvGrpSpPr/>
              <p:nvPr/>
            </p:nvGrpSpPr>
            <p:grpSpPr>
              <a:xfrm>
                <a:off x="885960" y="1735200"/>
                <a:ext cx="4647960" cy="745560"/>
                <a:chOff x="885960" y="1735200"/>
                <a:chExt cx="4647960" cy="74556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885960" y="1735200"/>
                  <a:ext cx="46479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m = (y</a:t>
                  </a:r>
                  <a:r>
                    <a:rPr b="1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 – y</a:t>
                  </a:r>
                  <a:r>
                    <a:rPr b="1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1342800" y="2040120"/>
                  <a:ext cx="14475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(x</a:t>
                  </a:r>
                  <a:r>
                    <a:rPr b="1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 – x</a:t>
                  </a:r>
                  <a:r>
                    <a:rPr b="1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1419120" y="2116080"/>
                  <a:ext cx="837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2" name=""/>
              <p:cNvSpPr/>
              <p:nvPr/>
            </p:nvSpPr>
            <p:spPr>
              <a:xfrm>
                <a:off x="276120" y="1735200"/>
                <a:ext cx="838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(a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2333520" y="1735200"/>
              <a:ext cx="2133720" cy="703800"/>
              <a:chOff x="2333520" y="1735200"/>
              <a:chExt cx="2133720" cy="703800"/>
            </a:xfrm>
          </p:grpSpPr>
          <p:grpSp>
            <p:nvGrpSpPr>
              <p:cNvPr id="504" name=""/>
              <p:cNvGrpSpPr/>
              <p:nvPr/>
            </p:nvGrpSpPr>
            <p:grpSpPr>
              <a:xfrm>
                <a:off x="2638440" y="1735200"/>
                <a:ext cx="1828800" cy="703800"/>
                <a:chOff x="2638440" y="1735200"/>
                <a:chExt cx="1828800" cy="70380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2638440" y="1735200"/>
                  <a:ext cx="1828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10 - 15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638440" y="2040120"/>
                  <a:ext cx="1218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20 - 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7" name=""/>
              <p:cNvSpPr/>
              <p:nvPr/>
            </p:nvSpPr>
            <p:spPr>
              <a:xfrm>
                <a:off x="2333520" y="188784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8" name=""/>
          <p:cNvSpPr/>
          <p:nvPr/>
        </p:nvSpPr>
        <p:spPr>
          <a:xfrm>
            <a:off x="809640" y="25732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cept at 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562120" y="3182760"/>
            <a:ext cx="2133720" cy="53352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809640" y="318276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ation 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 +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552840" y="1814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144760" y="666720"/>
            <a:ext cx="3134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 find the equation of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ne from the grap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ust Learn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 = mx  + 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6444720" y="2664000"/>
            <a:ext cx="287640" cy="50292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524720" y="2565360"/>
            <a:ext cx="216000" cy="60156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869440" y="314172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d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08360" y="314172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699880" y="4076640"/>
            <a:ext cx="344664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you need to find these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 flipV="1">
            <a:off x="6587640" y="3499920"/>
            <a:ext cx="28908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7667640" y="3428640"/>
            <a:ext cx="14436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>
            <a:hlinkClick r:id="rId3" action="ppaction://hlinksldjump"/>
          </p:cNvPr>
          <p:cNvSpPr/>
          <p:nvPr/>
        </p:nvSpPr>
        <p:spPr>
          <a:xfrm>
            <a:off x="637236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8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6085440" y="-255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807240" y="59500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stic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>
            <a:hlinkClick r:id="rId2"/>
          </p:cNvPr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-36360" y="907920"/>
            <a:ext cx="46796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gradient and note intercept of T ax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276120" y="1735200"/>
            <a:ext cx="5257800" cy="745560"/>
            <a:chOff x="276120" y="1735200"/>
            <a:chExt cx="5257800" cy="745560"/>
          </a:xfrm>
        </p:grpSpPr>
        <p:grpSp>
          <p:nvGrpSpPr>
            <p:cNvPr id="531" name=""/>
            <p:cNvGrpSpPr/>
            <p:nvPr/>
          </p:nvGrpSpPr>
          <p:grpSpPr>
            <a:xfrm>
              <a:off x="276120" y="1735200"/>
              <a:ext cx="5257800" cy="745560"/>
              <a:chOff x="276120" y="1735200"/>
              <a:chExt cx="5257800" cy="745560"/>
            </a:xfrm>
          </p:grpSpPr>
          <p:grpSp>
            <p:nvGrpSpPr>
              <p:cNvPr id="532" name=""/>
              <p:cNvGrpSpPr/>
              <p:nvPr/>
            </p:nvGrpSpPr>
            <p:grpSpPr>
              <a:xfrm>
                <a:off x="885960" y="1735200"/>
                <a:ext cx="4647960" cy="745560"/>
                <a:chOff x="885960" y="1735200"/>
                <a:chExt cx="4647960" cy="74556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885960" y="1735200"/>
                  <a:ext cx="46479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m = (y</a:t>
                  </a:r>
                  <a:r>
                    <a:rPr b="1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 – y</a:t>
                  </a:r>
                  <a:r>
                    <a:rPr b="1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1342800" y="2040120"/>
                  <a:ext cx="14475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(x</a:t>
                  </a:r>
                  <a:r>
                    <a:rPr b="1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 – x</a:t>
                  </a:r>
                  <a:r>
                    <a:rPr b="1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1419120" y="2116080"/>
                  <a:ext cx="837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6" name=""/>
              <p:cNvSpPr/>
              <p:nvPr/>
            </p:nvSpPr>
            <p:spPr>
              <a:xfrm>
                <a:off x="276120" y="1735200"/>
                <a:ext cx="838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(a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2333520" y="1735200"/>
              <a:ext cx="2133720" cy="703800"/>
              <a:chOff x="2333520" y="1735200"/>
              <a:chExt cx="2133720" cy="703800"/>
            </a:xfrm>
          </p:grpSpPr>
          <p:grpSp>
            <p:nvGrpSpPr>
              <p:cNvPr id="538" name=""/>
              <p:cNvGrpSpPr/>
              <p:nvPr/>
            </p:nvGrpSpPr>
            <p:grpSpPr>
              <a:xfrm>
                <a:off x="2638440" y="1735200"/>
                <a:ext cx="1828800" cy="703800"/>
                <a:chOff x="2638440" y="1735200"/>
                <a:chExt cx="1828800" cy="70380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2638440" y="1735200"/>
                  <a:ext cx="1828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10 - 15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2638440" y="2040120"/>
                  <a:ext cx="1218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20 - 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1" name=""/>
              <p:cNvSpPr/>
              <p:nvPr/>
            </p:nvSpPr>
            <p:spPr>
              <a:xfrm>
                <a:off x="2333520" y="188784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2" name=""/>
          <p:cNvSpPr/>
          <p:nvPr/>
        </p:nvSpPr>
        <p:spPr>
          <a:xfrm>
            <a:off x="809640" y="25732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cept at 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562120" y="3182760"/>
            <a:ext cx="2133720" cy="53352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09640" y="318276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ation 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 +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552840" y="1814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301080" y="7840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 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6969240" y="620640"/>
            <a:ext cx="1396800" cy="703800"/>
            <a:chOff x="6969240" y="620640"/>
            <a:chExt cx="1396800" cy="703800"/>
          </a:xfrm>
        </p:grpSpPr>
        <p:sp>
          <p:nvSpPr>
            <p:cNvPr id="548" name=""/>
            <p:cNvSpPr/>
            <p:nvPr/>
          </p:nvSpPr>
          <p:spPr>
            <a:xfrm>
              <a:off x="6969240" y="620640"/>
              <a:ext cx="139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ertic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orizont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061400" y="98568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5143320" y="1819440"/>
            <a:ext cx="37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 draw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izontal before the vertic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932360" y="3284640"/>
            <a:ext cx="3024360" cy="936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19640" y="3357720"/>
            <a:ext cx="237672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596360" y="3357720"/>
            <a:ext cx="0" cy="7189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451640" y="3357720"/>
            <a:ext cx="142920" cy="14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506200" y="2900520"/>
            <a:ext cx="20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orizontal (+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522200" y="3495600"/>
            <a:ext cx="168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ertical (-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>
            <a:hlinkClick r:id="rId3" action="ppaction://hlinksldjump"/>
          </p:cNvPr>
          <p:cNvSpPr/>
          <p:nvPr/>
        </p:nvSpPr>
        <p:spPr>
          <a:xfrm>
            <a:off x="637236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8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880"/>
                            </p:stCondLst>
                            <p:childTnLst>
                              <p:par>
                                <p:cTn id="4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9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880"/>
                            </p:stCondLst>
                            <p:childTnLst>
                              <p:par>
                                <p:cTn id="502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4380"/>
                            </p:stCondLst>
                            <p:childTnLst>
                              <p:par>
                                <p:cTn id="5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4880"/>
                            </p:stCondLst>
                            <p:childTnLst>
                              <p:par>
                                <p:cTn id="510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6380"/>
                            </p:stCondLst>
                            <p:childTnLst>
                              <p:par>
                                <p:cTn id="5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6880"/>
                            </p:stCondLst>
                            <p:childTnLst>
                              <p:par>
                                <p:cTn id="5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228600" y="4076640"/>
            <a:ext cx="8915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at percentage liked Shrek but not the Simps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f someone is picked at random what is the probability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i)  they liked the Simpsons but not Shre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ii)  they liked neith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TATISTICS : Question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>
            <a:hlinkClick r:id="rId1" action="ppaction://hlinksldjump"/>
          </p:cNvPr>
          <p:cNvSpPr/>
          <p:nvPr/>
        </p:nvSpPr>
        <p:spPr>
          <a:xfrm>
            <a:off x="1260360" y="6426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>
            <a:hlinkClick r:id="rId2" action="ppaction://hlinksldjump"/>
          </p:cNvPr>
          <p:cNvSpPr/>
          <p:nvPr/>
        </p:nvSpPr>
        <p:spPr>
          <a:xfrm>
            <a:off x="3708360" y="5877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>
            <a:hlinkClick r:id="rId3" action="ppaction://hlinksldjump"/>
          </p:cNvPr>
          <p:cNvSpPr/>
          <p:nvPr/>
        </p:nvSpPr>
        <p:spPr>
          <a:xfrm>
            <a:off x="3706920" y="6426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>
            <a:hlinkClick r:id="rId4" action="ppaction://hlinksldjump"/>
          </p:cNvPr>
          <p:cNvSpPr/>
          <p:nvPr/>
        </p:nvSpPr>
        <p:spPr>
          <a:xfrm>
            <a:off x="6372360" y="5877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426560" y="587700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501440" y="642636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165800" y="58770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stic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055240" y="642636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>
            <a:hlinkClick r:id="rId5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>
            <a:hlinkClick r:id="" action="ppaction://hlinkshowjump?jump=nextslide"/>
          </p:cNvPr>
          <p:cNvSpPr/>
          <p:nvPr/>
        </p:nvSpPr>
        <p:spPr>
          <a:xfrm>
            <a:off x="1260360" y="5877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124720" y="5877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h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0" y="620640"/>
            <a:ext cx="9144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sample of 180 teenagers were asked their opinions on 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V series the “Simpsons” &amp; the movie “Shrek” and their responses were displayed in the following table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6"/>
          <a:stretch/>
        </p:blipFill>
        <p:spPr>
          <a:xfrm>
            <a:off x="6781680" y="1447920"/>
            <a:ext cx="1874880" cy="2133360"/>
          </a:xfrm>
          <a:prstGeom prst="rect">
            <a:avLst/>
          </a:prstGeom>
          <a:ln w="0">
            <a:noFill/>
          </a:ln>
        </p:spPr>
      </p:pic>
      <p:grpSp>
        <p:nvGrpSpPr>
          <p:cNvPr id="574" name=""/>
          <p:cNvGrpSpPr/>
          <p:nvPr/>
        </p:nvGrpSpPr>
        <p:grpSpPr>
          <a:xfrm>
            <a:off x="3124080" y="1295280"/>
            <a:ext cx="3809880" cy="2743200"/>
            <a:chOff x="3124080" y="1295280"/>
            <a:chExt cx="3809880" cy="2743200"/>
          </a:xfrm>
        </p:grpSpPr>
        <p:grpSp>
          <p:nvGrpSpPr>
            <p:cNvPr id="575" name=""/>
            <p:cNvGrpSpPr/>
            <p:nvPr/>
          </p:nvGrpSpPr>
          <p:grpSpPr>
            <a:xfrm>
              <a:off x="3124080" y="1295280"/>
              <a:ext cx="3581280" cy="2743200"/>
              <a:chOff x="3124080" y="1295280"/>
              <a:chExt cx="3581280" cy="2743200"/>
            </a:xfrm>
          </p:grpSpPr>
          <p:grpSp>
            <p:nvGrpSpPr>
              <p:cNvPr id="576" name=""/>
              <p:cNvGrpSpPr/>
              <p:nvPr/>
            </p:nvGrpSpPr>
            <p:grpSpPr>
              <a:xfrm>
                <a:off x="3124080" y="1295280"/>
                <a:ext cx="3581280" cy="2743200"/>
                <a:chOff x="3124080" y="1295280"/>
                <a:chExt cx="3581280" cy="274320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3124080" y="1295280"/>
                  <a:ext cx="3581280" cy="2743200"/>
                </a:xfrm>
                <a:prstGeom prst="rect">
                  <a:avLst/>
                </a:prstGeom>
                <a:solidFill>
                  <a:srgbClr val="cc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3124080" y="1981080"/>
                  <a:ext cx="3581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3124080" y="3066840"/>
                  <a:ext cx="3581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4138560" y="1295280"/>
                  <a:ext cx="0" cy="2743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5451840" y="1295280"/>
                  <a:ext cx="0" cy="2743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2" name=""/>
              <p:cNvSpPr/>
              <p:nvPr/>
            </p:nvSpPr>
            <p:spPr>
              <a:xfrm>
                <a:off x="4190760" y="1371600"/>
                <a:ext cx="1295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Like Simpso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200400" y="2209680"/>
                <a:ext cx="1143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Like Shre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486400" y="1371600"/>
                <a:ext cx="1143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Don’t like Simpso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124080" y="3276360"/>
                <a:ext cx="1143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Don’t like Shre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"/>
            <p:cNvSpPr/>
            <p:nvPr/>
          </p:nvSpPr>
          <p:spPr>
            <a:xfrm>
              <a:off x="4343400" y="22096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2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715000" y="320040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419360" y="320040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562360" y="220968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0" name="" descr=""/>
          <p:cNvPicPr/>
          <p:nvPr/>
        </p:nvPicPr>
        <p:blipFill>
          <a:blip r:embed="rId7"/>
          <a:stretch/>
        </p:blipFill>
        <p:spPr>
          <a:xfrm>
            <a:off x="228600" y="1752480"/>
            <a:ext cx="27716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TATISTICS : Question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" action="ppaction://hlinksldjump"/>
          </p:cNvPr>
          <p:cNvSpPr/>
          <p:nvPr/>
        </p:nvSpPr>
        <p:spPr>
          <a:xfrm>
            <a:off x="1836720" y="5273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2" action="ppaction://hlinksldjump"/>
          </p:cNvPr>
          <p:cNvSpPr/>
          <p:nvPr/>
        </p:nvSpPr>
        <p:spPr>
          <a:xfrm>
            <a:off x="1836720" y="6093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3" action="ppaction://hlinksldjump"/>
          </p:cNvPr>
          <p:cNvSpPr/>
          <p:nvPr/>
        </p:nvSpPr>
        <p:spPr>
          <a:xfrm>
            <a:off x="5508720" y="458136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4" action="ppaction://hlinksldjump"/>
          </p:cNvPr>
          <p:cNvSpPr/>
          <p:nvPr/>
        </p:nvSpPr>
        <p:spPr>
          <a:xfrm>
            <a:off x="5508720" y="5273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4200" y="609300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01800" y="458136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01080" y="527364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Statistic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30880" y="527364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answer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5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692280"/>
            <a:ext cx="8534160" cy="33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taxi company was phoned each night of the week and the response time in minutes of their cars were noted.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were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  Find the mean and standard deviation for this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)  A similar experiment was conducted with a seco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company.  The results for this were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n = 12    and   standard deviation = 1.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does the second company compare to the firs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" action="ppaction://hlinkshowjump?jump=nextslide"/>
          </p:cNvPr>
          <p:cNvSpPr/>
          <p:nvPr/>
        </p:nvSpPr>
        <p:spPr>
          <a:xfrm>
            <a:off x="1836720" y="458136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00720" y="458136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h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228600" y="4076640"/>
            <a:ext cx="8915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at percentage liked Shrek but not the Simps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f someone is picked at random what is the probability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i)  they liked the Simpsons but not Shre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ii)  they liked neith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TATISTICS : Question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>
            <a:hlinkClick r:id="" action="ppaction://hlinkshowjump?jump=nextslide"/>
          </p:cNvPr>
          <p:cNvSpPr/>
          <p:nvPr/>
        </p:nvSpPr>
        <p:spPr>
          <a:xfrm>
            <a:off x="4789440" y="6426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>
            <a:hlinkClick r:id="rId1" action="ppaction://hlinksldjump"/>
          </p:cNvPr>
          <p:cNvSpPr/>
          <p:nvPr/>
        </p:nvSpPr>
        <p:spPr>
          <a:xfrm>
            <a:off x="2125800" y="5877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>
            <a:hlinkClick r:id="rId2" action="ppaction://hlinksldjump"/>
          </p:cNvPr>
          <p:cNvSpPr/>
          <p:nvPr/>
        </p:nvSpPr>
        <p:spPr>
          <a:xfrm>
            <a:off x="2124000" y="6426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>
            <a:hlinkClick r:id="rId3" action="ppaction://hlinksldjump"/>
          </p:cNvPr>
          <p:cNvSpPr/>
          <p:nvPr/>
        </p:nvSpPr>
        <p:spPr>
          <a:xfrm>
            <a:off x="4789440" y="5877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843640" y="587700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918520" y="642636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583240" y="58770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stic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584320" y="642636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>
            <a:hlinkClick r:id="rId4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620640"/>
            <a:ext cx="9144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sample of 180 teenagers were asked their opinions on 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V series the “Simpsons” &amp; the movie “Shrek” and their responses were displayed in the following table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5"/>
          <a:stretch/>
        </p:blipFill>
        <p:spPr>
          <a:xfrm>
            <a:off x="6781680" y="1447920"/>
            <a:ext cx="1874880" cy="2133360"/>
          </a:xfrm>
          <a:prstGeom prst="rect">
            <a:avLst/>
          </a:prstGeom>
          <a:ln w="0">
            <a:noFill/>
          </a:ln>
        </p:spPr>
      </p:pic>
      <p:grpSp>
        <p:nvGrpSpPr>
          <p:cNvPr id="605" name=""/>
          <p:cNvGrpSpPr/>
          <p:nvPr/>
        </p:nvGrpSpPr>
        <p:grpSpPr>
          <a:xfrm>
            <a:off x="3124080" y="1295280"/>
            <a:ext cx="3809880" cy="2743200"/>
            <a:chOff x="3124080" y="1295280"/>
            <a:chExt cx="3809880" cy="2743200"/>
          </a:xfrm>
        </p:grpSpPr>
        <p:grpSp>
          <p:nvGrpSpPr>
            <p:cNvPr id="606" name=""/>
            <p:cNvGrpSpPr/>
            <p:nvPr/>
          </p:nvGrpSpPr>
          <p:grpSpPr>
            <a:xfrm>
              <a:off x="3124080" y="1295280"/>
              <a:ext cx="3581280" cy="2743200"/>
              <a:chOff x="3124080" y="1295280"/>
              <a:chExt cx="3581280" cy="2743200"/>
            </a:xfrm>
          </p:grpSpPr>
          <p:grpSp>
            <p:nvGrpSpPr>
              <p:cNvPr id="607" name=""/>
              <p:cNvGrpSpPr/>
              <p:nvPr/>
            </p:nvGrpSpPr>
            <p:grpSpPr>
              <a:xfrm>
                <a:off x="3124080" y="1295280"/>
                <a:ext cx="3581280" cy="2743200"/>
                <a:chOff x="3124080" y="1295280"/>
                <a:chExt cx="3581280" cy="2743200"/>
              </a:xfrm>
            </p:grpSpPr>
            <p:sp>
              <p:nvSpPr>
                <p:cNvPr id="608" name=""/>
                <p:cNvSpPr/>
                <p:nvPr/>
              </p:nvSpPr>
              <p:spPr>
                <a:xfrm>
                  <a:off x="3124080" y="1295280"/>
                  <a:ext cx="3581280" cy="2743200"/>
                </a:xfrm>
                <a:prstGeom prst="rect">
                  <a:avLst/>
                </a:prstGeom>
                <a:solidFill>
                  <a:srgbClr val="cc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3124080" y="1981080"/>
                  <a:ext cx="3581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3124080" y="3066840"/>
                  <a:ext cx="3581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4138560" y="1295280"/>
                  <a:ext cx="0" cy="2743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5451840" y="1295280"/>
                  <a:ext cx="0" cy="2743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3" name=""/>
              <p:cNvSpPr/>
              <p:nvPr/>
            </p:nvSpPr>
            <p:spPr>
              <a:xfrm>
                <a:off x="4190760" y="1371600"/>
                <a:ext cx="1295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Like Simpso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200400" y="2209680"/>
                <a:ext cx="1143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Like Shre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486400" y="1371600"/>
                <a:ext cx="1143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Don’t like Simpso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124080" y="3276360"/>
                <a:ext cx="1143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Don’t like Shre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7" name=""/>
            <p:cNvSpPr/>
            <p:nvPr/>
          </p:nvSpPr>
          <p:spPr>
            <a:xfrm>
              <a:off x="4343400" y="22096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2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715000" y="320040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419360" y="320040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562360" y="220968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1" name="" descr=""/>
          <p:cNvPicPr/>
          <p:nvPr/>
        </p:nvPicPr>
        <p:blipFill>
          <a:blip r:embed="rId6"/>
          <a:stretch/>
        </p:blipFill>
        <p:spPr>
          <a:xfrm>
            <a:off x="228600" y="1752480"/>
            <a:ext cx="2771640" cy="1724040"/>
          </a:xfrm>
          <a:prstGeom prst="rect">
            <a:avLst/>
          </a:prstGeom>
          <a:ln w="0">
            <a:noFill/>
          </a:ln>
        </p:spPr>
      </p:pic>
      <p:sp>
        <p:nvSpPr>
          <p:cNvPr id="622" name=""/>
          <p:cNvSpPr/>
          <p:nvPr/>
        </p:nvSpPr>
        <p:spPr>
          <a:xfrm>
            <a:off x="6551640" y="1413000"/>
            <a:ext cx="2592360" cy="2232000"/>
          </a:xfrm>
          <a:prstGeom prst="cloudCallout">
            <a:avLst>
              <a:gd name="adj1" fmla="val -41180"/>
              <a:gd name="adj2" fmla="val 73185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ember all entries in table must add to total sampl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580000" y="1557360"/>
            <a:ext cx="3600360" cy="1942920"/>
          </a:xfrm>
          <a:prstGeom prst="cloudCallout">
            <a:avLst>
              <a:gd name="adj1" fmla="val -9745"/>
              <a:gd name="adj2" fmla="val 10522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find probabilities us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 = no of favourable / no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095080" y="544500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2" dur="5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228600" y="4076640"/>
            <a:ext cx="8915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at percentage liked Shrek but not the Simps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f someone is picked at random what is the probability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i)  they liked the Simpsons but not Shre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ii)  they liked neith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TATISTICS : Question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>
            <a:hlinkClick r:id="" action="ppaction://hlinkshowjump?jump=nextslide"/>
          </p:cNvPr>
          <p:cNvSpPr/>
          <p:nvPr/>
        </p:nvSpPr>
        <p:spPr>
          <a:xfrm>
            <a:off x="2486160" y="5877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>
            <a:hlinkClick r:id="rId1" action="ppaction://hlinksldjump"/>
          </p:cNvPr>
          <p:cNvSpPr/>
          <p:nvPr/>
        </p:nvSpPr>
        <p:spPr>
          <a:xfrm>
            <a:off x="2484360" y="6426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>
            <a:hlinkClick r:id="rId2" action="ppaction://hlinksldjump"/>
          </p:cNvPr>
          <p:cNvSpPr/>
          <p:nvPr/>
        </p:nvSpPr>
        <p:spPr>
          <a:xfrm>
            <a:off x="5149800" y="5877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204000" y="587700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278880" y="642636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943600" y="58770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stic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>
            <a:hlinkClick r:id="rId3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0" y="620640"/>
            <a:ext cx="9144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sample of 180 teenagers were asked their opinions on 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V series the “Simpsons” &amp; the movie “Shrek” and their responses were displayed in the following table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4"/>
          <a:stretch/>
        </p:blipFill>
        <p:spPr>
          <a:xfrm>
            <a:off x="6781680" y="1447920"/>
            <a:ext cx="1874880" cy="2133360"/>
          </a:xfrm>
          <a:prstGeom prst="rect">
            <a:avLst/>
          </a:prstGeom>
          <a:ln w="0">
            <a:noFill/>
          </a:ln>
        </p:spPr>
      </p:pic>
      <p:grpSp>
        <p:nvGrpSpPr>
          <p:cNvPr id="637" name=""/>
          <p:cNvGrpSpPr/>
          <p:nvPr/>
        </p:nvGrpSpPr>
        <p:grpSpPr>
          <a:xfrm>
            <a:off x="3124080" y="1295280"/>
            <a:ext cx="3809880" cy="2743200"/>
            <a:chOff x="3124080" y="1295280"/>
            <a:chExt cx="3809880" cy="2743200"/>
          </a:xfrm>
        </p:grpSpPr>
        <p:grpSp>
          <p:nvGrpSpPr>
            <p:cNvPr id="638" name=""/>
            <p:cNvGrpSpPr/>
            <p:nvPr/>
          </p:nvGrpSpPr>
          <p:grpSpPr>
            <a:xfrm>
              <a:off x="3124080" y="1295280"/>
              <a:ext cx="3581280" cy="2743200"/>
              <a:chOff x="3124080" y="1295280"/>
              <a:chExt cx="3581280" cy="2743200"/>
            </a:xfrm>
          </p:grpSpPr>
          <p:grpSp>
            <p:nvGrpSpPr>
              <p:cNvPr id="639" name=""/>
              <p:cNvGrpSpPr/>
              <p:nvPr/>
            </p:nvGrpSpPr>
            <p:grpSpPr>
              <a:xfrm>
                <a:off x="3124080" y="1295280"/>
                <a:ext cx="3581280" cy="2743200"/>
                <a:chOff x="3124080" y="1295280"/>
                <a:chExt cx="3581280" cy="274320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3124080" y="1295280"/>
                  <a:ext cx="3581280" cy="2743200"/>
                </a:xfrm>
                <a:prstGeom prst="rect">
                  <a:avLst/>
                </a:prstGeom>
                <a:solidFill>
                  <a:srgbClr val="cc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3124080" y="1981080"/>
                  <a:ext cx="3581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3124080" y="3066840"/>
                  <a:ext cx="3581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4138560" y="1295280"/>
                  <a:ext cx="0" cy="2743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5451840" y="1295280"/>
                  <a:ext cx="0" cy="2743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5" name=""/>
              <p:cNvSpPr/>
              <p:nvPr/>
            </p:nvSpPr>
            <p:spPr>
              <a:xfrm>
                <a:off x="4190760" y="1371600"/>
                <a:ext cx="1295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Like Simpso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200400" y="2209680"/>
                <a:ext cx="1143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Like Shre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486400" y="1371600"/>
                <a:ext cx="1143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Don’t like Simpso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124080" y="3276360"/>
                <a:ext cx="1143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Don’t like Shre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9" name=""/>
            <p:cNvSpPr/>
            <p:nvPr/>
          </p:nvSpPr>
          <p:spPr>
            <a:xfrm>
              <a:off x="4343400" y="22096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2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715000" y="320040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419360" y="320040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562360" y="220968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3" name="" descr=""/>
          <p:cNvPicPr/>
          <p:nvPr/>
        </p:nvPicPr>
        <p:blipFill>
          <a:blip r:embed="rId5"/>
          <a:stretch/>
        </p:blipFill>
        <p:spPr>
          <a:xfrm>
            <a:off x="228600" y="1752480"/>
            <a:ext cx="2771640" cy="172404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7380360" y="4005360"/>
            <a:ext cx="93672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7616880" y="4941720"/>
            <a:ext cx="607680" cy="510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820120" y="5373720"/>
            <a:ext cx="531360" cy="510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292720" y="6453360"/>
            <a:ext cx="153864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500"/>
                            </p:stCondLst>
                            <p:childTnLst>
                              <p:par>
                                <p:cTn id="5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2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661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66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3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8652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>
            <a:hlinkClick r:id="rId2" action="ppaction://hlinksldjump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75528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8364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3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>
            <a:hlinkClick r:id="rId3" action="ppaction://hlinksldjump"/>
          </p:cNvPr>
          <p:cNvSpPr/>
          <p:nvPr/>
        </p:nvSpPr>
        <p:spPr>
          <a:xfrm>
            <a:off x="25092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" y="59500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stic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>
            <a:hlinkClick r:id="rId4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995640" y="189000"/>
            <a:ext cx="489744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Use P = no of favourable / no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114480" y="476280"/>
            <a:ext cx="3809880" cy="2743200"/>
            <a:chOff x="114480" y="476280"/>
            <a:chExt cx="3809880" cy="2743200"/>
          </a:xfrm>
        </p:grpSpPr>
        <p:grpSp>
          <p:nvGrpSpPr>
            <p:cNvPr id="680" name=""/>
            <p:cNvGrpSpPr/>
            <p:nvPr/>
          </p:nvGrpSpPr>
          <p:grpSpPr>
            <a:xfrm>
              <a:off x="114480" y="476280"/>
              <a:ext cx="3581280" cy="2743200"/>
              <a:chOff x="114480" y="476280"/>
              <a:chExt cx="3581280" cy="2743200"/>
            </a:xfrm>
          </p:grpSpPr>
          <p:grpSp>
            <p:nvGrpSpPr>
              <p:cNvPr id="681" name=""/>
              <p:cNvGrpSpPr/>
              <p:nvPr/>
            </p:nvGrpSpPr>
            <p:grpSpPr>
              <a:xfrm>
                <a:off x="114480" y="476280"/>
                <a:ext cx="3581280" cy="2743200"/>
                <a:chOff x="114480" y="476280"/>
                <a:chExt cx="3581280" cy="2743200"/>
              </a:xfrm>
            </p:grpSpPr>
            <p:sp>
              <p:nvSpPr>
                <p:cNvPr id="682" name=""/>
                <p:cNvSpPr/>
                <p:nvPr/>
              </p:nvSpPr>
              <p:spPr>
                <a:xfrm>
                  <a:off x="114480" y="476280"/>
                  <a:ext cx="3581280" cy="2743200"/>
                </a:xfrm>
                <a:prstGeom prst="rect">
                  <a:avLst/>
                </a:prstGeom>
                <a:solidFill>
                  <a:srgbClr val="cc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114480" y="1162080"/>
                  <a:ext cx="3581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114480" y="2247840"/>
                  <a:ext cx="3581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1128960" y="476280"/>
                  <a:ext cx="0" cy="2743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2442240" y="476280"/>
                  <a:ext cx="0" cy="2743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7" name=""/>
              <p:cNvSpPr/>
              <p:nvPr/>
            </p:nvSpPr>
            <p:spPr>
              <a:xfrm>
                <a:off x="1181160" y="552600"/>
                <a:ext cx="1295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Like Simpso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90800" y="1390680"/>
                <a:ext cx="1143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Like Shre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476800" y="552600"/>
                <a:ext cx="1143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Don’t like Simpso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14480" y="2457360"/>
                <a:ext cx="1143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Don’t like Shre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1" name=""/>
            <p:cNvSpPr/>
            <p:nvPr/>
          </p:nvSpPr>
          <p:spPr>
            <a:xfrm>
              <a:off x="1333800" y="13906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2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705400" y="238140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409760" y="238140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552760" y="139068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-2880" y="3403440"/>
            <a:ext cx="40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What percentage liked Shr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but not the Simps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7380360" y="2781360"/>
            <a:ext cx="9144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067280" y="1341360"/>
            <a:ext cx="4752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ke Shrek but not Simpson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=  180 – 126 – 15 – 21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524480" y="24084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600440" y="2865600"/>
            <a:ext cx="403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 =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8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 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946920" y="285264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 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044240" y="831960"/>
            <a:ext cx="370404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: There are 180 in survey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8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705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70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7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9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0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8652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>
            <a:hlinkClick r:id="rId2" action="ppaction://hlinksldjump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75528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8364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3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>
            <a:hlinkClick r:id="rId3" action="ppaction://hlinksldjump"/>
          </p:cNvPr>
          <p:cNvSpPr/>
          <p:nvPr/>
        </p:nvSpPr>
        <p:spPr>
          <a:xfrm>
            <a:off x="25092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85800" y="59500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stic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>
            <a:hlinkClick r:id="rId4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995640" y="189000"/>
            <a:ext cx="489744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Use P = no of favourable / no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114480" y="476280"/>
            <a:ext cx="3809880" cy="2743200"/>
            <a:chOff x="114480" y="476280"/>
            <a:chExt cx="3809880" cy="2743200"/>
          </a:xfrm>
        </p:grpSpPr>
        <p:grpSp>
          <p:nvGrpSpPr>
            <p:cNvPr id="724" name=""/>
            <p:cNvGrpSpPr/>
            <p:nvPr/>
          </p:nvGrpSpPr>
          <p:grpSpPr>
            <a:xfrm>
              <a:off x="114480" y="476280"/>
              <a:ext cx="3581280" cy="2743200"/>
              <a:chOff x="114480" y="476280"/>
              <a:chExt cx="3581280" cy="2743200"/>
            </a:xfrm>
          </p:grpSpPr>
          <p:grpSp>
            <p:nvGrpSpPr>
              <p:cNvPr id="725" name=""/>
              <p:cNvGrpSpPr/>
              <p:nvPr/>
            </p:nvGrpSpPr>
            <p:grpSpPr>
              <a:xfrm>
                <a:off x="114480" y="476280"/>
                <a:ext cx="3581280" cy="2743200"/>
                <a:chOff x="114480" y="476280"/>
                <a:chExt cx="3581280" cy="2743200"/>
              </a:xfrm>
            </p:grpSpPr>
            <p:sp>
              <p:nvSpPr>
                <p:cNvPr id="726" name=""/>
                <p:cNvSpPr/>
                <p:nvPr/>
              </p:nvSpPr>
              <p:spPr>
                <a:xfrm>
                  <a:off x="114480" y="476280"/>
                  <a:ext cx="3581280" cy="2743200"/>
                </a:xfrm>
                <a:prstGeom prst="rect">
                  <a:avLst/>
                </a:prstGeom>
                <a:solidFill>
                  <a:srgbClr val="cc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114480" y="1162080"/>
                  <a:ext cx="3581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114480" y="2247840"/>
                  <a:ext cx="3581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1128960" y="476280"/>
                  <a:ext cx="0" cy="2743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2442240" y="476280"/>
                  <a:ext cx="0" cy="2743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1" name=""/>
              <p:cNvSpPr/>
              <p:nvPr/>
            </p:nvSpPr>
            <p:spPr>
              <a:xfrm>
                <a:off x="1181160" y="552600"/>
                <a:ext cx="1295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Like Simpso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190800" y="1390680"/>
                <a:ext cx="1143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Like Shre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476800" y="552600"/>
                <a:ext cx="1143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Don’t like Simpso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14480" y="2457360"/>
                <a:ext cx="1143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Don’t like Shre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5" name=""/>
            <p:cNvSpPr/>
            <p:nvPr/>
          </p:nvSpPr>
          <p:spPr>
            <a:xfrm>
              <a:off x="1333800" y="13906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2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705400" y="238140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409760" y="238140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552760" y="139068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"/>
          <p:cNvSpPr/>
          <p:nvPr/>
        </p:nvSpPr>
        <p:spPr>
          <a:xfrm>
            <a:off x="0" y="328464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what is the probability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buClr>
                <a:srgbClr val="ff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they liked the Simpsons b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not Shre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7467480" y="831960"/>
            <a:ext cx="9144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267080" y="907920"/>
            <a:ext cx="448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b)(i)   Prob =   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180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7030800" y="907920"/>
            <a:ext cx="116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  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746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74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8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0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8652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>
            <a:hlinkClick r:id="" action="ppaction://hlinkshowjump?jump=nextslide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5528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8364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3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>
            <a:hlinkClick r:id="rId2" action="ppaction://hlinksldjump"/>
          </p:cNvPr>
          <p:cNvSpPr/>
          <p:nvPr/>
        </p:nvSpPr>
        <p:spPr>
          <a:xfrm>
            <a:off x="25092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59500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stic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>
            <a:hlinkClick r:id="rId3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995640" y="189000"/>
            <a:ext cx="489744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Use P = no of favourable / no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114480" y="476280"/>
            <a:ext cx="3809880" cy="2743200"/>
            <a:chOff x="114480" y="476280"/>
            <a:chExt cx="3809880" cy="2743200"/>
          </a:xfrm>
        </p:grpSpPr>
        <p:grpSp>
          <p:nvGrpSpPr>
            <p:cNvPr id="765" name=""/>
            <p:cNvGrpSpPr/>
            <p:nvPr/>
          </p:nvGrpSpPr>
          <p:grpSpPr>
            <a:xfrm>
              <a:off x="114480" y="476280"/>
              <a:ext cx="3581280" cy="2743200"/>
              <a:chOff x="114480" y="476280"/>
              <a:chExt cx="3581280" cy="2743200"/>
            </a:xfrm>
          </p:grpSpPr>
          <p:grpSp>
            <p:nvGrpSpPr>
              <p:cNvPr id="766" name=""/>
              <p:cNvGrpSpPr/>
              <p:nvPr/>
            </p:nvGrpSpPr>
            <p:grpSpPr>
              <a:xfrm>
                <a:off x="114480" y="476280"/>
                <a:ext cx="3581280" cy="2743200"/>
                <a:chOff x="114480" y="476280"/>
                <a:chExt cx="3581280" cy="274320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114480" y="476280"/>
                  <a:ext cx="3581280" cy="2743200"/>
                </a:xfrm>
                <a:prstGeom prst="rect">
                  <a:avLst/>
                </a:prstGeom>
                <a:solidFill>
                  <a:srgbClr val="cc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114480" y="1162080"/>
                  <a:ext cx="3581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114480" y="2247840"/>
                  <a:ext cx="3581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1128960" y="476280"/>
                  <a:ext cx="0" cy="2743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2442240" y="476280"/>
                  <a:ext cx="0" cy="2743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2" name=""/>
              <p:cNvSpPr/>
              <p:nvPr/>
            </p:nvSpPr>
            <p:spPr>
              <a:xfrm>
                <a:off x="1181160" y="552600"/>
                <a:ext cx="1295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Like Simpso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90800" y="1390680"/>
                <a:ext cx="1143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Like Shre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2476800" y="552600"/>
                <a:ext cx="1143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Don’t like Simpso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14480" y="2457360"/>
                <a:ext cx="1143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Don’t like Shre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6" name=""/>
            <p:cNvSpPr/>
            <p:nvPr/>
          </p:nvSpPr>
          <p:spPr>
            <a:xfrm>
              <a:off x="1333800" y="13906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2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705400" y="238140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409760" y="238140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552760" y="139068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"/>
          <p:cNvSpPr/>
          <p:nvPr/>
        </p:nvSpPr>
        <p:spPr>
          <a:xfrm>
            <a:off x="392400" y="3475080"/>
            <a:ext cx="28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ii) they liked neith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7419960" y="755640"/>
            <a:ext cx="9144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067280" y="907920"/>
            <a:ext cx="4876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b)(ii)   Prob =   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180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983280" y="831960"/>
            <a:ext cx="108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 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425120" y="314172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0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9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786" name=""/>
          <p:cNvSpPr/>
          <p:nvPr/>
        </p:nvSpPr>
        <p:spPr>
          <a:xfrm>
            <a:off x="6085440" y="-255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>
            <a:hlinkClick r:id="rId2" action="ppaction://hlinksldjump"/>
          </p:cNvPr>
          <p:cNvSpPr/>
          <p:nvPr/>
        </p:nvSpPr>
        <p:spPr>
          <a:xfrm>
            <a:off x="637236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807240" y="59500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stic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>
            <a:hlinkClick r:id="rId3"/>
          </p:cNvPr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836640"/>
            <a:ext cx="489744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Use P = no of favourable / no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384720" y="3429000"/>
            <a:ext cx="9144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71280" y="1989000"/>
            <a:ext cx="6400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ke Shrek but not Simpson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=  180 – 126 – 15 –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28480" y="305604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604800" y="3513240"/>
            <a:ext cx="40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 =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8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 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951280" y="35002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 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48240" y="1479600"/>
            <a:ext cx="370404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: There are 180 in survey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175000" y="739800"/>
            <a:ext cx="3772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To change a fraction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%  multiply by 100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828760" y="1531800"/>
            <a:ext cx="60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617880" y="1676520"/>
            <a:ext cx="238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             x  100%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000200" y="1584360"/>
            <a:ext cx="60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2842920" y="981000"/>
            <a:ext cx="2376360" cy="2519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5940360" y="184464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093080" y="191628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809" name=""/>
          <p:cNvSpPr/>
          <p:nvPr/>
        </p:nvSpPr>
        <p:spPr>
          <a:xfrm>
            <a:off x="6085440" y="-255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>
            <a:hlinkClick r:id="rId2" action="ppaction://hlinksldjump"/>
          </p:cNvPr>
          <p:cNvSpPr/>
          <p:nvPr/>
        </p:nvSpPr>
        <p:spPr>
          <a:xfrm>
            <a:off x="637236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807240" y="59500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stic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>
            <a:hlinkClick r:id="rId3"/>
          </p:cNvPr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0" y="907920"/>
            <a:ext cx="489744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Use P = no of favourable / no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471840" y="1550880"/>
            <a:ext cx="9144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71440" y="162720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b)(i)   Prob =   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180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008160" y="1628640"/>
            <a:ext cx="116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  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H="1">
            <a:off x="3058920" y="981000"/>
            <a:ext cx="2160360" cy="576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292360" y="1303200"/>
            <a:ext cx="17139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ability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4719600" y="2174760"/>
            <a:ext cx="4518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favourable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possible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788000" y="2606760"/>
            <a:ext cx="435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856040" y="549360"/>
            <a:ext cx="419328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alculate simple probabil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7" dur="80"/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8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9" dur="80"/>
                                        <p:tgtEl>
                                          <p:spTgt spid="8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780"/>
                            </p:stCondLst>
                            <p:childTnLst>
                              <p:par>
                                <p:cTn id="6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2280"/>
                            </p:stCondLst>
                            <p:childTnLst>
                              <p:par>
                                <p:cTn id="6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2780"/>
                            </p:stCondLst>
                            <p:childTnLst>
                              <p:par>
                                <p:cTn id="6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468360" y="4394160"/>
            <a:ext cx="75438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a combination is selected at random what is the probability that it is 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TATISTICS : Question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>
            <a:hlinkClick r:id="rId1" action="ppaction://hlinksldjump"/>
          </p:cNvPr>
          <p:cNvSpPr/>
          <p:nvPr/>
        </p:nvSpPr>
        <p:spPr>
          <a:xfrm>
            <a:off x="6948360" y="8082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>
            <a:hlinkClick r:id="rId2" action="ppaction://hlinksldjump"/>
          </p:cNvPr>
          <p:cNvSpPr/>
          <p:nvPr/>
        </p:nvSpPr>
        <p:spPr>
          <a:xfrm>
            <a:off x="6948360" y="141120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>
            <a:hlinkClick r:id="rId3" action="ppaction://hlinksldjump"/>
          </p:cNvPr>
          <p:cNvSpPr/>
          <p:nvPr/>
        </p:nvSpPr>
        <p:spPr>
          <a:xfrm>
            <a:off x="6948360" y="19875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>
            <a:hlinkClick r:id="rId4" action="ppaction://hlinksldjump"/>
          </p:cNvPr>
          <p:cNvSpPr/>
          <p:nvPr/>
        </p:nvSpPr>
        <p:spPr>
          <a:xfrm>
            <a:off x="6948360" y="267984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7536240" y="141120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7539840" y="198756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7539120" y="267984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7606800" y="83664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veal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>
            <a:hlinkClick r:id="rId5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>
            <a:hlinkClick r:id="" action="ppaction://hlinkshowjump?jump=nextslide"/>
          </p:cNvPr>
          <p:cNvSpPr/>
          <p:nvPr/>
        </p:nvSpPr>
        <p:spPr>
          <a:xfrm>
            <a:off x="6948360" y="26028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7538040" y="26028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h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0" y="620640"/>
            <a:ext cx="8915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a college course you have to pick a language plus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isure activity from the following 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395280" y="1555920"/>
            <a:ext cx="3124080" cy="1981080"/>
            <a:chOff x="395280" y="1555920"/>
            <a:chExt cx="3124080" cy="1981080"/>
          </a:xfrm>
        </p:grpSpPr>
        <p:grpSp>
          <p:nvGrpSpPr>
            <p:cNvPr id="842" name=""/>
            <p:cNvGrpSpPr/>
            <p:nvPr/>
          </p:nvGrpSpPr>
          <p:grpSpPr>
            <a:xfrm>
              <a:off x="395280" y="1555920"/>
              <a:ext cx="2057400" cy="1981080"/>
              <a:chOff x="395280" y="1555920"/>
              <a:chExt cx="2057400" cy="1981080"/>
            </a:xfrm>
          </p:grpSpPr>
          <p:sp>
            <p:nvSpPr>
              <p:cNvPr id="843" name=""/>
              <p:cNvSpPr/>
              <p:nvPr/>
            </p:nvSpPr>
            <p:spPr>
              <a:xfrm>
                <a:off x="395280" y="1555920"/>
                <a:ext cx="2057400" cy="19810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95280" y="1895400"/>
                <a:ext cx="205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5" name=""/>
            <p:cNvSpPr/>
            <p:nvPr/>
          </p:nvSpPr>
          <p:spPr>
            <a:xfrm>
              <a:off x="547560" y="1555920"/>
              <a:ext cx="243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ANGU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99840" y="193680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RENC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99840" y="239400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ERM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99840" y="2851200"/>
              <a:ext cx="281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PANIS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3924360" y="1484280"/>
            <a:ext cx="2819160" cy="2362320"/>
            <a:chOff x="3924360" y="1484280"/>
            <a:chExt cx="2819160" cy="2362320"/>
          </a:xfrm>
        </p:grpSpPr>
        <p:grpSp>
          <p:nvGrpSpPr>
            <p:cNvPr id="850" name=""/>
            <p:cNvGrpSpPr/>
            <p:nvPr/>
          </p:nvGrpSpPr>
          <p:grpSpPr>
            <a:xfrm>
              <a:off x="3924360" y="1484280"/>
              <a:ext cx="2361960" cy="2362320"/>
              <a:chOff x="3924360" y="1484280"/>
              <a:chExt cx="2361960" cy="2362320"/>
            </a:xfrm>
          </p:grpSpPr>
          <p:sp>
            <p:nvSpPr>
              <p:cNvPr id="851" name=""/>
              <p:cNvSpPr/>
              <p:nvPr/>
            </p:nvSpPr>
            <p:spPr>
              <a:xfrm>
                <a:off x="3924360" y="1484280"/>
                <a:ext cx="2361960" cy="236232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924360" y="1888920"/>
                <a:ext cx="2361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3" name=""/>
            <p:cNvSpPr/>
            <p:nvPr/>
          </p:nvSpPr>
          <p:spPr>
            <a:xfrm>
              <a:off x="4305240" y="1484280"/>
              <a:ext cx="243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EIS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228920" y="19414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US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228920" y="232236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IDEO PRODU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28920" y="300816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ASKETBA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228920" y="3389400"/>
              <a:ext cx="221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WIMM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8" name=""/>
          <p:cNvSpPr/>
          <p:nvPr/>
        </p:nvSpPr>
        <p:spPr>
          <a:xfrm>
            <a:off x="468360" y="3860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 Make a list of all possible combinations of cour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1990800" y="52117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)    Includes Spanis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2004840" y="5697360"/>
            <a:ext cx="54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i)   Includes swimm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2004840" y="623088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ii)  Doesn’t include French but includes musi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/>
          <p:nvPr/>
        </p:nvSpPr>
        <p:spPr>
          <a:xfrm>
            <a:off x="468360" y="4394160"/>
            <a:ext cx="75438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a combination is selected at random what is the probability that it is 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TATISTICS : Question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>
            <a:hlinkClick r:id="" action="ppaction://hlinkshowjump?jump=nextslide"/>
          </p:cNvPr>
          <p:cNvSpPr/>
          <p:nvPr/>
        </p:nvSpPr>
        <p:spPr>
          <a:xfrm>
            <a:off x="6948360" y="8082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>
            <a:hlinkClick r:id="rId1" action="ppaction://hlinksldjump"/>
          </p:cNvPr>
          <p:cNvSpPr/>
          <p:nvPr/>
        </p:nvSpPr>
        <p:spPr>
          <a:xfrm>
            <a:off x="6948360" y="141120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>
            <a:hlinkClick r:id="rId2" action="ppaction://hlinksldjump"/>
          </p:cNvPr>
          <p:cNvSpPr/>
          <p:nvPr/>
        </p:nvSpPr>
        <p:spPr>
          <a:xfrm>
            <a:off x="6948360" y="19875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>
            <a:hlinkClick r:id="rId3" action="ppaction://hlinksldjump"/>
          </p:cNvPr>
          <p:cNvSpPr/>
          <p:nvPr/>
        </p:nvSpPr>
        <p:spPr>
          <a:xfrm>
            <a:off x="6948360" y="267984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536240" y="141120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539840" y="198756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539120" y="267984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606800" y="83664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veal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>
            <a:hlinkClick r:id="rId4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0" y="620640"/>
            <a:ext cx="8915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a college course you have to pick a language plus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isure activity from the following 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395280" y="1555920"/>
            <a:ext cx="3124080" cy="1981080"/>
            <a:chOff x="395280" y="1555920"/>
            <a:chExt cx="3124080" cy="1981080"/>
          </a:xfrm>
        </p:grpSpPr>
        <p:grpSp>
          <p:nvGrpSpPr>
            <p:cNvPr id="876" name=""/>
            <p:cNvGrpSpPr/>
            <p:nvPr/>
          </p:nvGrpSpPr>
          <p:grpSpPr>
            <a:xfrm>
              <a:off x="395280" y="1555920"/>
              <a:ext cx="2057400" cy="1981080"/>
              <a:chOff x="395280" y="1555920"/>
              <a:chExt cx="2057400" cy="1981080"/>
            </a:xfrm>
          </p:grpSpPr>
          <p:sp>
            <p:nvSpPr>
              <p:cNvPr id="877" name=""/>
              <p:cNvSpPr/>
              <p:nvPr/>
            </p:nvSpPr>
            <p:spPr>
              <a:xfrm>
                <a:off x="395280" y="1555920"/>
                <a:ext cx="2057400" cy="19810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95280" y="1895400"/>
                <a:ext cx="205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"/>
            <p:cNvSpPr/>
            <p:nvPr/>
          </p:nvSpPr>
          <p:spPr>
            <a:xfrm>
              <a:off x="547560" y="1555920"/>
              <a:ext cx="243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ANGU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99840" y="193680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RENC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99840" y="239400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ERM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99840" y="2851200"/>
              <a:ext cx="281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PANIS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3924360" y="1484280"/>
            <a:ext cx="2819160" cy="2362320"/>
            <a:chOff x="3924360" y="1484280"/>
            <a:chExt cx="2819160" cy="2362320"/>
          </a:xfrm>
        </p:grpSpPr>
        <p:grpSp>
          <p:nvGrpSpPr>
            <p:cNvPr id="884" name=""/>
            <p:cNvGrpSpPr/>
            <p:nvPr/>
          </p:nvGrpSpPr>
          <p:grpSpPr>
            <a:xfrm>
              <a:off x="3924360" y="1484280"/>
              <a:ext cx="2361960" cy="2362320"/>
              <a:chOff x="3924360" y="1484280"/>
              <a:chExt cx="2361960" cy="2362320"/>
            </a:xfrm>
          </p:grpSpPr>
          <p:sp>
            <p:nvSpPr>
              <p:cNvPr id="885" name=""/>
              <p:cNvSpPr/>
              <p:nvPr/>
            </p:nvSpPr>
            <p:spPr>
              <a:xfrm>
                <a:off x="3924360" y="1484280"/>
                <a:ext cx="2361960" cy="236232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924360" y="1888920"/>
                <a:ext cx="2361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7" name=""/>
            <p:cNvSpPr/>
            <p:nvPr/>
          </p:nvSpPr>
          <p:spPr>
            <a:xfrm>
              <a:off x="4305240" y="1484280"/>
              <a:ext cx="243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EIS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228920" y="19414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US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228920" y="232236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IDEO PRODU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228920" y="300816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ASKETBA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228920" y="3389400"/>
              <a:ext cx="221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WIMM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468360" y="3860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 Make a list of all possible combinations of cour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1990800" y="52117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)    Includes Spanis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004840" y="5697360"/>
            <a:ext cx="54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i)   Includes swimm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004840" y="623088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ii)  Doesn’t include French but includes musi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767640" y="3500280"/>
            <a:ext cx="2376360" cy="1943280"/>
          </a:xfrm>
          <a:prstGeom prst="cloudCallout">
            <a:avLst>
              <a:gd name="adj1" fmla="val -77319"/>
              <a:gd name="adj2" fmla="val -11518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a tree diagram &amp; “branch out” with each langu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364000" y="4724280"/>
            <a:ext cx="3602160" cy="1511280"/>
          </a:xfrm>
          <a:prstGeom prst="cloudCallout">
            <a:avLst>
              <a:gd name="adj1" fmla="val -31444"/>
              <a:gd name="adj2" fmla="val -78152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each language “branch out” with each leisure activ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6659640" y="4221000"/>
            <a:ext cx="2160360" cy="1729080"/>
          </a:xfrm>
          <a:prstGeom prst="cloudCallout">
            <a:avLst>
              <a:gd name="adj1" fmla="val -86444"/>
              <a:gd name="adj2" fmla="val -5193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w list the pairs of subjec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4896000" y="4653000"/>
            <a:ext cx="4248000" cy="1728720"/>
          </a:xfrm>
          <a:prstGeom prst="cloudCallout">
            <a:avLst>
              <a:gd name="adj1" fmla="val -68981"/>
              <a:gd name="adj2" fmla="val -1161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your list of possible combinations to find proba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4856760" y="18900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5" dur="500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6" dur="500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7" dur="500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500"/>
                            </p:stCondLst>
                            <p:childTnLst>
                              <p:par>
                                <p:cTn id="7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000"/>
                            </p:stCondLst>
                            <p:childTnLst>
                              <p:par>
                                <p:cTn id="7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8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468360" y="4394160"/>
            <a:ext cx="75438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a combination is selected at random what is the probability that it is 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TATISTICS : Question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>
            <a:hlinkClick r:id="" action="ppaction://hlinkshowjump?jump=nextslide"/>
          </p:cNvPr>
          <p:cNvSpPr/>
          <p:nvPr/>
        </p:nvSpPr>
        <p:spPr>
          <a:xfrm>
            <a:off x="6948360" y="141120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>
            <a:hlinkClick r:id="rId1" action="ppaction://hlinksldjump"/>
          </p:cNvPr>
          <p:cNvSpPr/>
          <p:nvPr/>
        </p:nvSpPr>
        <p:spPr>
          <a:xfrm>
            <a:off x="6948360" y="19875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>
            <a:hlinkClick r:id="rId2" action="ppaction://hlinksldjump"/>
          </p:cNvPr>
          <p:cNvSpPr/>
          <p:nvPr/>
        </p:nvSpPr>
        <p:spPr>
          <a:xfrm>
            <a:off x="6948360" y="267984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7536240" y="141120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7539840" y="198756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7539120" y="267984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>
            <a:hlinkClick r:id="rId3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0" y="620640"/>
            <a:ext cx="8915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a college course you have to pick a language plus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isure activity from the following 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95280" y="1555920"/>
            <a:ext cx="3124080" cy="1981080"/>
            <a:chOff x="395280" y="1555920"/>
            <a:chExt cx="3124080" cy="1981080"/>
          </a:xfrm>
        </p:grpSpPr>
        <p:grpSp>
          <p:nvGrpSpPr>
            <p:cNvPr id="913" name=""/>
            <p:cNvGrpSpPr/>
            <p:nvPr/>
          </p:nvGrpSpPr>
          <p:grpSpPr>
            <a:xfrm>
              <a:off x="395280" y="1555920"/>
              <a:ext cx="2057400" cy="1981080"/>
              <a:chOff x="395280" y="1555920"/>
              <a:chExt cx="2057400" cy="1981080"/>
            </a:xfrm>
          </p:grpSpPr>
          <p:sp>
            <p:nvSpPr>
              <p:cNvPr id="914" name=""/>
              <p:cNvSpPr/>
              <p:nvPr/>
            </p:nvSpPr>
            <p:spPr>
              <a:xfrm>
                <a:off x="395280" y="1555920"/>
                <a:ext cx="2057400" cy="19810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95280" y="1895400"/>
                <a:ext cx="205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"/>
            <p:cNvSpPr/>
            <p:nvPr/>
          </p:nvSpPr>
          <p:spPr>
            <a:xfrm>
              <a:off x="547560" y="1555920"/>
              <a:ext cx="243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ANGU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99840" y="193680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RENC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99840" y="239400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ERM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99840" y="2851200"/>
              <a:ext cx="281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PANIS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3924360" y="1484280"/>
            <a:ext cx="2819160" cy="2362320"/>
            <a:chOff x="3924360" y="1484280"/>
            <a:chExt cx="2819160" cy="2362320"/>
          </a:xfrm>
        </p:grpSpPr>
        <p:grpSp>
          <p:nvGrpSpPr>
            <p:cNvPr id="921" name=""/>
            <p:cNvGrpSpPr/>
            <p:nvPr/>
          </p:nvGrpSpPr>
          <p:grpSpPr>
            <a:xfrm>
              <a:off x="3924360" y="1484280"/>
              <a:ext cx="2361960" cy="2362320"/>
              <a:chOff x="3924360" y="1484280"/>
              <a:chExt cx="2361960" cy="2362320"/>
            </a:xfrm>
          </p:grpSpPr>
          <p:sp>
            <p:nvSpPr>
              <p:cNvPr id="922" name=""/>
              <p:cNvSpPr/>
              <p:nvPr/>
            </p:nvSpPr>
            <p:spPr>
              <a:xfrm>
                <a:off x="3924360" y="1484280"/>
                <a:ext cx="2361960" cy="236232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924360" y="1888920"/>
                <a:ext cx="2361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"/>
            <p:cNvSpPr/>
            <p:nvPr/>
          </p:nvSpPr>
          <p:spPr>
            <a:xfrm>
              <a:off x="4305240" y="1484280"/>
              <a:ext cx="243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EIS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228920" y="19414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US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228920" y="232236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IDEO PRODU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228920" y="300816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ASKETBA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228920" y="3389400"/>
              <a:ext cx="221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WIMM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9" name=""/>
          <p:cNvSpPr/>
          <p:nvPr/>
        </p:nvSpPr>
        <p:spPr>
          <a:xfrm>
            <a:off x="468360" y="386064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 Make a list of all possible combinations of cour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1990800" y="52117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)    Includes Spanis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004840" y="5697360"/>
            <a:ext cx="54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i)   Includes swimm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004840" y="6230880"/>
            <a:ext cx="652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ii)  Doesn’t include French but includes musi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580000" y="5132520"/>
            <a:ext cx="720720" cy="510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5580000" y="5734080"/>
            <a:ext cx="720720" cy="510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7740720" y="5805360"/>
            <a:ext cx="720720" cy="510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>
            <a:hlinkClick r:id="" action="ppaction://hlinkshowjump?jump=nextslide"/>
          </p:cNvPr>
          <p:cNvSpPr/>
          <p:nvPr/>
        </p:nvSpPr>
        <p:spPr>
          <a:xfrm>
            <a:off x="7451640" y="3860640"/>
            <a:ext cx="792360" cy="432000"/>
          </a:xfrm>
          <a:custGeom>
            <a:avLst/>
            <a:gdLst>
              <a:gd name="textAreaLeft" fmla="*/ 27720 w 792360"/>
              <a:gd name="textAreaRight" fmla="*/ 764640 w 792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603" h="21600">
                <a:moveTo>
                  <a:pt x="0" y="0"/>
                </a:moveTo>
                <a:lnTo>
                  <a:pt x="39603" y="0"/>
                </a:lnTo>
                <a:lnTo>
                  <a:pt x="39603" y="21600"/>
                </a:lnTo>
                <a:lnTo>
                  <a:pt x="0" y="21600"/>
                </a:lnTo>
                <a:close/>
              </a:path>
              <a:path fill="lightenLess" w="39603" h="21600">
                <a:moveTo>
                  <a:pt x="0" y="0"/>
                </a:moveTo>
                <a:lnTo>
                  <a:pt x="39603" y="0"/>
                </a:lnTo>
                <a:lnTo>
                  <a:pt x="38203" y="1400"/>
                </a:lnTo>
                <a:lnTo>
                  <a:pt x="1400" y="1400"/>
                </a:lnTo>
                <a:close/>
              </a:path>
              <a:path fill="darken" w="39603" h="21600">
                <a:moveTo>
                  <a:pt x="39603" y="0"/>
                </a:moveTo>
                <a:lnTo>
                  <a:pt x="39603" y="21600"/>
                </a:lnTo>
                <a:lnTo>
                  <a:pt x="38203" y="20200"/>
                </a:lnTo>
                <a:lnTo>
                  <a:pt x="38203" y="1400"/>
                </a:lnTo>
                <a:close/>
              </a:path>
              <a:path fill="darkenLess" w="39603" h="21600">
                <a:moveTo>
                  <a:pt x="396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03" y="20200"/>
                </a:lnTo>
                <a:close/>
              </a:path>
              <a:path fill="lighten" w="396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0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TATISTICS : Question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nextslide"/>
          </p:cNvPr>
          <p:cNvSpPr/>
          <p:nvPr/>
        </p:nvSpPr>
        <p:spPr>
          <a:xfrm>
            <a:off x="1908000" y="5157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1908000" y="580536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2" action="ppaction://hlinksldjump"/>
          </p:cNvPr>
          <p:cNvSpPr/>
          <p:nvPr/>
        </p:nvSpPr>
        <p:spPr>
          <a:xfrm>
            <a:off x="5724360" y="5084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3" action="ppaction://hlinksldjump"/>
          </p:cNvPr>
          <p:cNvSpPr/>
          <p:nvPr/>
        </p:nvSpPr>
        <p:spPr>
          <a:xfrm>
            <a:off x="5724360" y="573264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98560" y="580536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17800" y="508464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17080" y="573264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Statistic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02520" y="51577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answer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4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692280"/>
            <a:ext cx="8534160" cy="33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taxi company was phoned each night of the week and the response time in minutes of their cars were noted.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were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  Find the mean and standard deviation for this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)  A similar experiment was conducted with a seco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company.  The results for this were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n = 12    and   standard deviation = 1.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does the second company compare to the firs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5040360" y="1341360"/>
            <a:ext cx="4103640" cy="1944720"/>
            <a:chOff x="5040360" y="1341360"/>
            <a:chExt cx="4103640" cy="1944720"/>
          </a:xfrm>
        </p:grpSpPr>
        <p:sp>
          <p:nvSpPr>
            <p:cNvPr id="82" name=""/>
            <p:cNvSpPr/>
            <p:nvPr/>
          </p:nvSpPr>
          <p:spPr>
            <a:xfrm>
              <a:off x="5040360" y="1341360"/>
              <a:ext cx="4103640" cy="1944720"/>
            </a:xfrm>
            <a:prstGeom prst="cloudCallout">
              <a:avLst>
                <a:gd name="adj1" fmla="val -43731"/>
                <a:gd name="adj2" fmla="val 118814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3" name=""/>
            <p:cNvGraphicFramePr/>
            <p:nvPr/>
          </p:nvGraphicFramePr>
          <p:xfrm>
            <a:off x="5903640" y="1701720"/>
            <a:ext cx="2016000" cy="1069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903640" y="1701720"/>
                      <a:ext cx="2016000" cy="106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5" name=""/>
          <p:cNvSpPr/>
          <p:nvPr/>
        </p:nvSpPr>
        <p:spPr>
          <a:xfrm>
            <a:off x="2411280" y="1125360"/>
            <a:ext cx="3240360" cy="2592720"/>
          </a:xfrm>
          <a:prstGeom prst="cloudCallout">
            <a:avLst>
              <a:gd name="adj1" fmla="val -12615"/>
              <a:gd name="adj2" fmla="val 10333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w a table comparing data to me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square val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0" y="1268280"/>
            <a:ext cx="3960720" cy="2592360"/>
            <a:chOff x="0" y="1268280"/>
            <a:chExt cx="3960720" cy="2592360"/>
          </a:xfrm>
        </p:grpSpPr>
        <p:sp>
          <p:nvSpPr>
            <p:cNvPr id="87" name=""/>
            <p:cNvSpPr/>
            <p:nvPr/>
          </p:nvSpPr>
          <p:spPr>
            <a:xfrm>
              <a:off x="0" y="1268280"/>
              <a:ext cx="3960720" cy="2592360"/>
            </a:xfrm>
            <a:prstGeom prst="cloudCallout">
              <a:avLst>
                <a:gd name="adj1" fmla="val -18777"/>
                <a:gd name="adj2" fmla="val 107194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8" name=""/>
            <p:cNvGraphicFramePr/>
            <p:nvPr/>
          </p:nvGraphicFramePr>
          <p:xfrm>
            <a:off x="502920" y="1915920"/>
            <a:ext cx="2663640" cy="1446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02920" y="1915920"/>
                      <a:ext cx="2663640" cy="144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0" name=""/>
          <p:cNvSpPr/>
          <p:nvPr/>
        </p:nvSpPr>
        <p:spPr>
          <a:xfrm>
            <a:off x="4716360" y="2349360"/>
            <a:ext cx="4248360" cy="2881440"/>
          </a:xfrm>
          <a:prstGeom prst="cloudCallout">
            <a:avLst>
              <a:gd name="adj1" fmla="val -114388"/>
              <a:gd name="adj2" fmla="val 3799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comparing data sets always make comment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e avera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which is bigger etc.)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d 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rea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97840" y="623736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0" y="0"/>
            <a:ext cx="6248520" cy="6324480"/>
          </a:xfrm>
          <a:prstGeom prst="rect">
            <a:avLst/>
          </a:prstGeom>
          <a:solidFill>
            <a:srgbClr val="ff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04920" y="3124080"/>
            <a:ext cx="228600" cy="22860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9" name=""/>
          <p:cNvGrpSpPr/>
          <p:nvPr/>
        </p:nvGrpSpPr>
        <p:grpSpPr>
          <a:xfrm>
            <a:off x="533520" y="2895480"/>
            <a:ext cx="2514240" cy="380880"/>
            <a:chOff x="533520" y="2895480"/>
            <a:chExt cx="2514240" cy="380880"/>
          </a:xfrm>
        </p:grpSpPr>
        <p:sp>
          <p:nvSpPr>
            <p:cNvPr id="940" name=""/>
            <p:cNvSpPr/>
            <p:nvPr/>
          </p:nvSpPr>
          <p:spPr>
            <a:xfrm>
              <a:off x="533520" y="3276360"/>
              <a:ext cx="2142000" cy="0"/>
            </a:xfrm>
            <a:prstGeom prst="line">
              <a:avLst/>
            </a:prstGeom>
            <a:ln w="572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812880" y="2895480"/>
              <a:ext cx="223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ff"/>
                  </a:solidFill>
                  <a:latin typeface="Times New Roman"/>
                </a:rPr>
                <a:t>GERM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455760" y="678240"/>
            <a:ext cx="2593440" cy="2445480"/>
            <a:chOff x="455760" y="678240"/>
            <a:chExt cx="2593440" cy="2445480"/>
          </a:xfrm>
        </p:grpSpPr>
        <p:grpSp>
          <p:nvGrpSpPr>
            <p:cNvPr id="943" name=""/>
            <p:cNvGrpSpPr/>
            <p:nvPr/>
          </p:nvGrpSpPr>
          <p:grpSpPr>
            <a:xfrm>
              <a:off x="455760" y="678240"/>
              <a:ext cx="2593440" cy="500760"/>
              <a:chOff x="455760" y="678240"/>
              <a:chExt cx="2593440" cy="500760"/>
            </a:xfrm>
          </p:grpSpPr>
          <p:sp>
            <p:nvSpPr>
              <p:cNvPr id="944" name=""/>
              <p:cNvSpPr/>
              <p:nvPr/>
            </p:nvSpPr>
            <p:spPr>
              <a:xfrm>
                <a:off x="455760" y="1166040"/>
                <a:ext cx="2207160" cy="12960"/>
              </a:xfrm>
              <a:prstGeom prst="line">
                <a:avLst/>
              </a:prstGeom>
              <a:ln w="57240">
                <a:solidFill>
                  <a:srgbClr val="99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rot="20400">
                <a:off x="744840" y="684720"/>
                <a:ext cx="2302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9933ff"/>
                    </a:solidFill>
                    <a:latin typeface="Times New Roman"/>
                  </a:rPr>
                  <a:t>FRENC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6" name=""/>
            <p:cNvSpPr/>
            <p:nvPr/>
          </p:nvSpPr>
          <p:spPr>
            <a:xfrm>
              <a:off x="458640" y="1180440"/>
              <a:ext cx="0" cy="1943280"/>
            </a:xfrm>
            <a:prstGeom prst="line">
              <a:avLst/>
            </a:prstGeom>
            <a:ln w="572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457200" y="3352320"/>
            <a:ext cx="2511000" cy="1981080"/>
            <a:chOff x="457200" y="3352320"/>
            <a:chExt cx="2511000" cy="1981080"/>
          </a:xfrm>
        </p:grpSpPr>
        <p:grpSp>
          <p:nvGrpSpPr>
            <p:cNvPr id="948" name=""/>
            <p:cNvGrpSpPr/>
            <p:nvPr/>
          </p:nvGrpSpPr>
          <p:grpSpPr>
            <a:xfrm>
              <a:off x="457200" y="4855680"/>
              <a:ext cx="2511000" cy="475920"/>
              <a:chOff x="457200" y="4855680"/>
              <a:chExt cx="2511000" cy="475920"/>
            </a:xfrm>
          </p:grpSpPr>
          <p:sp>
            <p:nvSpPr>
              <p:cNvPr id="949" name=""/>
              <p:cNvSpPr/>
              <p:nvPr/>
            </p:nvSpPr>
            <p:spPr>
              <a:xfrm flipV="1">
                <a:off x="457200" y="5330880"/>
                <a:ext cx="2142360" cy="720"/>
              </a:xfrm>
              <a:prstGeom prst="line">
                <a:avLst/>
              </a:prstGeom>
              <a:ln w="57240">
                <a:solidFill>
                  <a:srgbClr val="99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rot="21598800">
                <a:off x="732960" y="4855680"/>
                <a:ext cx="223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9933ff"/>
                    </a:solidFill>
                    <a:latin typeface="Times New Roman"/>
                  </a:rPr>
                  <a:t>SPANIS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1" name=""/>
            <p:cNvSpPr/>
            <p:nvPr/>
          </p:nvSpPr>
          <p:spPr>
            <a:xfrm flipV="1">
              <a:off x="459000" y="3352320"/>
              <a:ext cx="0" cy="1981080"/>
            </a:xfrm>
            <a:prstGeom prst="line">
              <a:avLst/>
            </a:prstGeom>
            <a:ln w="572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"/>
          <p:cNvGrpSpPr/>
          <p:nvPr/>
        </p:nvGrpSpPr>
        <p:grpSpPr>
          <a:xfrm>
            <a:off x="2590920" y="146880"/>
            <a:ext cx="1980720" cy="1769040"/>
            <a:chOff x="2590920" y="146880"/>
            <a:chExt cx="1980720" cy="1769040"/>
          </a:xfrm>
        </p:grpSpPr>
        <p:grpSp>
          <p:nvGrpSpPr>
            <p:cNvPr id="953" name=""/>
            <p:cNvGrpSpPr/>
            <p:nvPr/>
          </p:nvGrpSpPr>
          <p:grpSpPr>
            <a:xfrm>
              <a:off x="2739960" y="1071000"/>
              <a:ext cx="1831680" cy="308160"/>
              <a:chOff x="2739960" y="1071000"/>
              <a:chExt cx="1831680" cy="308160"/>
            </a:xfrm>
          </p:grpSpPr>
          <p:sp>
            <p:nvSpPr>
              <p:cNvPr id="954" name=""/>
              <p:cNvSpPr/>
              <p:nvPr/>
            </p:nvSpPr>
            <p:spPr>
              <a:xfrm flipV="1">
                <a:off x="2739960" y="1377720"/>
                <a:ext cx="1627920" cy="1080"/>
              </a:xfrm>
              <a:prstGeom prst="line">
                <a:avLst/>
              </a:prstGeom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rot="21597600">
                <a:off x="2943000" y="1071360"/>
                <a:ext cx="162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BASKETBAL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6" name=""/>
            <p:cNvGrpSpPr/>
            <p:nvPr/>
          </p:nvGrpSpPr>
          <p:grpSpPr>
            <a:xfrm>
              <a:off x="2734560" y="534600"/>
              <a:ext cx="1835640" cy="315360"/>
              <a:chOff x="2734560" y="534600"/>
              <a:chExt cx="1835640" cy="315360"/>
            </a:xfrm>
          </p:grpSpPr>
          <p:sp>
            <p:nvSpPr>
              <p:cNvPr id="957" name=""/>
              <p:cNvSpPr/>
              <p:nvPr/>
            </p:nvSpPr>
            <p:spPr>
              <a:xfrm>
                <a:off x="2734560" y="840960"/>
                <a:ext cx="1631520" cy="8280"/>
              </a:xfrm>
              <a:prstGeom prst="line">
                <a:avLst/>
              </a:prstGeom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rot="17400">
                <a:off x="2938680" y="538560"/>
                <a:ext cx="163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VIDE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9" name=""/>
            <p:cNvGrpSpPr/>
            <p:nvPr/>
          </p:nvGrpSpPr>
          <p:grpSpPr>
            <a:xfrm>
              <a:off x="2741040" y="146880"/>
              <a:ext cx="1829520" cy="321840"/>
              <a:chOff x="2741040" y="146880"/>
              <a:chExt cx="1829520" cy="321840"/>
            </a:xfrm>
          </p:grpSpPr>
          <p:sp>
            <p:nvSpPr>
              <p:cNvPr id="960" name=""/>
              <p:cNvSpPr/>
              <p:nvPr/>
            </p:nvSpPr>
            <p:spPr>
              <a:xfrm flipV="1">
                <a:off x="2741040" y="459360"/>
                <a:ext cx="1626120" cy="9360"/>
              </a:xfrm>
              <a:prstGeom prst="line">
                <a:avLst/>
              </a:prstGeom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rot="21580200">
                <a:off x="2943000" y="151200"/>
                <a:ext cx="162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MUSI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"/>
            <p:cNvGrpSpPr/>
            <p:nvPr/>
          </p:nvGrpSpPr>
          <p:grpSpPr>
            <a:xfrm>
              <a:off x="2743560" y="1606680"/>
              <a:ext cx="1827720" cy="309240"/>
              <a:chOff x="2743560" y="1606680"/>
              <a:chExt cx="1827720" cy="309240"/>
            </a:xfrm>
          </p:grpSpPr>
          <p:sp>
            <p:nvSpPr>
              <p:cNvPr id="963" name=""/>
              <p:cNvSpPr/>
              <p:nvPr/>
            </p:nvSpPr>
            <p:spPr>
              <a:xfrm flipV="1">
                <a:off x="2743560" y="1912320"/>
                <a:ext cx="1625040" cy="1800"/>
              </a:xfrm>
              <a:prstGeom prst="line">
                <a:avLst/>
              </a:prstGeom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rot="21595800">
                <a:off x="2945520" y="1607760"/>
                <a:ext cx="162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SWIMM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5" name=""/>
            <p:cNvGrpSpPr/>
            <p:nvPr/>
          </p:nvGrpSpPr>
          <p:grpSpPr>
            <a:xfrm>
              <a:off x="2590920" y="465120"/>
              <a:ext cx="228240" cy="1447920"/>
              <a:chOff x="2590920" y="465120"/>
              <a:chExt cx="228240" cy="1447920"/>
            </a:xfrm>
          </p:grpSpPr>
          <p:sp>
            <p:nvSpPr>
              <p:cNvPr id="966" name=""/>
              <p:cNvSpPr/>
              <p:nvPr/>
            </p:nvSpPr>
            <p:spPr>
              <a:xfrm>
                <a:off x="2590920" y="1074600"/>
                <a:ext cx="228240" cy="228600"/>
              </a:xfrm>
              <a:prstGeom prst="ellipse">
                <a:avLst/>
              </a:prstGeom>
              <a:solidFill>
                <a:srgbClr val="800080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2743200" y="465120"/>
                <a:ext cx="0" cy="1447920"/>
              </a:xfrm>
              <a:prstGeom prst="line">
                <a:avLst/>
              </a:prstGeom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"/>
          <p:cNvGrpSpPr/>
          <p:nvPr/>
        </p:nvGrpSpPr>
        <p:grpSpPr>
          <a:xfrm>
            <a:off x="2666880" y="2204280"/>
            <a:ext cx="1981800" cy="1769040"/>
            <a:chOff x="2666880" y="2204280"/>
            <a:chExt cx="1981800" cy="1769040"/>
          </a:xfrm>
        </p:grpSpPr>
        <p:grpSp>
          <p:nvGrpSpPr>
            <p:cNvPr id="969" name=""/>
            <p:cNvGrpSpPr/>
            <p:nvPr/>
          </p:nvGrpSpPr>
          <p:grpSpPr>
            <a:xfrm>
              <a:off x="2816280" y="3128400"/>
              <a:ext cx="1832400" cy="308160"/>
              <a:chOff x="2816280" y="3128400"/>
              <a:chExt cx="1832400" cy="308160"/>
            </a:xfrm>
          </p:grpSpPr>
          <p:sp>
            <p:nvSpPr>
              <p:cNvPr id="970" name=""/>
              <p:cNvSpPr/>
              <p:nvPr/>
            </p:nvSpPr>
            <p:spPr>
              <a:xfrm flipV="1">
                <a:off x="2816280" y="3435120"/>
                <a:ext cx="1628280" cy="1080"/>
              </a:xfrm>
              <a:prstGeom prst="line">
                <a:avLst/>
              </a:prstGeom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rot="21597600">
                <a:off x="3019680" y="3128760"/>
                <a:ext cx="162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BASKETBAL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2" name=""/>
            <p:cNvGrpSpPr/>
            <p:nvPr/>
          </p:nvGrpSpPr>
          <p:grpSpPr>
            <a:xfrm>
              <a:off x="2810880" y="2592000"/>
              <a:ext cx="1836000" cy="315360"/>
              <a:chOff x="2810880" y="2592000"/>
              <a:chExt cx="1836000" cy="315360"/>
            </a:xfrm>
          </p:grpSpPr>
          <p:sp>
            <p:nvSpPr>
              <p:cNvPr id="973" name=""/>
              <p:cNvSpPr/>
              <p:nvPr/>
            </p:nvSpPr>
            <p:spPr>
              <a:xfrm>
                <a:off x="2810880" y="2898360"/>
                <a:ext cx="1631880" cy="8280"/>
              </a:xfrm>
              <a:prstGeom prst="line">
                <a:avLst/>
              </a:prstGeom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rot="17400">
                <a:off x="3015000" y="2595960"/>
                <a:ext cx="1630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VIDE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5" name=""/>
            <p:cNvGrpSpPr/>
            <p:nvPr/>
          </p:nvGrpSpPr>
          <p:grpSpPr>
            <a:xfrm>
              <a:off x="2817360" y="2204280"/>
              <a:ext cx="1829880" cy="321840"/>
              <a:chOff x="2817360" y="2204280"/>
              <a:chExt cx="1829880" cy="321840"/>
            </a:xfrm>
          </p:grpSpPr>
          <p:sp>
            <p:nvSpPr>
              <p:cNvPr id="976" name=""/>
              <p:cNvSpPr/>
              <p:nvPr/>
            </p:nvSpPr>
            <p:spPr>
              <a:xfrm flipV="1">
                <a:off x="2817360" y="2516760"/>
                <a:ext cx="1626480" cy="9360"/>
              </a:xfrm>
              <a:prstGeom prst="line">
                <a:avLst/>
              </a:prstGeom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rot="21580200">
                <a:off x="3019320" y="2208600"/>
                <a:ext cx="1626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MUSI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8" name=""/>
            <p:cNvGrpSpPr/>
            <p:nvPr/>
          </p:nvGrpSpPr>
          <p:grpSpPr>
            <a:xfrm>
              <a:off x="2819880" y="3664080"/>
              <a:ext cx="1828440" cy="309240"/>
              <a:chOff x="2819880" y="3664080"/>
              <a:chExt cx="1828440" cy="309240"/>
            </a:xfrm>
          </p:grpSpPr>
          <p:sp>
            <p:nvSpPr>
              <p:cNvPr id="979" name=""/>
              <p:cNvSpPr/>
              <p:nvPr/>
            </p:nvSpPr>
            <p:spPr>
              <a:xfrm flipV="1">
                <a:off x="2819880" y="3969720"/>
                <a:ext cx="1625400" cy="1800"/>
              </a:xfrm>
              <a:prstGeom prst="line">
                <a:avLst/>
              </a:prstGeom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rot="21595800">
                <a:off x="3022200" y="3665160"/>
                <a:ext cx="1625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SWIMM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1" name=""/>
            <p:cNvGrpSpPr/>
            <p:nvPr/>
          </p:nvGrpSpPr>
          <p:grpSpPr>
            <a:xfrm>
              <a:off x="2666880" y="2522520"/>
              <a:ext cx="228600" cy="1447920"/>
              <a:chOff x="2666880" y="2522520"/>
              <a:chExt cx="228600" cy="1447920"/>
            </a:xfrm>
          </p:grpSpPr>
          <p:sp>
            <p:nvSpPr>
              <p:cNvPr id="982" name=""/>
              <p:cNvSpPr/>
              <p:nvPr/>
            </p:nvSpPr>
            <p:spPr>
              <a:xfrm>
                <a:off x="2666880" y="3132000"/>
                <a:ext cx="228600" cy="228600"/>
              </a:xfrm>
              <a:prstGeom prst="ellipse">
                <a:avLst/>
              </a:prstGeom>
              <a:solidFill>
                <a:srgbClr val="800080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2819520" y="2522520"/>
                <a:ext cx="0" cy="1447920"/>
              </a:xfrm>
              <a:prstGeom prst="line">
                <a:avLst/>
              </a:prstGeom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4" name=""/>
          <p:cNvGrpSpPr/>
          <p:nvPr/>
        </p:nvGrpSpPr>
        <p:grpSpPr>
          <a:xfrm>
            <a:off x="2590920" y="4261680"/>
            <a:ext cx="1980720" cy="1769040"/>
            <a:chOff x="2590920" y="4261680"/>
            <a:chExt cx="1980720" cy="1769040"/>
          </a:xfrm>
        </p:grpSpPr>
        <p:grpSp>
          <p:nvGrpSpPr>
            <p:cNvPr id="985" name=""/>
            <p:cNvGrpSpPr/>
            <p:nvPr/>
          </p:nvGrpSpPr>
          <p:grpSpPr>
            <a:xfrm>
              <a:off x="2739960" y="5185800"/>
              <a:ext cx="1831680" cy="308160"/>
              <a:chOff x="2739960" y="5185800"/>
              <a:chExt cx="1831680" cy="308160"/>
            </a:xfrm>
          </p:grpSpPr>
          <p:sp>
            <p:nvSpPr>
              <p:cNvPr id="986" name=""/>
              <p:cNvSpPr/>
              <p:nvPr/>
            </p:nvSpPr>
            <p:spPr>
              <a:xfrm flipV="1">
                <a:off x="2739960" y="5492520"/>
                <a:ext cx="1627920" cy="1080"/>
              </a:xfrm>
              <a:prstGeom prst="line">
                <a:avLst/>
              </a:prstGeom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rot="21597600">
                <a:off x="2943000" y="5186160"/>
                <a:ext cx="162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BASKETBAL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8" name=""/>
            <p:cNvGrpSpPr/>
            <p:nvPr/>
          </p:nvGrpSpPr>
          <p:grpSpPr>
            <a:xfrm>
              <a:off x="2734560" y="4649400"/>
              <a:ext cx="1835640" cy="315360"/>
              <a:chOff x="2734560" y="4649400"/>
              <a:chExt cx="1835640" cy="315360"/>
            </a:xfrm>
          </p:grpSpPr>
          <p:sp>
            <p:nvSpPr>
              <p:cNvPr id="989" name=""/>
              <p:cNvSpPr/>
              <p:nvPr/>
            </p:nvSpPr>
            <p:spPr>
              <a:xfrm>
                <a:off x="2734560" y="4955760"/>
                <a:ext cx="1631520" cy="8280"/>
              </a:xfrm>
              <a:prstGeom prst="line">
                <a:avLst/>
              </a:prstGeom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rot="17400">
                <a:off x="2938680" y="4653360"/>
                <a:ext cx="163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VIDE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"/>
            <p:cNvGrpSpPr/>
            <p:nvPr/>
          </p:nvGrpSpPr>
          <p:grpSpPr>
            <a:xfrm>
              <a:off x="2741040" y="4261680"/>
              <a:ext cx="1829520" cy="321840"/>
              <a:chOff x="2741040" y="4261680"/>
              <a:chExt cx="1829520" cy="321840"/>
            </a:xfrm>
          </p:grpSpPr>
          <p:sp>
            <p:nvSpPr>
              <p:cNvPr id="992" name=""/>
              <p:cNvSpPr/>
              <p:nvPr/>
            </p:nvSpPr>
            <p:spPr>
              <a:xfrm flipV="1">
                <a:off x="2741040" y="4574160"/>
                <a:ext cx="1626120" cy="9360"/>
              </a:xfrm>
              <a:prstGeom prst="line">
                <a:avLst/>
              </a:prstGeom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rot="21580200">
                <a:off x="2943000" y="4266000"/>
                <a:ext cx="162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MUSI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"/>
            <p:cNvGrpSpPr/>
            <p:nvPr/>
          </p:nvGrpSpPr>
          <p:grpSpPr>
            <a:xfrm>
              <a:off x="2743560" y="5721480"/>
              <a:ext cx="1827720" cy="309240"/>
              <a:chOff x="2743560" y="5721480"/>
              <a:chExt cx="1827720" cy="309240"/>
            </a:xfrm>
          </p:grpSpPr>
          <p:sp>
            <p:nvSpPr>
              <p:cNvPr id="995" name=""/>
              <p:cNvSpPr/>
              <p:nvPr/>
            </p:nvSpPr>
            <p:spPr>
              <a:xfrm flipV="1">
                <a:off x="2743560" y="6027120"/>
                <a:ext cx="1625040" cy="1800"/>
              </a:xfrm>
              <a:prstGeom prst="line">
                <a:avLst/>
              </a:prstGeom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rot="21595800">
                <a:off x="2945520" y="5722560"/>
                <a:ext cx="162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SWIMM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7" name=""/>
            <p:cNvGrpSpPr/>
            <p:nvPr/>
          </p:nvGrpSpPr>
          <p:grpSpPr>
            <a:xfrm>
              <a:off x="2590920" y="4579920"/>
              <a:ext cx="228240" cy="1447920"/>
              <a:chOff x="2590920" y="4579920"/>
              <a:chExt cx="228240" cy="1447920"/>
            </a:xfrm>
          </p:grpSpPr>
          <p:sp>
            <p:nvSpPr>
              <p:cNvPr id="998" name=""/>
              <p:cNvSpPr/>
              <p:nvPr/>
            </p:nvSpPr>
            <p:spPr>
              <a:xfrm>
                <a:off x="2590920" y="5189400"/>
                <a:ext cx="228240" cy="228600"/>
              </a:xfrm>
              <a:prstGeom prst="ellipse">
                <a:avLst/>
              </a:prstGeom>
              <a:solidFill>
                <a:srgbClr val="800080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2743200" y="4579920"/>
                <a:ext cx="0" cy="1447920"/>
              </a:xfrm>
              <a:prstGeom prst="line">
                <a:avLst/>
              </a:prstGeom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0" name=""/>
          <p:cNvSpPr/>
          <p:nvPr/>
        </p:nvSpPr>
        <p:spPr>
          <a:xfrm>
            <a:off x="0" y="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105520" y="312408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4343400" y="228600"/>
            <a:ext cx="1752480" cy="380880"/>
            <a:chOff x="4343400" y="228600"/>
            <a:chExt cx="1752480" cy="380880"/>
          </a:xfrm>
        </p:grpSpPr>
        <p:sp>
          <p:nvSpPr>
            <p:cNvPr id="1003" name=""/>
            <p:cNvSpPr/>
            <p:nvPr/>
          </p:nvSpPr>
          <p:spPr>
            <a:xfrm>
              <a:off x="4343400" y="228600"/>
              <a:ext cx="16002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343400" y="228600"/>
              <a:ext cx="17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rench/Mus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"/>
          <p:cNvGrpSpPr/>
          <p:nvPr/>
        </p:nvGrpSpPr>
        <p:grpSpPr>
          <a:xfrm>
            <a:off x="4343400" y="685800"/>
            <a:ext cx="1752480" cy="380880"/>
            <a:chOff x="4343400" y="685800"/>
            <a:chExt cx="1752480" cy="380880"/>
          </a:xfrm>
        </p:grpSpPr>
        <p:sp>
          <p:nvSpPr>
            <p:cNvPr id="1006" name=""/>
            <p:cNvSpPr/>
            <p:nvPr/>
          </p:nvSpPr>
          <p:spPr>
            <a:xfrm>
              <a:off x="4343400" y="685800"/>
              <a:ext cx="16002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343400" y="685800"/>
              <a:ext cx="17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rench/Vide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4343400" y="1143000"/>
            <a:ext cx="1752480" cy="380880"/>
            <a:chOff x="4343400" y="1143000"/>
            <a:chExt cx="1752480" cy="380880"/>
          </a:xfrm>
        </p:grpSpPr>
        <p:sp>
          <p:nvSpPr>
            <p:cNvPr id="1009" name=""/>
            <p:cNvSpPr/>
            <p:nvPr/>
          </p:nvSpPr>
          <p:spPr>
            <a:xfrm>
              <a:off x="4343400" y="1143000"/>
              <a:ext cx="16002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343400" y="1143000"/>
              <a:ext cx="17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French/Bsktb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4343400" y="1676520"/>
            <a:ext cx="1752480" cy="380880"/>
            <a:chOff x="4343400" y="1676520"/>
            <a:chExt cx="1752480" cy="380880"/>
          </a:xfrm>
        </p:grpSpPr>
        <p:sp>
          <p:nvSpPr>
            <p:cNvPr id="1012" name=""/>
            <p:cNvSpPr/>
            <p:nvPr/>
          </p:nvSpPr>
          <p:spPr>
            <a:xfrm>
              <a:off x="4343400" y="1676520"/>
              <a:ext cx="16002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343400" y="1676520"/>
              <a:ext cx="17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rench/Swi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"/>
          <p:cNvGrpSpPr/>
          <p:nvPr/>
        </p:nvGrpSpPr>
        <p:grpSpPr>
          <a:xfrm>
            <a:off x="4419720" y="2286000"/>
            <a:ext cx="1752480" cy="380880"/>
            <a:chOff x="4419720" y="2286000"/>
            <a:chExt cx="1752480" cy="380880"/>
          </a:xfrm>
        </p:grpSpPr>
        <p:sp>
          <p:nvSpPr>
            <p:cNvPr id="1015" name=""/>
            <p:cNvSpPr/>
            <p:nvPr/>
          </p:nvSpPr>
          <p:spPr>
            <a:xfrm>
              <a:off x="4419720" y="2286000"/>
              <a:ext cx="16002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419720" y="2286000"/>
              <a:ext cx="17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rman/Mus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7" name=""/>
          <p:cNvGrpSpPr/>
          <p:nvPr/>
        </p:nvGrpSpPr>
        <p:grpSpPr>
          <a:xfrm>
            <a:off x="4419720" y="2743200"/>
            <a:ext cx="1752480" cy="380880"/>
            <a:chOff x="4419720" y="2743200"/>
            <a:chExt cx="1752480" cy="380880"/>
          </a:xfrm>
        </p:grpSpPr>
        <p:sp>
          <p:nvSpPr>
            <p:cNvPr id="1018" name=""/>
            <p:cNvSpPr/>
            <p:nvPr/>
          </p:nvSpPr>
          <p:spPr>
            <a:xfrm>
              <a:off x="4419720" y="2743200"/>
              <a:ext cx="16002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419720" y="2743200"/>
              <a:ext cx="17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rman/Vide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4419720" y="3200400"/>
            <a:ext cx="1752480" cy="380880"/>
            <a:chOff x="4419720" y="3200400"/>
            <a:chExt cx="1752480" cy="380880"/>
          </a:xfrm>
        </p:grpSpPr>
        <p:sp>
          <p:nvSpPr>
            <p:cNvPr id="1021" name=""/>
            <p:cNvSpPr/>
            <p:nvPr/>
          </p:nvSpPr>
          <p:spPr>
            <a:xfrm>
              <a:off x="4419720" y="3200400"/>
              <a:ext cx="16002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419720" y="3200400"/>
              <a:ext cx="17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German/Bsktb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4419720" y="3733920"/>
            <a:ext cx="1752480" cy="380880"/>
            <a:chOff x="4419720" y="3733920"/>
            <a:chExt cx="1752480" cy="380880"/>
          </a:xfrm>
        </p:grpSpPr>
        <p:sp>
          <p:nvSpPr>
            <p:cNvPr id="1024" name=""/>
            <p:cNvSpPr/>
            <p:nvPr/>
          </p:nvSpPr>
          <p:spPr>
            <a:xfrm>
              <a:off x="4419720" y="3733920"/>
              <a:ext cx="16002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419720" y="3733920"/>
              <a:ext cx="17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rman/Swi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6" name=""/>
          <p:cNvGrpSpPr/>
          <p:nvPr/>
        </p:nvGrpSpPr>
        <p:grpSpPr>
          <a:xfrm>
            <a:off x="4343400" y="4343400"/>
            <a:ext cx="1752480" cy="380880"/>
            <a:chOff x="4343400" y="4343400"/>
            <a:chExt cx="1752480" cy="380880"/>
          </a:xfrm>
        </p:grpSpPr>
        <p:sp>
          <p:nvSpPr>
            <p:cNvPr id="1027" name=""/>
            <p:cNvSpPr/>
            <p:nvPr/>
          </p:nvSpPr>
          <p:spPr>
            <a:xfrm>
              <a:off x="4343400" y="4343400"/>
              <a:ext cx="16002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343400" y="4343400"/>
              <a:ext cx="17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panish/Mus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4343400" y="4800600"/>
            <a:ext cx="1752480" cy="380880"/>
            <a:chOff x="4343400" y="4800600"/>
            <a:chExt cx="1752480" cy="380880"/>
          </a:xfrm>
        </p:grpSpPr>
        <p:sp>
          <p:nvSpPr>
            <p:cNvPr id="1030" name=""/>
            <p:cNvSpPr/>
            <p:nvPr/>
          </p:nvSpPr>
          <p:spPr>
            <a:xfrm>
              <a:off x="4343400" y="4800600"/>
              <a:ext cx="16002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343400" y="4800600"/>
              <a:ext cx="17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panish/Vide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4343400" y="5257800"/>
            <a:ext cx="1752480" cy="380880"/>
            <a:chOff x="4343400" y="5257800"/>
            <a:chExt cx="1752480" cy="380880"/>
          </a:xfrm>
        </p:grpSpPr>
        <p:sp>
          <p:nvSpPr>
            <p:cNvPr id="1033" name=""/>
            <p:cNvSpPr/>
            <p:nvPr/>
          </p:nvSpPr>
          <p:spPr>
            <a:xfrm>
              <a:off x="4343400" y="5257800"/>
              <a:ext cx="16002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343400" y="5257800"/>
              <a:ext cx="17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Spanish/Bsktb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4343400" y="5791320"/>
            <a:ext cx="1752480" cy="380880"/>
            <a:chOff x="4343400" y="5791320"/>
            <a:chExt cx="1752480" cy="380880"/>
          </a:xfrm>
        </p:grpSpPr>
        <p:sp>
          <p:nvSpPr>
            <p:cNvPr id="1036" name=""/>
            <p:cNvSpPr/>
            <p:nvPr/>
          </p:nvSpPr>
          <p:spPr>
            <a:xfrm>
              <a:off x="4343400" y="5791320"/>
              <a:ext cx="16002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343400" y="5791320"/>
              <a:ext cx="17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panish/Swi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6477120" y="0"/>
            <a:ext cx="2666880" cy="3428640"/>
            <a:chOff x="6477120" y="0"/>
            <a:chExt cx="2666880" cy="3428640"/>
          </a:xfrm>
        </p:grpSpPr>
        <p:sp>
          <p:nvSpPr>
            <p:cNvPr id="1039" name=""/>
            <p:cNvSpPr/>
            <p:nvPr/>
          </p:nvSpPr>
          <p:spPr>
            <a:xfrm>
              <a:off x="6477120" y="0"/>
              <a:ext cx="2666880" cy="3428640"/>
            </a:xfrm>
            <a:prstGeom prst="rect">
              <a:avLst/>
            </a:prstGeom>
            <a:solidFill>
              <a:srgbClr val="fbdf5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477120" y="0"/>
              <a:ext cx="82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Hi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1" name=""/>
          <p:cNvSpPr/>
          <p:nvPr/>
        </p:nvSpPr>
        <p:spPr>
          <a:xfrm>
            <a:off x="6477120" y="457200"/>
            <a:ext cx="2666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a tree diagram &amp; “branch out” with each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6629400" y="160020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 each language “branch out” with each leisure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629400" y="266688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w list the pairs of subjec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0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0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1500"/>
                            </p:stCondLst>
                            <p:childTnLst>
                              <p:par>
                                <p:cTn id="7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30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0" y="0"/>
            <a:ext cx="5638680" cy="6324480"/>
          </a:xfrm>
          <a:prstGeom prst="rect">
            <a:avLst/>
          </a:prstGeom>
          <a:solidFill>
            <a:srgbClr val="ff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4724280" y="914400"/>
            <a:ext cx="685800" cy="53352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5105520" y="312408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7" name=""/>
          <p:cNvGrpSpPr/>
          <p:nvPr/>
        </p:nvGrpSpPr>
        <p:grpSpPr>
          <a:xfrm>
            <a:off x="5943600" y="0"/>
            <a:ext cx="3200040" cy="1828800"/>
            <a:chOff x="5943600" y="0"/>
            <a:chExt cx="3200040" cy="1828800"/>
          </a:xfrm>
        </p:grpSpPr>
        <p:sp>
          <p:nvSpPr>
            <p:cNvPr id="1048" name=""/>
            <p:cNvSpPr/>
            <p:nvPr/>
          </p:nvSpPr>
          <p:spPr>
            <a:xfrm>
              <a:off x="5943600" y="0"/>
              <a:ext cx="3200040" cy="1828800"/>
            </a:xfrm>
            <a:prstGeom prst="rect">
              <a:avLst/>
            </a:prstGeom>
            <a:solidFill>
              <a:srgbClr val="fbdf5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943600" y="0"/>
              <a:ext cx="98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Hi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0" name=""/>
          <p:cNvSpPr/>
          <p:nvPr/>
        </p:nvSpPr>
        <p:spPr>
          <a:xfrm>
            <a:off x="6019920" y="45720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ve list of combinations han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6095880" y="121932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member to simplif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152280" y="228600"/>
            <a:ext cx="1828800" cy="5943600"/>
            <a:chOff x="152280" y="228600"/>
            <a:chExt cx="1828800" cy="5943600"/>
          </a:xfrm>
        </p:grpSpPr>
        <p:grpSp>
          <p:nvGrpSpPr>
            <p:cNvPr id="1053" name=""/>
            <p:cNvGrpSpPr/>
            <p:nvPr/>
          </p:nvGrpSpPr>
          <p:grpSpPr>
            <a:xfrm>
              <a:off x="152280" y="228600"/>
              <a:ext cx="1752480" cy="380880"/>
              <a:chOff x="152280" y="228600"/>
              <a:chExt cx="1752480" cy="380880"/>
            </a:xfrm>
          </p:grpSpPr>
          <p:sp>
            <p:nvSpPr>
              <p:cNvPr id="1054" name=""/>
              <p:cNvSpPr/>
              <p:nvPr/>
            </p:nvSpPr>
            <p:spPr>
              <a:xfrm>
                <a:off x="152280" y="228600"/>
                <a:ext cx="1600200" cy="380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52280" y="228600"/>
                <a:ext cx="1752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French/Musi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6" name=""/>
            <p:cNvGrpSpPr/>
            <p:nvPr/>
          </p:nvGrpSpPr>
          <p:grpSpPr>
            <a:xfrm>
              <a:off x="152280" y="685800"/>
              <a:ext cx="1752480" cy="380880"/>
              <a:chOff x="152280" y="685800"/>
              <a:chExt cx="1752480" cy="380880"/>
            </a:xfrm>
          </p:grpSpPr>
          <p:sp>
            <p:nvSpPr>
              <p:cNvPr id="1057" name=""/>
              <p:cNvSpPr/>
              <p:nvPr/>
            </p:nvSpPr>
            <p:spPr>
              <a:xfrm>
                <a:off x="152280" y="685800"/>
                <a:ext cx="1600200" cy="380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152280" y="685800"/>
                <a:ext cx="1752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French/Vide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9" name=""/>
            <p:cNvGrpSpPr/>
            <p:nvPr/>
          </p:nvGrpSpPr>
          <p:grpSpPr>
            <a:xfrm>
              <a:off x="152280" y="1143000"/>
              <a:ext cx="1752480" cy="380880"/>
              <a:chOff x="152280" y="1143000"/>
              <a:chExt cx="1752480" cy="380880"/>
            </a:xfrm>
          </p:grpSpPr>
          <p:sp>
            <p:nvSpPr>
              <p:cNvPr id="1060" name=""/>
              <p:cNvSpPr/>
              <p:nvPr/>
            </p:nvSpPr>
            <p:spPr>
              <a:xfrm>
                <a:off x="152280" y="1143000"/>
                <a:ext cx="1600200" cy="380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152280" y="1143000"/>
                <a:ext cx="1752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French/Bsktbl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2" name=""/>
            <p:cNvGrpSpPr/>
            <p:nvPr/>
          </p:nvGrpSpPr>
          <p:grpSpPr>
            <a:xfrm>
              <a:off x="152280" y="1676520"/>
              <a:ext cx="1752480" cy="380880"/>
              <a:chOff x="152280" y="1676520"/>
              <a:chExt cx="1752480" cy="380880"/>
            </a:xfrm>
          </p:grpSpPr>
          <p:sp>
            <p:nvSpPr>
              <p:cNvPr id="1063" name=""/>
              <p:cNvSpPr/>
              <p:nvPr/>
            </p:nvSpPr>
            <p:spPr>
              <a:xfrm>
                <a:off x="152280" y="1676520"/>
                <a:ext cx="1600200" cy="380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152280" y="1676520"/>
                <a:ext cx="1752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French/Swi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5" name=""/>
            <p:cNvGrpSpPr/>
            <p:nvPr/>
          </p:nvGrpSpPr>
          <p:grpSpPr>
            <a:xfrm>
              <a:off x="228600" y="2286000"/>
              <a:ext cx="1752480" cy="380880"/>
              <a:chOff x="228600" y="2286000"/>
              <a:chExt cx="1752480" cy="380880"/>
            </a:xfrm>
          </p:grpSpPr>
          <p:sp>
            <p:nvSpPr>
              <p:cNvPr id="1066" name=""/>
              <p:cNvSpPr/>
              <p:nvPr/>
            </p:nvSpPr>
            <p:spPr>
              <a:xfrm>
                <a:off x="228600" y="2286000"/>
                <a:ext cx="1600200" cy="380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28600" y="2286000"/>
                <a:ext cx="1752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German/Musi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8" name=""/>
            <p:cNvGrpSpPr/>
            <p:nvPr/>
          </p:nvGrpSpPr>
          <p:grpSpPr>
            <a:xfrm>
              <a:off x="228600" y="2743200"/>
              <a:ext cx="1752480" cy="380880"/>
              <a:chOff x="228600" y="2743200"/>
              <a:chExt cx="1752480" cy="380880"/>
            </a:xfrm>
          </p:grpSpPr>
          <p:sp>
            <p:nvSpPr>
              <p:cNvPr id="1069" name=""/>
              <p:cNvSpPr/>
              <p:nvPr/>
            </p:nvSpPr>
            <p:spPr>
              <a:xfrm>
                <a:off x="228600" y="2743200"/>
                <a:ext cx="1600200" cy="380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28600" y="2743200"/>
                <a:ext cx="1752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German/Vide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1" name=""/>
            <p:cNvGrpSpPr/>
            <p:nvPr/>
          </p:nvGrpSpPr>
          <p:grpSpPr>
            <a:xfrm>
              <a:off x="228600" y="3200400"/>
              <a:ext cx="1752480" cy="380880"/>
              <a:chOff x="228600" y="3200400"/>
              <a:chExt cx="1752480" cy="380880"/>
            </a:xfrm>
          </p:grpSpPr>
          <p:sp>
            <p:nvSpPr>
              <p:cNvPr id="1072" name=""/>
              <p:cNvSpPr/>
              <p:nvPr/>
            </p:nvSpPr>
            <p:spPr>
              <a:xfrm>
                <a:off x="228600" y="3200400"/>
                <a:ext cx="1600200" cy="380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28600" y="3200400"/>
                <a:ext cx="1752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German/Bsktbl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4" name=""/>
            <p:cNvGrpSpPr/>
            <p:nvPr/>
          </p:nvGrpSpPr>
          <p:grpSpPr>
            <a:xfrm>
              <a:off x="228600" y="3733920"/>
              <a:ext cx="1752480" cy="380880"/>
              <a:chOff x="228600" y="3733920"/>
              <a:chExt cx="1752480" cy="380880"/>
            </a:xfrm>
          </p:grpSpPr>
          <p:sp>
            <p:nvSpPr>
              <p:cNvPr id="1075" name=""/>
              <p:cNvSpPr/>
              <p:nvPr/>
            </p:nvSpPr>
            <p:spPr>
              <a:xfrm>
                <a:off x="228600" y="3733920"/>
                <a:ext cx="1600200" cy="380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28600" y="3733920"/>
                <a:ext cx="1752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German/Swi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"/>
            <p:cNvGrpSpPr/>
            <p:nvPr/>
          </p:nvGrpSpPr>
          <p:grpSpPr>
            <a:xfrm>
              <a:off x="152280" y="4343400"/>
              <a:ext cx="1752480" cy="380880"/>
              <a:chOff x="152280" y="4343400"/>
              <a:chExt cx="1752480" cy="380880"/>
            </a:xfrm>
          </p:grpSpPr>
          <p:sp>
            <p:nvSpPr>
              <p:cNvPr id="1078" name=""/>
              <p:cNvSpPr/>
              <p:nvPr/>
            </p:nvSpPr>
            <p:spPr>
              <a:xfrm>
                <a:off x="152280" y="4343400"/>
                <a:ext cx="1600200" cy="380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52280" y="4343400"/>
                <a:ext cx="1752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Spanish/Musi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0" name=""/>
            <p:cNvGrpSpPr/>
            <p:nvPr/>
          </p:nvGrpSpPr>
          <p:grpSpPr>
            <a:xfrm>
              <a:off x="152280" y="4800600"/>
              <a:ext cx="1752480" cy="380880"/>
              <a:chOff x="152280" y="4800600"/>
              <a:chExt cx="1752480" cy="380880"/>
            </a:xfrm>
          </p:grpSpPr>
          <p:sp>
            <p:nvSpPr>
              <p:cNvPr id="1081" name=""/>
              <p:cNvSpPr/>
              <p:nvPr/>
            </p:nvSpPr>
            <p:spPr>
              <a:xfrm>
                <a:off x="152280" y="4800600"/>
                <a:ext cx="1600200" cy="380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152280" y="4800600"/>
                <a:ext cx="1752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Spanish/Vide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"/>
            <p:cNvGrpSpPr/>
            <p:nvPr/>
          </p:nvGrpSpPr>
          <p:grpSpPr>
            <a:xfrm>
              <a:off x="152280" y="5257800"/>
              <a:ext cx="1752480" cy="380880"/>
              <a:chOff x="152280" y="5257800"/>
              <a:chExt cx="1752480" cy="380880"/>
            </a:xfrm>
          </p:grpSpPr>
          <p:sp>
            <p:nvSpPr>
              <p:cNvPr id="1084" name=""/>
              <p:cNvSpPr/>
              <p:nvPr/>
            </p:nvSpPr>
            <p:spPr>
              <a:xfrm>
                <a:off x="152280" y="5257800"/>
                <a:ext cx="1600200" cy="380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52280" y="5257800"/>
                <a:ext cx="1752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Spanish/Bsktbl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"/>
            <p:cNvGrpSpPr/>
            <p:nvPr/>
          </p:nvGrpSpPr>
          <p:grpSpPr>
            <a:xfrm>
              <a:off x="152280" y="5791320"/>
              <a:ext cx="1752480" cy="380880"/>
              <a:chOff x="152280" y="5791320"/>
              <a:chExt cx="1752480" cy="380880"/>
            </a:xfrm>
          </p:grpSpPr>
          <p:sp>
            <p:nvSpPr>
              <p:cNvPr id="1087" name=""/>
              <p:cNvSpPr/>
              <p:nvPr/>
            </p:nvSpPr>
            <p:spPr>
              <a:xfrm>
                <a:off x="152280" y="5791320"/>
                <a:ext cx="1600200" cy="380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52280" y="5791320"/>
                <a:ext cx="1752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Spanish/Swi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9" name=""/>
          <p:cNvSpPr/>
          <p:nvPr/>
        </p:nvSpPr>
        <p:spPr>
          <a:xfrm>
            <a:off x="4419720" y="914400"/>
            <a:ext cx="20574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4876920" y="2743200"/>
            <a:ext cx="685800" cy="53352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4495680" y="2743200"/>
            <a:ext cx="20574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4876920" y="4876920"/>
            <a:ext cx="685800" cy="53316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3" name=""/>
          <p:cNvGrpSpPr/>
          <p:nvPr/>
        </p:nvGrpSpPr>
        <p:grpSpPr>
          <a:xfrm>
            <a:off x="2057400" y="838080"/>
            <a:ext cx="3962520" cy="536040"/>
            <a:chOff x="2057400" y="838080"/>
            <a:chExt cx="3962520" cy="536040"/>
          </a:xfrm>
        </p:grpSpPr>
        <p:sp>
          <p:nvSpPr>
            <p:cNvPr id="1094" name=""/>
            <p:cNvSpPr/>
            <p:nvPr/>
          </p:nvSpPr>
          <p:spPr>
            <a:xfrm>
              <a:off x="2057400" y="91440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(b)(i)   Pro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276720" y="838080"/>
              <a:ext cx="152280" cy="152640"/>
            </a:xfrm>
            <a:prstGeom prst="ellipse">
              <a:avLst/>
            </a:prstGeom>
            <a:solidFill>
              <a:srgbClr val="66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6" name=""/>
          <p:cNvGrpSpPr/>
          <p:nvPr/>
        </p:nvGrpSpPr>
        <p:grpSpPr>
          <a:xfrm>
            <a:off x="1752480" y="4419720"/>
            <a:ext cx="152640" cy="1676160"/>
            <a:chOff x="1752480" y="4419720"/>
            <a:chExt cx="152640" cy="1676160"/>
          </a:xfrm>
        </p:grpSpPr>
        <p:sp>
          <p:nvSpPr>
            <p:cNvPr id="1097" name=""/>
            <p:cNvSpPr/>
            <p:nvPr/>
          </p:nvSpPr>
          <p:spPr>
            <a:xfrm>
              <a:off x="1752480" y="4419720"/>
              <a:ext cx="152640" cy="152280"/>
            </a:xfrm>
            <a:prstGeom prst="ellipse">
              <a:avLst/>
            </a:prstGeom>
            <a:solidFill>
              <a:srgbClr val="66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752480" y="4952880"/>
              <a:ext cx="152640" cy="152640"/>
            </a:xfrm>
            <a:prstGeom prst="ellipse">
              <a:avLst/>
            </a:prstGeom>
            <a:solidFill>
              <a:srgbClr val="66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752480" y="5410080"/>
              <a:ext cx="152640" cy="152640"/>
            </a:xfrm>
            <a:prstGeom prst="ellipse">
              <a:avLst/>
            </a:prstGeom>
            <a:solidFill>
              <a:srgbClr val="66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752480" y="5943600"/>
              <a:ext cx="152640" cy="152280"/>
            </a:xfrm>
            <a:prstGeom prst="ellipse">
              <a:avLst/>
            </a:prstGeom>
            <a:solidFill>
              <a:srgbClr val="66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2057400" y="2743200"/>
            <a:ext cx="3962520" cy="459720"/>
            <a:chOff x="2057400" y="2743200"/>
            <a:chExt cx="3962520" cy="459720"/>
          </a:xfrm>
        </p:grpSpPr>
        <p:sp>
          <p:nvSpPr>
            <p:cNvPr id="1102" name=""/>
            <p:cNvSpPr/>
            <p:nvPr/>
          </p:nvSpPr>
          <p:spPr>
            <a:xfrm>
              <a:off x="2057400" y="274320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(b)(ii)  Pro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276720" y="27432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4" name=""/>
          <p:cNvGrpSpPr/>
          <p:nvPr/>
        </p:nvGrpSpPr>
        <p:grpSpPr>
          <a:xfrm>
            <a:off x="1828800" y="1752480"/>
            <a:ext cx="380880" cy="4267440"/>
            <a:chOff x="1828800" y="1752480"/>
            <a:chExt cx="380880" cy="4267440"/>
          </a:xfrm>
        </p:grpSpPr>
        <p:sp>
          <p:nvSpPr>
            <p:cNvPr id="1105" name=""/>
            <p:cNvSpPr/>
            <p:nvPr/>
          </p:nvSpPr>
          <p:spPr>
            <a:xfrm>
              <a:off x="1828800" y="17524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828800" y="38098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057400" y="58672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8" name=""/>
          <p:cNvSpPr/>
          <p:nvPr/>
        </p:nvSpPr>
        <p:spPr>
          <a:xfrm>
            <a:off x="3657600" y="91440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3733920" y="2743200"/>
            <a:ext cx="167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0" name=""/>
          <p:cNvGrpSpPr/>
          <p:nvPr/>
        </p:nvGrpSpPr>
        <p:grpSpPr>
          <a:xfrm>
            <a:off x="2057400" y="4800600"/>
            <a:ext cx="3962520" cy="536040"/>
            <a:chOff x="2057400" y="4800600"/>
            <a:chExt cx="3962520" cy="536040"/>
          </a:xfrm>
        </p:grpSpPr>
        <p:sp>
          <p:nvSpPr>
            <p:cNvPr id="1111" name=""/>
            <p:cNvSpPr/>
            <p:nvPr/>
          </p:nvSpPr>
          <p:spPr>
            <a:xfrm>
              <a:off x="2057400" y="487692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(b)(iii)  Pro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352680" y="4800600"/>
              <a:ext cx="152640" cy="152280"/>
            </a:xfrm>
            <a:prstGeom prst="ellipse">
              <a:avLst/>
            </a:prstGeom>
            <a:solidFill>
              <a:srgbClr val="9900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"/>
          <p:cNvGrpSpPr/>
          <p:nvPr/>
        </p:nvGrpSpPr>
        <p:grpSpPr>
          <a:xfrm>
            <a:off x="1828800" y="2438280"/>
            <a:ext cx="304920" cy="2133720"/>
            <a:chOff x="1828800" y="2438280"/>
            <a:chExt cx="304920" cy="2133720"/>
          </a:xfrm>
        </p:grpSpPr>
        <p:sp>
          <p:nvSpPr>
            <p:cNvPr id="1114" name=""/>
            <p:cNvSpPr/>
            <p:nvPr/>
          </p:nvSpPr>
          <p:spPr>
            <a:xfrm>
              <a:off x="1828800" y="2438280"/>
              <a:ext cx="152280" cy="152640"/>
            </a:xfrm>
            <a:prstGeom prst="ellipse">
              <a:avLst/>
            </a:prstGeom>
            <a:solidFill>
              <a:srgbClr val="9900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solidFill>
              <a:srgbClr val="9900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6" name=""/>
          <p:cNvSpPr/>
          <p:nvPr/>
        </p:nvSpPr>
        <p:spPr>
          <a:xfrm>
            <a:off x="3809880" y="487692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4572000" y="487692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>
            <a:hlinkClick r:id="" action="ppaction://hlinkshowjump?jump=nextslide"/>
          </p:cNvPr>
          <p:cNvSpPr/>
          <p:nvPr/>
        </p:nvSpPr>
        <p:spPr>
          <a:xfrm>
            <a:off x="6948360" y="24494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>
            <a:hlinkClick r:id="rId1" action="ppaction://hlinksldjump"/>
          </p:cNvPr>
          <p:cNvSpPr/>
          <p:nvPr/>
        </p:nvSpPr>
        <p:spPr>
          <a:xfrm>
            <a:off x="6948360" y="31417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7539840" y="244944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7539120" y="314172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7020000" y="1916280"/>
            <a:ext cx="153864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5651640" y="407664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)    Includes Spanis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5665680" y="4562640"/>
            <a:ext cx="54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i)   Includes swimm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5665680" y="5095800"/>
            <a:ext cx="347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250"/>
              </a:spcBef>
              <a:buClr>
                <a:srgbClr val="000000"/>
              </a:buClr>
              <a:buFont typeface="Arial"/>
              <a:buAutoNum type="roman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esn’t include Fre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includes musi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701680" y="3639960"/>
            <a:ext cx="26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probabilit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8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500"/>
                            </p:stCondLst>
                            <p:childTnLst>
                              <p:par>
                                <p:cTn id="9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2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500"/>
                            </p:stCondLst>
                            <p:childTnLst>
                              <p:par>
                                <p:cTn id="9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500"/>
                            </p:stCondLst>
                            <p:childTnLst>
                              <p:par>
                                <p:cTn id="9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9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1128" name=""/>
          <p:cNvSpPr/>
          <p:nvPr/>
        </p:nvSpPr>
        <p:spPr>
          <a:xfrm>
            <a:off x="6085440" y="-255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>
            <a:hlinkClick r:id="rId2" action="ppaction://hlinksldjump"/>
          </p:cNvPr>
          <p:cNvSpPr/>
          <p:nvPr/>
        </p:nvSpPr>
        <p:spPr>
          <a:xfrm>
            <a:off x="637236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6807240" y="59500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stic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>
            <a:hlinkClick r:id="rId3"/>
          </p:cNvPr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0" y="0"/>
            <a:ext cx="6227640" cy="6308640"/>
          </a:xfrm>
          <a:prstGeom prst="rect">
            <a:avLst/>
          </a:prstGeom>
          <a:solidFill>
            <a:srgbClr val="ff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304920" y="3124080"/>
            <a:ext cx="228600" cy="22860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533520" y="2895480"/>
            <a:ext cx="2506320" cy="379440"/>
            <a:chOff x="533520" y="2895480"/>
            <a:chExt cx="2506320" cy="379440"/>
          </a:xfrm>
        </p:grpSpPr>
        <p:sp>
          <p:nvSpPr>
            <p:cNvPr id="1139" name=""/>
            <p:cNvSpPr/>
            <p:nvPr/>
          </p:nvSpPr>
          <p:spPr>
            <a:xfrm>
              <a:off x="533520" y="3274920"/>
              <a:ext cx="2135520" cy="0"/>
            </a:xfrm>
            <a:prstGeom prst="line">
              <a:avLst/>
            </a:prstGeom>
            <a:ln w="572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11800" y="2895480"/>
              <a:ext cx="222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ff"/>
                  </a:solidFill>
                  <a:latin typeface="Times New Roman"/>
                </a:rPr>
                <a:t>GERM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"/>
          <p:cNvGrpSpPr/>
          <p:nvPr/>
        </p:nvGrpSpPr>
        <p:grpSpPr>
          <a:xfrm>
            <a:off x="455760" y="678240"/>
            <a:ext cx="2585520" cy="2439360"/>
            <a:chOff x="455760" y="678240"/>
            <a:chExt cx="2585520" cy="2439360"/>
          </a:xfrm>
        </p:grpSpPr>
        <p:grpSp>
          <p:nvGrpSpPr>
            <p:cNvPr id="1142" name=""/>
            <p:cNvGrpSpPr/>
            <p:nvPr/>
          </p:nvGrpSpPr>
          <p:grpSpPr>
            <a:xfrm>
              <a:off x="455760" y="678240"/>
              <a:ext cx="2585520" cy="499680"/>
              <a:chOff x="455760" y="678240"/>
              <a:chExt cx="2585520" cy="499680"/>
            </a:xfrm>
          </p:grpSpPr>
          <p:sp>
            <p:nvSpPr>
              <p:cNvPr id="1143" name=""/>
              <p:cNvSpPr/>
              <p:nvPr/>
            </p:nvSpPr>
            <p:spPr>
              <a:xfrm>
                <a:off x="455760" y="1164960"/>
                <a:ext cx="2200320" cy="12960"/>
              </a:xfrm>
              <a:prstGeom prst="line">
                <a:avLst/>
              </a:prstGeom>
              <a:ln w="57240">
                <a:solidFill>
                  <a:srgbClr val="99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 rot="20400">
                <a:off x="744120" y="684720"/>
                <a:ext cx="229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9933ff"/>
                    </a:solidFill>
                    <a:latin typeface="Times New Roman"/>
                  </a:rPr>
                  <a:t>FRENC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5" name=""/>
            <p:cNvSpPr/>
            <p:nvPr/>
          </p:nvSpPr>
          <p:spPr>
            <a:xfrm>
              <a:off x="458280" y="1179360"/>
              <a:ext cx="0" cy="1938240"/>
            </a:xfrm>
            <a:prstGeom prst="line">
              <a:avLst/>
            </a:prstGeom>
            <a:ln w="572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6" name=""/>
          <p:cNvGrpSpPr/>
          <p:nvPr/>
        </p:nvGrpSpPr>
        <p:grpSpPr>
          <a:xfrm>
            <a:off x="457200" y="3352320"/>
            <a:ext cx="2502720" cy="1976040"/>
            <a:chOff x="457200" y="3352320"/>
            <a:chExt cx="2502720" cy="1976040"/>
          </a:xfrm>
        </p:grpSpPr>
        <p:grpSp>
          <p:nvGrpSpPr>
            <p:cNvPr id="1147" name=""/>
            <p:cNvGrpSpPr/>
            <p:nvPr/>
          </p:nvGrpSpPr>
          <p:grpSpPr>
            <a:xfrm>
              <a:off x="457200" y="4851720"/>
              <a:ext cx="2502720" cy="474480"/>
              <a:chOff x="457200" y="4851720"/>
              <a:chExt cx="2502720" cy="474480"/>
            </a:xfrm>
          </p:grpSpPr>
          <p:sp>
            <p:nvSpPr>
              <p:cNvPr id="1148" name=""/>
              <p:cNvSpPr/>
              <p:nvPr/>
            </p:nvSpPr>
            <p:spPr>
              <a:xfrm flipV="1">
                <a:off x="457200" y="5325480"/>
                <a:ext cx="2135520" cy="720"/>
              </a:xfrm>
              <a:prstGeom prst="line">
                <a:avLst/>
              </a:prstGeom>
              <a:ln w="57240">
                <a:solidFill>
                  <a:srgbClr val="99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rot="21598800">
                <a:off x="731880" y="4851720"/>
                <a:ext cx="2228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9933ff"/>
                    </a:solidFill>
                    <a:latin typeface="Times New Roman"/>
                  </a:rPr>
                  <a:t>SPANIS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"/>
            <p:cNvSpPr/>
            <p:nvPr/>
          </p:nvSpPr>
          <p:spPr>
            <a:xfrm flipV="1">
              <a:off x="458640" y="3352320"/>
              <a:ext cx="0" cy="1976040"/>
            </a:xfrm>
            <a:prstGeom prst="line">
              <a:avLst/>
            </a:prstGeom>
            <a:ln w="572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1" name=""/>
          <p:cNvGrpSpPr/>
          <p:nvPr/>
        </p:nvGrpSpPr>
        <p:grpSpPr>
          <a:xfrm>
            <a:off x="2590920" y="146880"/>
            <a:ext cx="1974600" cy="1763280"/>
            <a:chOff x="2590920" y="146880"/>
            <a:chExt cx="1974600" cy="1763280"/>
          </a:xfrm>
        </p:grpSpPr>
        <p:grpSp>
          <p:nvGrpSpPr>
            <p:cNvPr id="1152" name=""/>
            <p:cNvGrpSpPr/>
            <p:nvPr/>
          </p:nvGrpSpPr>
          <p:grpSpPr>
            <a:xfrm>
              <a:off x="2739600" y="1068120"/>
              <a:ext cx="1825920" cy="308160"/>
              <a:chOff x="2739600" y="1068120"/>
              <a:chExt cx="1825920" cy="308160"/>
            </a:xfrm>
          </p:grpSpPr>
          <p:sp>
            <p:nvSpPr>
              <p:cNvPr id="1153" name=""/>
              <p:cNvSpPr/>
              <p:nvPr/>
            </p:nvSpPr>
            <p:spPr>
              <a:xfrm flipV="1">
                <a:off x="2739600" y="1373760"/>
                <a:ext cx="1622520" cy="1080"/>
              </a:xfrm>
              <a:prstGeom prst="line">
                <a:avLst/>
              </a:prstGeom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 rot="21597600">
                <a:off x="2942280" y="1068480"/>
                <a:ext cx="1622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BASKETBAL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5" name=""/>
            <p:cNvGrpSpPr/>
            <p:nvPr/>
          </p:nvGrpSpPr>
          <p:grpSpPr>
            <a:xfrm>
              <a:off x="2734200" y="533160"/>
              <a:ext cx="1829520" cy="315360"/>
              <a:chOff x="2734200" y="533160"/>
              <a:chExt cx="1829520" cy="315360"/>
            </a:xfrm>
          </p:grpSpPr>
          <p:sp>
            <p:nvSpPr>
              <p:cNvPr id="1156" name=""/>
              <p:cNvSpPr/>
              <p:nvPr/>
            </p:nvSpPr>
            <p:spPr>
              <a:xfrm>
                <a:off x="2734200" y="838440"/>
                <a:ext cx="1626120" cy="8280"/>
              </a:xfrm>
              <a:prstGeom prst="line">
                <a:avLst/>
              </a:prstGeom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rot="17400">
                <a:off x="2937600" y="537120"/>
                <a:ext cx="1625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VIDE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"/>
            <p:cNvGrpSpPr/>
            <p:nvPr/>
          </p:nvGrpSpPr>
          <p:grpSpPr>
            <a:xfrm>
              <a:off x="2740680" y="146880"/>
              <a:ext cx="1823400" cy="320760"/>
              <a:chOff x="2740680" y="146880"/>
              <a:chExt cx="1823400" cy="320760"/>
            </a:xfrm>
          </p:grpSpPr>
          <p:sp>
            <p:nvSpPr>
              <p:cNvPr id="1159" name=""/>
              <p:cNvSpPr/>
              <p:nvPr/>
            </p:nvSpPr>
            <p:spPr>
              <a:xfrm flipV="1">
                <a:off x="2740680" y="458280"/>
                <a:ext cx="1620720" cy="9360"/>
              </a:xfrm>
              <a:prstGeom prst="line">
                <a:avLst/>
              </a:prstGeom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 rot="21580200">
                <a:off x="2941920" y="151560"/>
                <a:ext cx="1621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MUSI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1" name=""/>
            <p:cNvGrpSpPr/>
            <p:nvPr/>
          </p:nvGrpSpPr>
          <p:grpSpPr>
            <a:xfrm>
              <a:off x="2743200" y="1601280"/>
              <a:ext cx="1819800" cy="308880"/>
              <a:chOff x="2743200" y="1601280"/>
              <a:chExt cx="1819800" cy="308880"/>
            </a:xfrm>
          </p:grpSpPr>
          <p:sp>
            <p:nvSpPr>
              <p:cNvPr id="1162" name=""/>
              <p:cNvSpPr/>
              <p:nvPr/>
            </p:nvSpPr>
            <p:spPr>
              <a:xfrm flipV="1">
                <a:off x="2743200" y="1906920"/>
                <a:ext cx="1620000" cy="1800"/>
              </a:xfrm>
              <a:prstGeom prst="line">
                <a:avLst/>
              </a:prstGeom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 rot="21595800">
                <a:off x="2943720" y="1602000"/>
                <a:ext cx="1618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SWIMM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4" name=""/>
            <p:cNvGrpSpPr/>
            <p:nvPr/>
          </p:nvGrpSpPr>
          <p:grpSpPr>
            <a:xfrm>
              <a:off x="2590920" y="464040"/>
              <a:ext cx="227520" cy="1443600"/>
              <a:chOff x="2590920" y="464040"/>
              <a:chExt cx="227520" cy="1443600"/>
            </a:xfrm>
          </p:grpSpPr>
          <p:sp>
            <p:nvSpPr>
              <p:cNvPr id="1165" name=""/>
              <p:cNvSpPr/>
              <p:nvPr/>
            </p:nvSpPr>
            <p:spPr>
              <a:xfrm>
                <a:off x="2590920" y="1071360"/>
                <a:ext cx="227520" cy="227880"/>
              </a:xfrm>
              <a:prstGeom prst="ellipse">
                <a:avLst/>
              </a:prstGeom>
              <a:solidFill>
                <a:srgbClr val="800080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2742840" y="464040"/>
                <a:ext cx="0" cy="1443600"/>
              </a:xfrm>
              <a:prstGeom prst="line">
                <a:avLst/>
              </a:prstGeom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7" name=""/>
          <p:cNvGrpSpPr/>
          <p:nvPr/>
        </p:nvGrpSpPr>
        <p:grpSpPr>
          <a:xfrm>
            <a:off x="2666880" y="2204280"/>
            <a:ext cx="1974960" cy="1763280"/>
            <a:chOff x="2666880" y="2204280"/>
            <a:chExt cx="1974960" cy="1763280"/>
          </a:xfrm>
        </p:grpSpPr>
        <p:grpSp>
          <p:nvGrpSpPr>
            <p:cNvPr id="1168" name=""/>
            <p:cNvGrpSpPr/>
            <p:nvPr/>
          </p:nvGrpSpPr>
          <p:grpSpPr>
            <a:xfrm>
              <a:off x="2815560" y="3125520"/>
              <a:ext cx="1826280" cy="308160"/>
              <a:chOff x="2815560" y="3125520"/>
              <a:chExt cx="1826280" cy="308160"/>
            </a:xfrm>
          </p:grpSpPr>
          <p:sp>
            <p:nvSpPr>
              <p:cNvPr id="1169" name=""/>
              <p:cNvSpPr/>
              <p:nvPr/>
            </p:nvSpPr>
            <p:spPr>
              <a:xfrm flipV="1">
                <a:off x="2815560" y="3431160"/>
                <a:ext cx="1622880" cy="1080"/>
              </a:xfrm>
              <a:prstGeom prst="line">
                <a:avLst/>
              </a:prstGeom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rot="21597600">
                <a:off x="3018240" y="3125880"/>
                <a:ext cx="162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BASKETBAL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"/>
            <p:cNvGrpSpPr/>
            <p:nvPr/>
          </p:nvGrpSpPr>
          <p:grpSpPr>
            <a:xfrm>
              <a:off x="2810160" y="2590560"/>
              <a:ext cx="1830240" cy="315360"/>
              <a:chOff x="2810160" y="2590560"/>
              <a:chExt cx="1830240" cy="315360"/>
            </a:xfrm>
          </p:grpSpPr>
          <p:sp>
            <p:nvSpPr>
              <p:cNvPr id="1172" name=""/>
              <p:cNvSpPr/>
              <p:nvPr/>
            </p:nvSpPr>
            <p:spPr>
              <a:xfrm>
                <a:off x="2810160" y="2895840"/>
                <a:ext cx="1626480" cy="8280"/>
              </a:xfrm>
              <a:prstGeom prst="line">
                <a:avLst/>
              </a:prstGeom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rot="17400">
                <a:off x="3013920" y="2594520"/>
                <a:ext cx="162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VIDE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4" name=""/>
            <p:cNvGrpSpPr/>
            <p:nvPr/>
          </p:nvGrpSpPr>
          <p:grpSpPr>
            <a:xfrm>
              <a:off x="2816640" y="2204280"/>
              <a:ext cx="1823760" cy="320760"/>
              <a:chOff x="2816640" y="2204280"/>
              <a:chExt cx="1823760" cy="320760"/>
            </a:xfrm>
          </p:grpSpPr>
          <p:sp>
            <p:nvSpPr>
              <p:cNvPr id="1175" name=""/>
              <p:cNvSpPr/>
              <p:nvPr/>
            </p:nvSpPr>
            <p:spPr>
              <a:xfrm flipV="1">
                <a:off x="2816640" y="2515680"/>
                <a:ext cx="1621080" cy="9360"/>
              </a:xfrm>
              <a:prstGeom prst="line">
                <a:avLst/>
              </a:prstGeom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rot="21580200">
                <a:off x="3017880" y="2208960"/>
                <a:ext cx="1621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MUSI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7" name=""/>
            <p:cNvGrpSpPr/>
            <p:nvPr/>
          </p:nvGrpSpPr>
          <p:grpSpPr>
            <a:xfrm>
              <a:off x="2819160" y="3658680"/>
              <a:ext cx="1820160" cy="308880"/>
              <a:chOff x="2819160" y="3658680"/>
              <a:chExt cx="1820160" cy="308880"/>
            </a:xfrm>
          </p:grpSpPr>
          <p:sp>
            <p:nvSpPr>
              <p:cNvPr id="1178" name=""/>
              <p:cNvSpPr/>
              <p:nvPr/>
            </p:nvSpPr>
            <p:spPr>
              <a:xfrm flipV="1">
                <a:off x="2819160" y="3964320"/>
                <a:ext cx="1620360" cy="1800"/>
              </a:xfrm>
              <a:prstGeom prst="line">
                <a:avLst/>
              </a:prstGeom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rot="21595800">
                <a:off x="3019680" y="3659400"/>
                <a:ext cx="1619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SWIMM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"/>
            <p:cNvGrpSpPr/>
            <p:nvPr/>
          </p:nvGrpSpPr>
          <p:grpSpPr>
            <a:xfrm>
              <a:off x="2666880" y="2521440"/>
              <a:ext cx="227520" cy="1443600"/>
              <a:chOff x="2666880" y="2521440"/>
              <a:chExt cx="227520" cy="1443600"/>
            </a:xfrm>
          </p:grpSpPr>
          <p:sp>
            <p:nvSpPr>
              <p:cNvPr id="1181" name=""/>
              <p:cNvSpPr/>
              <p:nvPr/>
            </p:nvSpPr>
            <p:spPr>
              <a:xfrm>
                <a:off x="2666880" y="3128760"/>
                <a:ext cx="227520" cy="227880"/>
              </a:xfrm>
              <a:prstGeom prst="ellipse">
                <a:avLst/>
              </a:prstGeom>
              <a:solidFill>
                <a:srgbClr val="800080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2818800" y="2521440"/>
                <a:ext cx="0" cy="1443600"/>
              </a:xfrm>
              <a:prstGeom prst="line">
                <a:avLst/>
              </a:prstGeom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3" name=""/>
          <p:cNvGrpSpPr/>
          <p:nvPr/>
        </p:nvGrpSpPr>
        <p:grpSpPr>
          <a:xfrm>
            <a:off x="2590920" y="4261680"/>
            <a:ext cx="1974600" cy="1763280"/>
            <a:chOff x="2590920" y="4261680"/>
            <a:chExt cx="1974600" cy="1763280"/>
          </a:xfrm>
        </p:grpSpPr>
        <p:grpSp>
          <p:nvGrpSpPr>
            <p:cNvPr id="1184" name=""/>
            <p:cNvGrpSpPr/>
            <p:nvPr/>
          </p:nvGrpSpPr>
          <p:grpSpPr>
            <a:xfrm>
              <a:off x="2739600" y="5182920"/>
              <a:ext cx="1825920" cy="308160"/>
              <a:chOff x="2739600" y="5182920"/>
              <a:chExt cx="1825920" cy="308160"/>
            </a:xfrm>
          </p:grpSpPr>
          <p:sp>
            <p:nvSpPr>
              <p:cNvPr id="1185" name=""/>
              <p:cNvSpPr/>
              <p:nvPr/>
            </p:nvSpPr>
            <p:spPr>
              <a:xfrm flipV="1">
                <a:off x="2739600" y="5488560"/>
                <a:ext cx="1622520" cy="1080"/>
              </a:xfrm>
              <a:prstGeom prst="line">
                <a:avLst/>
              </a:prstGeom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 rot="21597600">
                <a:off x="2942280" y="5183280"/>
                <a:ext cx="1622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BASKETBAL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7" name=""/>
            <p:cNvGrpSpPr/>
            <p:nvPr/>
          </p:nvGrpSpPr>
          <p:grpSpPr>
            <a:xfrm>
              <a:off x="2734200" y="4647960"/>
              <a:ext cx="1829520" cy="315360"/>
              <a:chOff x="2734200" y="4647960"/>
              <a:chExt cx="1829520" cy="315360"/>
            </a:xfrm>
          </p:grpSpPr>
          <p:sp>
            <p:nvSpPr>
              <p:cNvPr id="1188" name=""/>
              <p:cNvSpPr/>
              <p:nvPr/>
            </p:nvSpPr>
            <p:spPr>
              <a:xfrm>
                <a:off x="2734200" y="4953240"/>
                <a:ext cx="1626120" cy="8280"/>
              </a:xfrm>
              <a:prstGeom prst="line">
                <a:avLst/>
              </a:prstGeom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 rot="17400">
                <a:off x="2937600" y="4651920"/>
                <a:ext cx="1625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VIDE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0" name=""/>
            <p:cNvGrpSpPr/>
            <p:nvPr/>
          </p:nvGrpSpPr>
          <p:grpSpPr>
            <a:xfrm>
              <a:off x="2740680" y="4261680"/>
              <a:ext cx="1823400" cy="320760"/>
              <a:chOff x="2740680" y="4261680"/>
              <a:chExt cx="1823400" cy="320760"/>
            </a:xfrm>
          </p:grpSpPr>
          <p:sp>
            <p:nvSpPr>
              <p:cNvPr id="1191" name=""/>
              <p:cNvSpPr/>
              <p:nvPr/>
            </p:nvSpPr>
            <p:spPr>
              <a:xfrm flipV="1">
                <a:off x="2740680" y="4573080"/>
                <a:ext cx="1620720" cy="9360"/>
              </a:xfrm>
              <a:prstGeom prst="line">
                <a:avLst/>
              </a:prstGeom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 rot="21580200">
                <a:off x="2941920" y="4266360"/>
                <a:ext cx="1621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MUSI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3" name=""/>
            <p:cNvGrpSpPr/>
            <p:nvPr/>
          </p:nvGrpSpPr>
          <p:grpSpPr>
            <a:xfrm>
              <a:off x="2743200" y="5716080"/>
              <a:ext cx="1819800" cy="308880"/>
              <a:chOff x="2743200" y="5716080"/>
              <a:chExt cx="1819800" cy="308880"/>
            </a:xfrm>
          </p:grpSpPr>
          <p:sp>
            <p:nvSpPr>
              <p:cNvPr id="1194" name=""/>
              <p:cNvSpPr/>
              <p:nvPr/>
            </p:nvSpPr>
            <p:spPr>
              <a:xfrm flipV="1">
                <a:off x="2743200" y="6021720"/>
                <a:ext cx="1620000" cy="1800"/>
              </a:xfrm>
              <a:prstGeom prst="line">
                <a:avLst/>
              </a:prstGeom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rot="21595800">
                <a:off x="2943720" y="5716800"/>
                <a:ext cx="1618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800080"/>
                    </a:solidFill>
                    <a:latin typeface="Times New Roman"/>
                  </a:rPr>
                  <a:t>SWIMM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2590920" y="4578840"/>
              <a:ext cx="227520" cy="1443600"/>
              <a:chOff x="2590920" y="4578840"/>
              <a:chExt cx="227520" cy="1443600"/>
            </a:xfrm>
          </p:grpSpPr>
          <p:sp>
            <p:nvSpPr>
              <p:cNvPr id="1197" name=""/>
              <p:cNvSpPr/>
              <p:nvPr/>
            </p:nvSpPr>
            <p:spPr>
              <a:xfrm>
                <a:off x="2590920" y="5186160"/>
                <a:ext cx="227520" cy="227880"/>
              </a:xfrm>
              <a:prstGeom prst="ellipse">
                <a:avLst/>
              </a:prstGeom>
              <a:solidFill>
                <a:srgbClr val="800080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2742840" y="4578840"/>
                <a:ext cx="0" cy="1443600"/>
              </a:xfrm>
              <a:prstGeom prst="line">
                <a:avLst/>
              </a:prstGeom>
              <a:ln w="57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9" name=""/>
          <p:cNvSpPr/>
          <p:nvPr/>
        </p:nvSpPr>
        <p:spPr>
          <a:xfrm>
            <a:off x="0" y="0"/>
            <a:ext cx="7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105520" y="3124080"/>
            <a:ext cx="16714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1" name=""/>
          <p:cNvGrpSpPr/>
          <p:nvPr/>
        </p:nvGrpSpPr>
        <p:grpSpPr>
          <a:xfrm>
            <a:off x="4343400" y="228600"/>
            <a:ext cx="1746360" cy="379440"/>
            <a:chOff x="4343400" y="228600"/>
            <a:chExt cx="1746360" cy="379440"/>
          </a:xfrm>
        </p:grpSpPr>
        <p:sp>
          <p:nvSpPr>
            <p:cNvPr id="1202" name=""/>
            <p:cNvSpPr/>
            <p:nvPr/>
          </p:nvSpPr>
          <p:spPr>
            <a:xfrm>
              <a:off x="4343400" y="228600"/>
              <a:ext cx="1594440" cy="37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343400" y="228600"/>
              <a:ext cx="174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rench/Mus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4" name=""/>
          <p:cNvGrpSpPr/>
          <p:nvPr/>
        </p:nvGrpSpPr>
        <p:grpSpPr>
          <a:xfrm>
            <a:off x="4343400" y="685800"/>
            <a:ext cx="1746360" cy="379440"/>
            <a:chOff x="4343400" y="685800"/>
            <a:chExt cx="1746360" cy="379440"/>
          </a:xfrm>
        </p:grpSpPr>
        <p:sp>
          <p:nvSpPr>
            <p:cNvPr id="1205" name=""/>
            <p:cNvSpPr/>
            <p:nvPr/>
          </p:nvSpPr>
          <p:spPr>
            <a:xfrm>
              <a:off x="4343400" y="685800"/>
              <a:ext cx="1594440" cy="37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343400" y="685800"/>
              <a:ext cx="174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rench/Vide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7" name=""/>
          <p:cNvGrpSpPr/>
          <p:nvPr/>
        </p:nvGrpSpPr>
        <p:grpSpPr>
          <a:xfrm>
            <a:off x="4343400" y="1143000"/>
            <a:ext cx="1746360" cy="379440"/>
            <a:chOff x="4343400" y="1143000"/>
            <a:chExt cx="1746360" cy="379440"/>
          </a:xfrm>
        </p:grpSpPr>
        <p:sp>
          <p:nvSpPr>
            <p:cNvPr id="1208" name=""/>
            <p:cNvSpPr/>
            <p:nvPr/>
          </p:nvSpPr>
          <p:spPr>
            <a:xfrm>
              <a:off x="4343400" y="1143000"/>
              <a:ext cx="1594440" cy="37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343400" y="1143000"/>
              <a:ext cx="174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French/Bsktb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"/>
          <p:cNvGrpSpPr/>
          <p:nvPr/>
        </p:nvGrpSpPr>
        <p:grpSpPr>
          <a:xfrm>
            <a:off x="4343400" y="1676520"/>
            <a:ext cx="1746360" cy="379440"/>
            <a:chOff x="4343400" y="1676520"/>
            <a:chExt cx="1746360" cy="379440"/>
          </a:xfrm>
        </p:grpSpPr>
        <p:sp>
          <p:nvSpPr>
            <p:cNvPr id="1211" name=""/>
            <p:cNvSpPr/>
            <p:nvPr/>
          </p:nvSpPr>
          <p:spPr>
            <a:xfrm>
              <a:off x="4343400" y="1676520"/>
              <a:ext cx="1594440" cy="37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343400" y="1676520"/>
              <a:ext cx="174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rench/Swi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3" name=""/>
          <p:cNvGrpSpPr/>
          <p:nvPr/>
        </p:nvGrpSpPr>
        <p:grpSpPr>
          <a:xfrm>
            <a:off x="4419720" y="2286000"/>
            <a:ext cx="1746000" cy="379440"/>
            <a:chOff x="4419720" y="2286000"/>
            <a:chExt cx="1746000" cy="379440"/>
          </a:xfrm>
        </p:grpSpPr>
        <p:sp>
          <p:nvSpPr>
            <p:cNvPr id="1214" name=""/>
            <p:cNvSpPr/>
            <p:nvPr/>
          </p:nvSpPr>
          <p:spPr>
            <a:xfrm>
              <a:off x="4419720" y="2286000"/>
              <a:ext cx="1594080" cy="37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419720" y="2286000"/>
              <a:ext cx="174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rman/Mus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4419720" y="2743200"/>
            <a:ext cx="1746000" cy="379440"/>
            <a:chOff x="4419720" y="2743200"/>
            <a:chExt cx="1746000" cy="379440"/>
          </a:xfrm>
        </p:grpSpPr>
        <p:sp>
          <p:nvSpPr>
            <p:cNvPr id="1217" name=""/>
            <p:cNvSpPr/>
            <p:nvPr/>
          </p:nvSpPr>
          <p:spPr>
            <a:xfrm>
              <a:off x="4419720" y="2743200"/>
              <a:ext cx="1594080" cy="37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419720" y="2743200"/>
              <a:ext cx="174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rman/Vide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9" name=""/>
          <p:cNvGrpSpPr/>
          <p:nvPr/>
        </p:nvGrpSpPr>
        <p:grpSpPr>
          <a:xfrm>
            <a:off x="4419720" y="3200400"/>
            <a:ext cx="1746000" cy="379440"/>
            <a:chOff x="4419720" y="3200400"/>
            <a:chExt cx="1746000" cy="379440"/>
          </a:xfrm>
        </p:grpSpPr>
        <p:sp>
          <p:nvSpPr>
            <p:cNvPr id="1220" name=""/>
            <p:cNvSpPr/>
            <p:nvPr/>
          </p:nvSpPr>
          <p:spPr>
            <a:xfrm>
              <a:off x="4419720" y="3200400"/>
              <a:ext cx="1594080" cy="37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419720" y="3200400"/>
              <a:ext cx="174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German/Bsktb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2" name=""/>
          <p:cNvGrpSpPr/>
          <p:nvPr/>
        </p:nvGrpSpPr>
        <p:grpSpPr>
          <a:xfrm>
            <a:off x="4419720" y="3733920"/>
            <a:ext cx="1746000" cy="379440"/>
            <a:chOff x="4419720" y="3733920"/>
            <a:chExt cx="1746000" cy="379440"/>
          </a:xfrm>
        </p:grpSpPr>
        <p:sp>
          <p:nvSpPr>
            <p:cNvPr id="1223" name=""/>
            <p:cNvSpPr/>
            <p:nvPr/>
          </p:nvSpPr>
          <p:spPr>
            <a:xfrm>
              <a:off x="4419720" y="3733920"/>
              <a:ext cx="1594080" cy="37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419720" y="3733920"/>
              <a:ext cx="174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rman/Swi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"/>
          <p:cNvGrpSpPr/>
          <p:nvPr/>
        </p:nvGrpSpPr>
        <p:grpSpPr>
          <a:xfrm>
            <a:off x="4343400" y="4343400"/>
            <a:ext cx="1746360" cy="379440"/>
            <a:chOff x="4343400" y="4343400"/>
            <a:chExt cx="1746360" cy="379440"/>
          </a:xfrm>
        </p:grpSpPr>
        <p:sp>
          <p:nvSpPr>
            <p:cNvPr id="1226" name=""/>
            <p:cNvSpPr/>
            <p:nvPr/>
          </p:nvSpPr>
          <p:spPr>
            <a:xfrm>
              <a:off x="4343400" y="4343400"/>
              <a:ext cx="1594440" cy="37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343400" y="4343400"/>
              <a:ext cx="174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panish/Mus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8" name=""/>
          <p:cNvGrpSpPr/>
          <p:nvPr/>
        </p:nvGrpSpPr>
        <p:grpSpPr>
          <a:xfrm>
            <a:off x="4343400" y="4800600"/>
            <a:ext cx="1746360" cy="379440"/>
            <a:chOff x="4343400" y="4800600"/>
            <a:chExt cx="1746360" cy="379440"/>
          </a:xfrm>
        </p:grpSpPr>
        <p:sp>
          <p:nvSpPr>
            <p:cNvPr id="1229" name=""/>
            <p:cNvSpPr/>
            <p:nvPr/>
          </p:nvSpPr>
          <p:spPr>
            <a:xfrm>
              <a:off x="4343400" y="4800600"/>
              <a:ext cx="1594440" cy="37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343400" y="4800600"/>
              <a:ext cx="174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panish/Vide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4343400" y="5257800"/>
            <a:ext cx="1746360" cy="379440"/>
            <a:chOff x="4343400" y="5257800"/>
            <a:chExt cx="1746360" cy="379440"/>
          </a:xfrm>
        </p:grpSpPr>
        <p:sp>
          <p:nvSpPr>
            <p:cNvPr id="1232" name=""/>
            <p:cNvSpPr/>
            <p:nvPr/>
          </p:nvSpPr>
          <p:spPr>
            <a:xfrm>
              <a:off x="4343400" y="5257800"/>
              <a:ext cx="1594440" cy="37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343400" y="5257800"/>
              <a:ext cx="174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Spanish/Bsktb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4" name=""/>
          <p:cNvGrpSpPr/>
          <p:nvPr/>
        </p:nvGrpSpPr>
        <p:grpSpPr>
          <a:xfrm>
            <a:off x="4343400" y="5791320"/>
            <a:ext cx="1746360" cy="379440"/>
            <a:chOff x="4343400" y="5791320"/>
            <a:chExt cx="1746360" cy="379440"/>
          </a:xfrm>
        </p:grpSpPr>
        <p:sp>
          <p:nvSpPr>
            <p:cNvPr id="1235" name=""/>
            <p:cNvSpPr/>
            <p:nvPr/>
          </p:nvSpPr>
          <p:spPr>
            <a:xfrm>
              <a:off x="4343400" y="5791320"/>
              <a:ext cx="1594440" cy="37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343400" y="5791320"/>
              <a:ext cx="174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panish/Swi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7" name=""/>
          <p:cNvSpPr/>
          <p:nvPr/>
        </p:nvSpPr>
        <p:spPr>
          <a:xfrm>
            <a:off x="6372360" y="523800"/>
            <a:ext cx="2073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. of possi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co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6660720" y="2743200"/>
            <a:ext cx="17139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ability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6087960" y="3614760"/>
            <a:ext cx="311148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favou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possi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156360" y="4046400"/>
            <a:ext cx="2987640" cy="30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6226920" y="1989000"/>
            <a:ext cx="2526120" cy="703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alculate si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abil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755640" y="620640"/>
            <a:ext cx="1224000" cy="576360"/>
          </a:xfrm>
          <a:prstGeom prst="ellipse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755640" y="4724280"/>
            <a:ext cx="1224000" cy="576360"/>
          </a:xfrm>
          <a:prstGeom prst="ellipse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826920" y="2781360"/>
            <a:ext cx="1224000" cy="576360"/>
          </a:xfrm>
          <a:prstGeom prst="ellipse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2916360" y="1484280"/>
            <a:ext cx="1224000" cy="576360"/>
          </a:xfrm>
          <a:prstGeom prst="ellipse">
            <a:avLst/>
          </a:prstGeom>
          <a:noFill/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2987640" y="907920"/>
            <a:ext cx="1224000" cy="576360"/>
          </a:xfrm>
          <a:prstGeom prst="ellipse">
            <a:avLst/>
          </a:prstGeom>
          <a:noFill/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2771640" y="404640"/>
            <a:ext cx="1224000" cy="576360"/>
          </a:xfrm>
          <a:prstGeom prst="ellipse">
            <a:avLst/>
          </a:prstGeom>
          <a:noFill/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2700360" y="0"/>
            <a:ext cx="1224000" cy="576360"/>
          </a:xfrm>
          <a:prstGeom prst="ellipse">
            <a:avLst/>
          </a:prstGeom>
          <a:noFill/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6" dur="80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7" dur="80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8" dur="80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3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500"/>
                            </p:stCondLst>
                            <p:childTnLst>
                              <p:par>
                                <p:cTn id="9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7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1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7" dur="80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8" dur="80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9" dur="80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1280"/>
                            </p:stCondLst>
                            <p:childTnLst>
                              <p:par>
                                <p:cTn id="10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1780"/>
                            </p:stCondLst>
                            <p:childTnLst>
                              <p:par>
                                <p:cTn id="10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8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2280"/>
                            </p:stCondLst>
                            <p:childTnLst>
                              <p:par>
                                <p:cTn id="10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"/>
          <p:cNvSpPr/>
          <p:nvPr/>
        </p:nvSpPr>
        <p:spPr>
          <a:xfrm>
            <a:off x="0" y="352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delivery times for a fast food 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shown in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ing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umulati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requency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0" name=""/>
          <p:cNvGrpSpPr/>
          <p:nvPr/>
        </p:nvGrpSpPr>
        <p:grpSpPr>
          <a:xfrm>
            <a:off x="1042920" y="1495440"/>
            <a:ext cx="6477120" cy="2898000"/>
            <a:chOff x="1042920" y="1495440"/>
            <a:chExt cx="6477120" cy="2898000"/>
          </a:xfrm>
        </p:grpSpPr>
        <p:grpSp>
          <p:nvGrpSpPr>
            <p:cNvPr id="1251" name=""/>
            <p:cNvGrpSpPr/>
            <p:nvPr/>
          </p:nvGrpSpPr>
          <p:grpSpPr>
            <a:xfrm>
              <a:off x="1042920" y="1495440"/>
              <a:ext cx="4952880" cy="2895480"/>
              <a:chOff x="1042920" y="1495440"/>
              <a:chExt cx="4952880" cy="2895480"/>
            </a:xfrm>
          </p:grpSpPr>
          <p:sp>
            <p:nvSpPr>
              <p:cNvPr id="1252" name=""/>
              <p:cNvSpPr/>
              <p:nvPr/>
            </p:nvSpPr>
            <p:spPr>
              <a:xfrm>
                <a:off x="1042920" y="1495440"/>
                <a:ext cx="4952880" cy="28954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3557520" y="1495440"/>
                <a:ext cx="0" cy="289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1042920" y="2104920"/>
                <a:ext cx="4952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1042920" y="2562120"/>
                <a:ext cx="4952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1042920" y="3019320"/>
                <a:ext cx="4952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1042920" y="3476520"/>
                <a:ext cx="4952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1042920" y="3933720"/>
                <a:ext cx="4952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"/>
            <p:cNvSpPr/>
            <p:nvPr/>
          </p:nvSpPr>
          <p:spPr>
            <a:xfrm>
              <a:off x="1728720" y="1571400"/>
              <a:ext cx="579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No. Deliverie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1347840" y="2104920"/>
              <a:ext cx="449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up to  4 mins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    5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1347840" y="2562120"/>
              <a:ext cx="449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up to  8 mins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   13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347840" y="3019320"/>
              <a:ext cx="449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up to 12 mins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   37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347840" y="3476520"/>
              <a:ext cx="449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up to 16 mins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   53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347840" y="3933720"/>
              <a:ext cx="449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up to 20 mins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   60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5" name=""/>
          <p:cNvSpPr/>
          <p:nvPr/>
        </p:nvSpPr>
        <p:spPr>
          <a:xfrm>
            <a:off x="304920" y="545796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the data to construct a cumulative frequency gra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304920" y="599112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c)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se the graph to find the median and semi-interquartil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ange for this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304920" y="48481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ow many deliveries took longer than 16 mi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0" y="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TATISTICS : Question 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>
            <a:hlinkClick r:id="rId1" action="ppaction://hlinksldjump"/>
          </p:cNvPr>
          <p:cNvSpPr/>
          <p:nvPr/>
        </p:nvSpPr>
        <p:spPr>
          <a:xfrm>
            <a:off x="6948360" y="206208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>
            <a:hlinkClick r:id="rId2" action="ppaction://hlinksldjump"/>
          </p:cNvPr>
          <p:cNvSpPr/>
          <p:nvPr/>
        </p:nvSpPr>
        <p:spPr>
          <a:xfrm>
            <a:off x="6948360" y="266544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6948360" y="32418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6948360" y="3933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7536240" y="266544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7539840" y="32418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7539120" y="393372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7606800" y="209088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veal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>
            <a:hlinkClick r:id="" action="ppaction://hlinkshowjump?jump=nextslide"/>
          </p:cNvPr>
          <p:cNvSpPr/>
          <p:nvPr/>
        </p:nvSpPr>
        <p:spPr>
          <a:xfrm>
            <a:off x="6948360" y="15145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7538040" y="151452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h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"/>
          <p:cNvSpPr/>
          <p:nvPr/>
        </p:nvSpPr>
        <p:spPr>
          <a:xfrm>
            <a:off x="0" y="352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delivery times for a fast food 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shown in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ing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umulati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requency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1042920" y="1495440"/>
            <a:ext cx="6477120" cy="2898000"/>
            <a:chOff x="1042920" y="1495440"/>
            <a:chExt cx="6477120" cy="2898000"/>
          </a:xfrm>
        </p:grpSpPr>
        <p:grpSp>
          <p:nvGrpSpPr>
            <p:cNvPr id="1281" name=""/>
            <p:cNvGrpSpPr/>
            <p:nvPr/>
          </p:nvGrpSpPr>
          <p:grpSpPr>
            <a:xfrm>
              <a:off x="1042920" y="1495440"/>
              <a:ext cx="4952880" cy="2895480"/>
              <a:chOff x="1042920" y="1495440"/>
              <a:chExt cx="4952880" cy="2895480"/>
            </a:xfrm>
          </p:grpSpPr>
          <p:sp>
            <p:nvSpPr>
              <p:cNvPr id="1282" name=""/>
              <p:cNvSpPr/>
              <p:nvPr/>
            </p:nvSpPr>
            <p:spPr>
              <a:xfrm>
                <a:off x="1042920" y="1495440"/>
                <a:ext cx="4952880" cy="28954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557520" y="1495440"/>
                <a:ext cx="0" cy="289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1042920" y="2104920"/>
                <a:ext cx="4952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1042920" y="2562120"/>
                <a:ext cx="4952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1042920" y="3019320"/>
                <a:ext cx="4952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042920" y="3476520"/>
                <a:ext cx="4952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1042920" y="3933720"/>
                <a:ext cx="4952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"/>
            <p:cNvSpPr/>
            <p:nvPr/>
          </p:nvSpPr>
          <p:spPr>
            <a:xfrm>
              <a:off x="1728720" y="1571400"/>
              <a:ext cx="579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No. Deliverie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347840" y="2104920"/>
              <a:ext cx="449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up to  4 mins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    5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347840" y="2562120"/>
              <a:ext cx="449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up to  8 mins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   13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347840" y="3019320"/>
              <a:ext cx="449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up to 12 mins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   37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347840" y="3476520"/>
              <a:ext cx="449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up to 16 mins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   53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347840" y="3933720"/>
              <a:ext cx="449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up to 20 mins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   60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5" name=""/>
          <p:cNvSpPr/>
          <p:nvPr/>
        </p:nvSpPr>
        <p:spPr>
          <a:xfrm>
            <a:off x="304920" y="545796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the data to construct a cumulative frequency gra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304920" y="599112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c)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se the graph to find the median and semi-interquartil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ange for this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304920" y="48481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ow many deliveries took longer than 16 mi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0" y="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TATISTICS : Question 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>
            <a:hlinkClick r:id="" action="ppaction://hlinkshowjump?jump=nextslide"/>
          </p:cNvPr>
          <p:cNvSpPr/>
          <p:nvPr/>
        </p:nvSpPr>
        <p:spPr>
          <a:xfrm>
            <a:off x="6948360" y="206208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948360" y="266544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6948360" y="32418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6948360" y="3933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7536240" y="266544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7539840" y="32418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7539120" y="393372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7606800" y="209088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veal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179280" y="981000"/>
            <a:ext cx="2952720" cy="2952720"/>
          </a:xfrm>
          <a:prstGeom prst="cloudCallout">
            <a:avLst>
              <a:gd name="adj1" fmla="val 151236"/>
              <a:gd name="adj2" fmla="val 84569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how many greater  than 16 find difference between end value of values up to 1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611280" y="1484280"/>
            <a:ext cx="2736720" cy="2808360"/>
          </a:xfrm>
          <a:prstGeom prst="cloudCallout">
            <a:avLst>
              <a:gd name="adj1" fmla="val 106263"/>
              <a:gd name="adj2" fmla="val 112689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an is middle value- so we want halfway-point on frequency ax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0" y="2565360"/>
            <a:ext cx="4680000" cy="1511280"/>
          </a:xfrm>
          <a:prstGeom prst="cloudCallout">
            <a:avLst>
              <a:gd name="adj1" fmla="val 99865"/>
              <a:gd name="adj2" fmla="val 177625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QR = ½(Q3 – Q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1 – 25% point &amp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3 – 75%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5095080" y="105264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0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55" dur="500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6" dur="500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500"/>
                            </p:stCondLst>
                            <p:childTnLst>
                              <p:par>
                                <p:cTn id="10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7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"/>
          <p:cNvSpPr/>
          <p:nvPr/>
        </p:nvSpPr>
        <p:spPr>
          <a:xfrm>
            <a:off x="0" y="352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delivery times for a fast food 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shown in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ing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umulati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requency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2" name=""/>
          <p:cNvGrpSpPr/>
          <p:nvPr/>
        </p:nvGrpSpPr>
        <p:grpSpPr>
          <a:xfrm>
            <a:off x="1042920" y="1495440"/>
            <a:ext cx="6477120" cy="2898000"/>
            <a:chOff x="1042920" y="1495440"/>
            <a:chExt cx="6477120" cy="2898000"/>
          </a:xfrm>
        </p:grpSpPr>
        <p:grpSp>
          <p:nvGrpSpPr>
            <p:cNvPr id="1313" name=""/>
            <p:cNvGrpSpPr/>
            <p:nvPr/>
          </p:nvGrpSpPr>
          <p:grpSpPr>
            <a:xfrm>
              <a:off x="1042920" y="1495440"/>
              <a:ext cx="4952880" cy="2895480"/>
              <a:chOff x="1042920" y="1495440"/>
              <a:chExt cx="4952880" cy="2895480"/>
            </a:xfrm>
          </p:grpSpPr>
          <p:sp>
            <p:nvSpPr>
              <p:cNvPr id="1314" name=""/>
              <p:cNvSpPr/>
              <p:nvPr/>
            </p:nvSpPr>
            <p:spPr>
              <a:xfrm>
                <a:off x="1042920" y="1495440"/>
                <a:ext cx="4952880" cy="28954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3557520" y="1495440"/>
                <a:ext cx="0" cy="289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1042920" y="2104920"/>
                <a:ext cx="4952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1042920" y="2562120"/>
                <a:ext cx="4952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1042920" y="3019320"/>
                <a:ext cx="4952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1042920" y="3476520"/>
                <a:ext cx="4952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1042920" y="3933720"/>
                <a:ext cx="4952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1" name=""/>
            <p:cNvSpPr/>
            <p:nvPr/>
          </p:nvSpPr>
          <p:spPr>
            <a:xfrm>
              <a:off x="1728720" y="1571400"/>
              <a:ext cx="579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No. Deliverie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347840" y="2104920"/>
              <a:ext cx="449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up to  4 mins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    5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347840" y="2562120"/>
              <a:ext cx="449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up to  8 mins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   13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347840" y="3019320"/>
              <a:ext cx="449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up to 12 mins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   37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347840" y="3476520"/>
              <a:ext cx="449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up to 16 mins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   53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1347840" y="3933720"/>
              <a:ext cx="449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up to 20 mins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   60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7" name=""/>
          <p:cNvSpPr/>
          <p:nvPr/>
        </p:nvSpPr>
        <p:spPr>
          <a:xfrm>
            <a:off x="304920" y="545796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the data to construct a cumulative frequency gra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304920" y="599112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c)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se the graph to find the median and semi-interquartil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ange for this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304920" y="48481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ow many deliveries took longer than 16 mi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0" y="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TATISTICS : Question 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>
            <a:hlinkClick r:id="" action="ppaction://hlinkshowjump?jump=nextslide"/>
          </p:cNvPr>
          <p:cNvSpPr/>
          <p:nvPr/>
        </p:nvSpPr>
        <p:spPr>
          <a:xfrm>
            <a:off x="6948360" y="266544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6948360" y="32418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6948360" y="3933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7536240" y="266544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7539840" y="32418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7539120" y="393372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7793280" y="4863960"/>
            <a:ext cx="54180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4047120" y="6416640"/>
            <a:ext cx="229284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dian = 11 m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6586920" y="6416640"/>
            <a:ext cx="225036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IQR = 2.75 m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>
            <a:hlinkClick r:id="" action="ppaction://hlinkshowjump?jump=nextslide"/>
          </p:cNvPr>
          <p:cNvSpPr/>
          <p:nvPr/>
        </p:nvSpPr>
        <p:spPr>
          <a:xfrm>
            <a:off x="8675640" y="5446800"/>
            <a:ext cx="468360" cy="503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03280"/>
              <a:gd name="textAreaBottom" fmla="*/ 473040 h 503280"/>
            </a:gdLst>
            <a:ahLst/>
            <a:rect l="textAreaLeft" t="textAreaTop" r="textAreaRight" b="textAreaBottom"/>
            <a:pathLst>
              <a:path w="21600" h="23209">
                <a:moveTo>
                  <a:pt x="0" y="0"/>
                </a:moveTo>
                <a:lnTo>
                  <a:pt x="21600" y="0"/>
                </a:lnTo>
                <a:lnTo>
                  <a:pt x="21600" y="23209"/>
                </a:lnTo>
                <a:lnTo>
                  <a:pt x="0" y="23209"/>
                </a:lnTo>
                <a:close/>
              </a:path>
              <a:path fill="lightenLess" w="21600" h="23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09">
                <a:moveTo>
                  <a:pt x="21600" y="0"/>
                </a:moveTo>
                <a:lnTo>
                  <a:pt x="21600" y="23209"/>
                </a:lnTo>
                <a:lnTo>
                  <a:pt x="20200" y="21809"/>
                </a:lnTo>
                <a:lnTo>
                  <a:pt x="20200" y="1400"/>
                </a:lnTo>
                <a:close/>
              </a:path>
              <a:path fill="darkenLess" w="21600" h="23209">
                <a:moveTo>
                  <a:pt x="21600" y="23209"/>
                </a:moveTo>
                <a:lnTo>
                  <a:pt x="0" y="23209"/>
                </a:lnTo>
                <a:lnTo>
                  <a:pt x="1400" y="21809"/>
                </a:lnTo>
                <a:lnTo>
                  <a:pt x="20200" y="21809"/>
                </a:lnTo>
                <a:close/>
              </a:path>
              <a:path fill="lighten" w="21600" h="23209">
                <a:moveTo>
                  <a:pt x="0" y="23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0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8675640" y="5662440"/>
            <a:ext cx="468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fill="hold">
                      <p:stCondLst>
                        <p:cond delay="0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4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500"/>
                            </p:stCondLst>
                            <p:childTnLst>
                              <p:par>
                                <p:cTn id="10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1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9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"/>
          <p:cNvSpPr/>
          <p:nvPr/>
        </p:nvSpPr>
        <p:spPr>
          <a:xfrm>
            <a:off x="3200400" y="6324480"/>
            <a:ext cx="5943600" cy="38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457200" y="6324480"/>
            <a:ext cx="2590920" cy="38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4" name=""/>
          <p:cNvGrpSpPr/>
          <p:nvPr/>
        </p:nvGrpSpPr>
        <p:grpSpPr>
          <a:xfrm>
            <a:off x="304920" y="609480"/>
            <a:ext cx="8407440" cy="5564880"/>
            <a:chOff x="304920" y="609480"/>
            <a:chExt cx="8407440" cy="5564880"/>
          </a:xfrm>
        </p:grpSpPr>
        <p:pic>
          <p:nvPicPr>
            <p:cNvPr id="1345" name="" descr=""/>
            <p:cNvPicPr/>
            <p:nvPr/>
          </p:nvPicPr>
          <p:blipFill>
            <a:blip r:embed="rId1"/>
            <a:srcRect l="1507" t="4741" r="11303" b="2032"/>
            <a:stretch/>
          </p:blipFill>
          <p:spPr>
            <a:xfrm>
              <a:off x="380880" y="762120"/>
              <a:ext cx="833148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6" name=""/>
            <p:cNvSpPr/>
            <p:nvPr/>
          </p:nvSpPr>
          <p:spPr>
            <a:xfrm>
              <a:off x="6705720" y="586728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Delivery time(min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04920" y="6094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um freq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8" name=""/>
          <p:cNvSpPr/>
          <p:nvPr/>
        </p:nvSpPr>
        <p:spPr>
          <a:xfrm>
            <a:off x="2133720" y="5334120"/>
            <a:ext cx="75960" cy="7596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3657600" y="4648320"/>
            <a:ext cx="76320" cy="7596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5181480" y="2666880"/>
            <a:ext cx="76320" cy="763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6629400" y="1371600"/>
            <a:ext cx="76320" cy="763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8229600" y="838080"/>
            <a:ext cx="76320" cy="763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609480" y="5715000"/>
            <a:ext cx="76320" cy="763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 flipV="1">
            <a:off x="609480" y="5409720"/>
            <a:ext cx="1524240" cy="38124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 flipV="1">
            <a:off x="2209680" y="4723920"/>
            <a:ext cx="1447920" cy="68580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 flipV="1">
            <a:off x="3657600" y="2742840"/>
            <a:ext cx="1523880" cy="198108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 flipV="1">
            <a:off x="5257800" y="1371600"/>
            <a:ext cx="1447920" cy="129528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 flipV="1">
            <a:off x="6705720" y="838080"/>
            <a:ext cx="1600200" cy="53352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685800" y="3352680"/>
            <a:ext cx="4114800" cy="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4800600" y="3352680"/>
            <a:ext cx="0" cy="243864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685800" y="4495680"/>
            <a:ext cx="3124080" cy="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3886200" y="4495680"/>
            <a:ext cx="0" cy="129564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685800" y="2057400"/>
            <a:ext cx="5257800" cy="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5943600" y="2057400"/>
            <a:ext cx="0" cy="373392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228600" y="3124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4648320" y="5791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228600" y="4419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3657600" y="57913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Times New Roman"/>
              </a:rPr>
              <a:t>8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228600" y="1905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Q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5791320" y="5791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Times New Roma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762120" y="289548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½ of 60 =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762120" y="41148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Arial"/>
              </a:rPr>
              <a:t>¼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of 60 =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762120" y="16002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¾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of 60 = 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457200" y="632448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)  Median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11min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3200400" y="630864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)  SIQR = ½(Q3 – Q1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6172200" y="630864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4 – 8.5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7620120" y="63086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2.75m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380880" y="0"/>
            <a:ext cx="6477120" cy="380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380880" y="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(a)  Deliveries taking longer than 16 mins = 60 – 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6095880" y="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>
            <a:hlinkClick r:id="" action="ppaction://hlinkshowjump?jump=nextslide"/>
          </p:cNvPr>
          <p:cNvSpPr/>
          <p:nvPr/>
        </p:nvSpPr>
        <p:spPr>
          <a:xfrm>
            <a:off x="6732720" y="256536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6732720" y="325764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7323840" y="256536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7323120" y="325764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5" name=""/>
          <p:cNvGraphicFramePr/>
          <p:nvPr/>
        </p:nvGraphicFramePr>
        <p:xfrm>
          <a:off x="900000" y="476280"/>
          <a:ext cx="2808360" cy="4064040"/>
        </p:xfrm>
        <a:graphic>
          <a:graphicData uri="http://schemas.openxmlformats.org/drawingml/2006/table">
            <a:tbl>
              <a:tblPr/>
              <a:tblGrid>
                <a:gridCol w="1008000"/>
                <a:gridCol w="180036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  <p:sp>
        <p:nvSpPr>
          <p:cNvPr id="1386" name=""/>
          <p:cNvSpPr/>
          <p:nvPr/>
        </p:nvSpPr>
        <p:spPr>
          <a:xfrm>
            <a:off x="5095080" y="414972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0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5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3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6" dur="5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0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4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8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2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7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5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0" dur="5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9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500"/>
                            </p:stCondLst>
                            <p:childTnLst>
                              <p:par>
                                <p:cTn id="1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8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7" dur="5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2" dur="5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1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0" dur="5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5" dur="5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4" dur="5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500"/>
                            </p:stCondLst>
                            <p:childTnLst>
                              <p:par>
                                <p:cTn id="1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8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8" dur="5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500"/>
                            </p:stCondLst>
                            <p:childTnLst>
                              <p:par>
                                <p:cTn id="12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2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7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1388" name=""/>
          <p:cNvSpPr/>
          <p:nvPr/>
        </p:nvSpPr>
        <p:spPr>
          <a:xfrm>
            <a:off x="6085440" y="-255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637236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6807240" y="59500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stic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179280" y="765000"/>
            <a:ext cx="162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mulat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3492360" y="4743360"/>
            <a:ext cx="117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8" name=""/>
          <p:cNvGrpSpPr/>
          <p:nvPr/>
        </p:nvGrpSpPr>
        <p:grpSpPr>
          <a:xfrm>
            <a:off x="36000" y="1844640"/>
            <a:ext cx="4391640" cy="2913480"/>
            <a:chOff x="36000" y="1844640"/>
            <a:chExt cx="4391640" cy="2913480"/>
          </a:xfrm>
        </p:grpSpPr>
        <p:sp>
          <p:nvSpPr>
            <p:cNvPr id="1399" name=""/>
            <p:cNvSpPr/>
            <p:nvPr/>
          </p:nvSpPr>
          <p:spPr>
            <a:xfrm>
              <a:off x="826920" y="1844640"/>
              <a:ext cx="0" cy="2521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826920" y="4365720"/>
              <a:ext cx="3600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826920" y="2421000"/>
              <a:ext cx="2953080" cy="1925640"/>
            </a:xfrm>
            <a:custGeom>
              <a:avLst/>
              <a:gdLst/>
              <a:ahLst/>
              <a:rect l="l" t="t" r="r" b="b"/>
              <a:pathLst>
                <a:path w="1764" h="896">
                  <a:moveTo>
                    <a:pt x="0" y="896"/>
                  </a:moveTo>
                  <a:cubicBezTo>
                    <a:pt x="55" y="893"/>
                    <a:pt x="109" y="892"/>
                    <a:pt x="164" y="887"/>
                  </a:cubicBezTo>
                  <a:cubicBezTo>
                    <a:pt x="204" y="883"/>
                    <a:pt x="237" y="853"/>
                    <a:pt x="274" y="841"/>
                  </a:cubicBezTo>
                  <a:cubicBezTo>
                    <a:pt x="283" y="835"/>
                    <a:pt x="291" y="828"/>
                    <a:pt x="301" y="823"/>
                  </a:cubicBezTo>
                  <a:cubicBezTo>
                    <a:pt x="310" y="819"/>
                    <a:pt x="321" y="819"/>
                    <a:pt x="329" y="814"/>
                  </a:cubicBezTo>
                  <a:cubicBezTo>
                    <a:pt x="358" y="796"/>
                    <a:pt x="364" y="780"/>
                    <a:pt x="402" y="768"/>
                  </a:cubicBezTo>
                  <a:cubicBezTo>
                    <a:pt x="411" y="759"/>
                    <a:pt x="418" y="747"/>
                    <a:pt x="429" y="740"/>
                  </a:cubicBezTo>
                  <a:cubicBezTo>
                    <a:pt x="437" y="735"/>
                    <a:pt x="449" y="737"/>
                    <a:pt x="457" y="731"/>
                  </a:cubicBezTo>
                  <a:cubicBezTo>
                    <a:pt x="466" y="724"/>
                    <a:pt x="467" y="712"/>
                    <a:pt x="475" y="704"/>
                  </a:cubicBezTo>
                  <a:cubicBezTo>
                    <a:pt x="494" y="685"/>
                    <a:pt x="525" y="664"/>
                    <a:pt x="548" y="649"/>
                  </a:cubicBezTo>
                  <a:cubicBezTo>
                    <a:pt x="560" y="631"/>
                    <a:pt x="567" y="616"/>
                    <a:pt x="585" y="603"/>
                  </a:cubicBezTo>
                  <a:cubicBezTo>
                    <a:pt x="603" y="590"/>
                    <a:pt x="640" y="567"/>
                    <a:pt x="640" y="567"/>
                  </a:cubicBezTo>
                  <a:cubicBezTo>
                    <a:pt x="677" y="510"/>
                    <a:pt x="743" y="473"/>
                    <a:pt x="795" y="430"/>
                  </a:cubicBezTo>
                  <a:cubicBezTo>
                    <a:pt x="835" y="397"/>
                    <a:pt x="856" y="354"/>
                    <a:pt x="905" y="338"/>
                  </a:cubicBezTo>
                  <a:cubicBezTo>
                    <a:pt x="949" y="293"/>
                    <a:pt x="996" y="256"/>
                    <a:pt x="1051" y="228"/>
                  </a:cubicBezTo>
                  <a:cubicBezTo>
                    <a:pt x="1080" y="213"/>
                    <a:pt x="1092" y="194"/>
                    <a:pt x="1124" y="183"/>
                  </a:cubicBezTo>
                  <a:cubicBezTo>
                    <a:pt x="1130" y="177"/>
                    <a:pt x="1134" y="168"/>
                    <a:pt x="1142" y="164"/>
                  </a:cubicBezTo>
                  <a:cubicBezTo>
                    <a:pt x="1159" y="155"/>
                    <a:pt x="1197" y="146"/>
                    <a:pt x="1197" y="146"/>
                  </a:cubicBezTo>
                  <a:cubicBezTo>
                    <a:pt x="1231" y="114"/>
                    <a:pt x="1281" y="106"/>
                    <a:pt x="1325" y="91"/>
                  </a:cubicBezTo>
                  <a:cubicBezTo>
                    <a:pt x="1336" y="87"/>
                    <a:pt x="1343" y="77"/>
                    <a:pt x="1353" y="73"/>
                  </a:cubicBezTo>
                  <a:cubicBezTo>
                    <a:pt x="1395" y="55"/>
                    <a:pt x="1472" y="27"/>
                    <a:pt x="1517" y="18"/>
                  </a:cubicBezTo>
                  <a:cubicBezTo>
                    <a:pt x="1600" y="2"/>
                    <a:pt x="1680" y="0"/>
                    <a:pt x="1764" y="0"/>
                  </a:cubicBezTo>
                </a:path>
              </a:pathLst>
            </a:custGeom>
            <a:noFill/>
            <a:ln w="572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96360" y="21798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565080" y="43401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195640" y="3284640"/>
              <a:ext cx="0" cy="108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 flipH="1">
              <a:off x="826920" y="3284640"/>
              <a:ext cx="1368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6000" y="30654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5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960200" y="43592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8" name=""/>
          <p:cNvSpPr/>
          <p:nvPr/>
        </p:nvSpPr>
        <p:spPr>
          <a:xfrm>
            <a:off x="5218200" y="476280"/>
            <a:ext cx="3487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 Cumulative Frequen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gra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5148360" y="1557360"/>
            <a:ext cx="3995640" cy="29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y-axis (cumulative frequenc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t 25%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at 50%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ff3399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at 7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514840" y="4292640"/>
            <a:ext cx="34754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read values from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ivery time scale (x-axi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 flipH="1">
            <a:off x="611280" y="1916280"/>
            <a:ext cx="4465440" cy="115236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 flipH="1" flipV="1">
            <a:off x="2410920" y="4508280"/>
            <a:ext cx="3240360" cy="21564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5928120" y="5013360"/>
            <a:ext cx="217404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of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3" dur="indefinite" restart="never" nodeType="tmRoot">
          <p:childTnLst>
            <p:seq>
              <p:cTn id="1274" dur="indefinite" nodeType="mainSeq">
                <p:childTnLst>
                  <p:par>
                    <p:cTn id="1275" fill="hold">
                      <p:stCondLst>
                        <p:cond delay="0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9" dur="80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0" dur="80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1" dur="80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6" dur="80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7" dur="80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8" dur="80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2120"/>
                            </p:stCondLst>
                            <p:childTnLst>
                              <p:par>
                                <p:cTn id="12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8" dur="80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9" dur="80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0" dur="80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1880"/>
                            </p:stCondLst>
                            <p:childTnLst>
                              <p:par>
                                <p:cTn id="1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2380"/>
                            </p:stCondLst>
                            <p:childTnLst>
                              <p:par>
                                <p:cTn id="13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9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26920" y="478476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econd company has a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longer avera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sponse time.  The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smaller standard devi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eans their arrival time is more predic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TATISTICS : Question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1549440" y="6138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" action="ppaction://hlinksldjump"/>
          </p:cNvPr>
          <p:cNvSpPr/>
          <p:nvPr/>
        </p:nvSpPr>
        <p:spPr>
          <a:xfrm>
            <a:off x="5292720" y="551664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5292720" y="616428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39640" y="613872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85800" y="551664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85080" y="616428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Statistic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3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692280"/>
            <a:ext cx="8534160" cy="33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taxi company was phoned each night of the week and the response time in minutes of their cars were noted.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were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  Find the mean and standard deviation for this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)  A similar experiment was conducted with a seco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company.  The results for this were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n = 12    and   standard deviation = 1.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does the second company compare to the firs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26920" y="4148280"/>
            <a:ext cx="223236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)  Mean =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564000" y="4005360"/>
            <a:ext cx="1871640" cy="720720"/>
            <a:chOff x="3564000" y="4005360"/>
            <a:chExt cx="1871640" cy="720720"/>
          </a:xfrm>
        </p:grpSpPr>
        <p:sp>
          <p:nvSpPr>
            <p:cNvPr id="105" name=""/>
            <p:cNvSpPr/>
            <p:nvPr/>
          </p:nvSpPr>
          <p:spPr>
            <a:xfrm>
              <a:off x="3564000" y="4005360"/>
              <a:ext cx="1871640" cy="720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6" name=""/>
            <p:cNvGraphicFramePr/>
            <p:nvPr/>
          </p:nvGraphicFramePr>
          <p:xfrm>
            <a:off x="3564000" y="4150080"/>
            <a:ext cx="1800360" cy="4856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564000" y="4150080"/>
                      <a:ext cx="1800360" cy="48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8" name=""/>
          <p:cNvSpPr/>
          <p:nvPr/>
        </p:nvSpPr>
        <p:spPr>
          <a:xfrm>
            <a:off x="824400" y="573408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752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112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11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652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528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364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rId3" action="ppaction://hlinksldjump"/>
          </p:cNvPr>
          <p:cNvSpPr/>
          <p:nvPr/>
        </p:nvSpPr>
        <p:spPr>
          <a:xfrm>
            <a:off x="25092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59500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stic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4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76280"/>
            <a:ext cx="399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axi company was phoned each night of the week and the response time in minutes of their cars were noted.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y were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3     5     10     7     7     15    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 Find the mean and standard deviation for this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067280" y="836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an = (3+5+10+7+7+15+9)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 = </a:t>
            </a:r>
            <a:r>
              <a:rPr b="1" lang="en-US" sz="2400" spc="-1" strike="noStrike" u="sng">
                <a:solidFill>
                  <a:srgbClr val="0033cc"/>
                </a:solidFill>
                <a:uFillTx/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67280" y="260280"/>
            <a:ext cx="489744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me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40360" y="2060640"/>
            <a:ext cx="500364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       = 8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no.pieces of data = n =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788000" y="1989000"/>
          <a:ext cx="296640" cy="50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88000" y="1989000"/>
                    <a:ext cx="29664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138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13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652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rId2" action="ppaction://hlinksldjump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528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364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rId3" action="ppaction://hlinksldjump"/>
          </p:cNvPr>
          <p:cNvSpPr/>
          <p:nvPr/>
        </p:nvSpPr>
        <p:spPr>
          <a:xfrm>
            <a:off x="25092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59500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stic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4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76280"/>
            <a:ext cx="399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axi company was phoned each night of the week and the response time in minutes of their cars were noted.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y were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3     5     10     7     7     15    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 Find the mean and standard deviation for this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67280" y="260280"/>
            <a:ext cx="489744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Draw table comparing data to me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199040" y="981000"/>
            <a:ext cx="4572000" cy="3881160"/>
            <a:chOff x="4199040" y="981000"/>
            <a:chExt cx="4572000" cy="3881160"/>
          </a:xfrm>
        </p:grpSpPr>
        <p:sp>
          <p:nvSpPr>
            <p:cNvPr id="158" name=""/>
            <p:cNvSpPr/>
            <p:nvPr/>
          </p:nvSpPr>
          <p:spPr>
            <a:xfrm>
              <a:off x="4199040" y="981000"/>
              <a:ext cx="4572000" cy="38811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8360" y="981000"/>
              <a:ext cx="0" cy="388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199040" y="1446480"/>
              <a:ext cx="457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99040" y="1834560"/>
              <a:ext cx="457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99040" y="2222640"/>
              <a:ext cx="457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199040" y="2611080"/>
              <a:ext cx="457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199040" y="2999160"/>
              <a:ext cx="457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99040" y="3387240"/>
              <a:ext cx="457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99040" y="3775680"/>
              <a:ext cx="457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99040" y="4163760"/>
              <a:ext cx="457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8560" y="981000"/>
              <a:ext cx="0" cy="318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4427640" y="981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51320" y="150984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-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51320" y="189072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-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51320" y="22716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51320" y="265284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- 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51320" y="303372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-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51320" y="34146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7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351320" y="379584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22920" y="425304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x 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)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51720" y="42530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6516720" y="4221000"/>
          <a:ext cx="297000" cy="50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16720" y="4221000"/>
                    <a:ext cx="2970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1" name=""/>
          <p:cNvGrpSpPr/>
          <p:nvPr/>
        </p:nvGrpSpPr>
        <p:grpSpPr>
          <a:xfrm>
            <a:off x="900000" y="3357720"/>
            <a:ext cx="1008000" cy="718920"/>
            <a:chOff x="900000" y="3357720"/>
            <a:chExt cx="1008000" cy="718920"/>
          </a:xfrm>
        </p:grpSpPr>
        <p:sp>
          <p:nvSpPr>
            <p:cNvPr id="182" name=""/>
            <p:cNvSpPr/>
            <p:nvPr/>
          </p:nvSpPr>
          <p:spPr>
            <a:xfrm>
              <a:off x="900000" y="3357720"/>
              <a:ext cx="1008000" cy="7189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3" name=""/>
            <p:cNvGraphicFramePr/>
            <p:nvPr/>
          </p:nvGraphicFramePr>
          <p:xfrm>
            <a:off x="1006560" y="3429000"/>
            <a:ext cx="801720" cy="504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006560" y="3429000"/>
                      <a:ext cx="801720" cy="50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85" name=""/>
          <p:cNvGraphicFramePr/>
          <p:nvPr/>
        </p:nvGraphicFramePr>
        <p:xfrm>
          <a:off x="5796000" y="933480"/>
          <a:ext cx="863640" cy="576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96000" y="933480"/>
                    <a:ext cx="8636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7356600" y="981000"/>
          <a:ext cx="1031760" cy="506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356600" y="981000"/>
                    <a:ext cx="103176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192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19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652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rId2" action="ppaction://hlinksldjump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528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364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rId3" action="ppaction://hlinksldjump"/>
          </p:cNvPr>
          <p:cNvSpPr/>
          <p:nvPr/>
        </p:nvSpPr>
        <p:spPr>
          <a:xfrm>
            <a:off x="25092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59500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stic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rId4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476280"/>
            <a:ext cx="399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axi company was phoned each night of the week and the response time in minutes of their cars were noted.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y were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3     5     10     7     7     15    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 Find the mean and standard deviation for this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067280" y="26028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Use formula to calculate standard devi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643280" y="1052640"/>
          <a:ext cx="2664000" cy="14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3280" y="1052640"/>
                    <a:ext cx="2664000" cy="14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4643280" y="2997360"/>
          <a:ext cx="1873440" cy="1096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3280" y="2997360"/>
                    <a:ext cx="1873440" cy="10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5" name=""/>
          <p:cNvGrpSpPr/>
          <p:nvPr/>
        </p:nvGrpSpPr>
        <p:grpSpPr>
          <a:xfrm>
            <a:off x="4643280" y="4437000"/>
            <a:ext cx="1871640" cy="720720"/>
            <a:chOff x="4643280" y="4437000"/>
            <a:chExt cx="1871640" cy="720720"/>
          </a:xfrm>
        </p:grpSpPr>
        <p:sp>
          <p:nvSpPr>
            <p:cNvPr id="216" name=""/>
            <p:cNvSpPr/>
            <p:nvPr/>
          </p:nvSpPr>
          <p:spPr>
            <a:xfrm>
              <a:off x="4643280" y="4437000"/>
              <a:ext cx="1871640" cy="720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17" name=""/>
            <p:cNvGraphicFramePr/>
            <p:nvPr/>
          </p:nvGraphicFramePr>
          <p:xfrm>
            <a:off x="4643280" y="4581720"/>
            <a:ext cx="1800360" cy="4856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1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643280" y="4581720"/>
                      <a:ext cx="1800360" cy="48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9" name=""/>
          <p:cNvSpPr/>
          <p:nvPr/>
        </p:nvSpPr>
        <p:spPr>
          <a:xfrm>
            <a:off x="7433280" y="1289160"/>
            <a:ext cx="150372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st found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019640" y="14842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224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22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652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5528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364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59500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stic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>
            <a:hlinkClick r:id="rId2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067280" y="26028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Always compare mean and standard devi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549360"/>
            <a:ext cx="399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  A similar experiment was conducted with a second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company.  The results for this wer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n = 12    and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deviation = 1.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ow does the second company compare to the first?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140360" y="1341360"/>
            <a:ext cx="47527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econd company has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longer avera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sponse ti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smaller standard devi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eans their arrival time is m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dic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3" action="ppaction://hlinksldjump"/>
          </p:cNvPr>
          <p:cNvSpPr/>
          <p:nvPr/>
        </p:nvSpPr>
        <p:spPr>
          <a:xfrm>
            <a:off x="25092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24000" y="3430440"/>
            <a:ext cx="1008000" cy="718920"/>
            <a:chOff x="324000" y="3430440"/>
            <a:chExt cx="1008000" cy="718920"/>
          </a:xfrm>
        </p:grpSpPr>
        <p:sp>
          <p:nvSpPr>
            <p:cNvPr id="245" name=""/>
            <p:cNvSpPr/>
            <p:nvPr/>
          </p:nvSpPr>
          <p:spPr>
            <a:xfrm>
              <a:off x="324000" y="3430440"/>
              <a:ext cx="1008000" cy="7189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46" name=""/>
            <p:cNvGraphicFramePr/>
            <p:nvPr/>
          </p:nvGraphicFramePr>
          <p:xfrm>
            <a:off x="430560" y="3501720"/>
            <a:ext cx="801720" cy="5047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4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30560" y="3501720"/>
                      <a:ext cx="801720" cy="50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48" name=""/>
          <p:cNvGrpSpPr/>
          <p:nvPr/>
        </p:nvGrpSpPr>
        <p:grpSpPr>
          <a:xfrm>
            <a:off x="1692360" y="3429000"/>
            <a:ext cx="1871640" cy="720720"/>
            <a:chOff x="1692360" y="3429000"/>
            <a:chExt cx="1871640" cy="720720"/>
          </a:xfrm>
        </p:grpSpPr>
        <p:sp>
          <p:nvSpPr>
            <p:cNvPr id="249" name=""/>
            <p:cNvSpPr/>
            <p:nvPr/>
          </p:nvSpPr>
          <p:spPr>
            <a:xfrm>
              <a:off x="1692360" y="3429000"/>
              <a:ext cx="1871640" cy="720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0" name=""/>
            <p:cNvGraphicFramePr/>
            <p:nvPr/>
          </p:nvGraphicFramePr>
          <p:xfrm>
            <a:off x="1692360" y="3573720"/>
            <a:ext cx="1800360" cy="4856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5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692360" y="3573720"/>
                      <a:ext cx="1800360" cy="48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52" name=""/>
          <p:cNvSpPr/>
          <p:nvPr/>
        </p:nvSpPr>
        <p:spPr>
          <a:xfrm>
            <a:off x="0" y="1700280"/>
            <a:ext cx="1332000" cy="720720"/>
          </a:xfrm>
          <a:prstGeom prst="ellipse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908000" y="1989000"/>
            <a:ext cx="1332000" cy="72072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353480" y="400536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520"/>
                            </p:stCondLst>
                            <p:childTnLst>
                              <p:par>
                                <p:cTn id="2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6085440" y="-255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807240" y="59500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stic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>
            <a:hlinkClick r:id="rId2"/>
          </p:cNvPr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836640"/>
            <a:ext cx="464328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Use formula to calculate standard devi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576360" y="1628640"/>
          <a:ext cx="2663640" cy="144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6360" y="1628640"/>
                    <a:ext cx="2663640" cy="14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576360" y="3573360"/>
          <a:ext cx="1873080" cy="1096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6360" y="3573360"/>
                    <a:ext cx="1873080" cy="10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8" name=""/>
          <p:cNvGrpSpPr/>
          <p:nvPr/>
        </p:nvGrpSpPr>
        <p:grpSpPr>
          <a:xfrm>
            <a:off x="576360" y="5013360"/>
            <a:ext cx="1871640" cy="720720"/>
            <a:chOff x="576360" y="5013360"/>
            <a:chExt cx="1871640" cy="720720"/>
          </a:xfrm>
        </p:grpSpPr>
        <p:sp>
          <p:nvSpPr>
            <p:cNvPr id="269" name=""/>
            <p:cNvSpPr/>
            <p:nvPr/>
          </p:nvSpPr>
          <p:spPr>
            <a:xfrm>
              <a:off x="576360" y="5013360"/>
              <a:ext cx="1871640" cy="720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70" name=""/>
            <p:cNvGraphicFramePr/>
            <p:nvPr/>
          </p:nvGraphicFramePr>
          <p:xfrm>
            <a:off x="576360" y="5158080"/>
            <a:ext cx="1800360" cy="485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7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6360" y="5158080"/>
                      <a:ext cx="1800360" cy="48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72" name=""/>
          <p:cNvSpPr/>
          <p:nvPr/>
        </p:nvSpPr>
        <p:spPr>
          <a:xfrm>
            <a:off x="4783680" y="450720"/>
            <a:ext cx="42238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 the list of Formulae for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 Deviation Formul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878360" y="3357720"/>
            <a:ext cx="4208760" cy="16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econd formula can be us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calculator pap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alculator must be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s. Mode to allow th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e ente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788000" y="1413000"/>
            <a:ext cx="4356000" cy="1368360"/>
            <a:chOff x="4788000" y="1413000"/>
            <a:chExt cx="4356000" cy="1368360"/>
          </a:xfrm>
        </p:grpSpPr>
        <p:sp>
          <p:nvSpPr>
            <p:cNvPr id="275" name=""/>
            <p:cNvSpPr/>
            <p:nvPr/>
          </p:nvSpPr>
          <p:spPr>
            <a:xfrm>
              <a:off x="4788000" y="1413000"/>
              <a:ext cx="4356000" cy="1368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76" name=""/>
            <p:cNvGraphicFramePr/>
            <p:nvPr/>
          </p:nvGraphicFramePr>
          <p:xfrm>
            <a:off x="4875120" y="1487520"/>
            <a:ext cx="4268880" cy="1110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7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875120" y="1487520"/>
                      <a:ext cx="4268880" cy="111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78" name="">
            <a:hlinkClick r:id="rId11" action="ppaction://hlinksldjump"/>
          </p:cNvPr>
          <p:cNvSpPr/>
          <p:nvPr/>
        </p:nvSpPr>
        <p:spPr>
          <a:xfrm>
            <a:off x="637236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16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8T19:43:36Z</dcterms:created>
  <dc:creator>Richardson</dc:creator>
  <dc:description/>
  <dc:language>en-US</dc:language>
  <cp:lastModifiedBy>Richardson</cp:lastModifiedBy>
  <dcterms:modified xsi:type="dcterms:W3CDTF">2006-01-08T15:25:43Z</dcterms:modified>
  <cp:revision>12</cp:revision>
  <dc:subject/>
  <dc:title>Slide 1</dc:title>
</cp:coreProperties>
</file>