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B3D-EC96-430E-8A09-234AB7AF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D5E-05C1-4BF5-A9CC-0A1236FD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4FD-3EDF-4588-BC10-072994C9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F62-2173-4B9C-A27F-5D52B0F7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1B2-1CCF-4BA1-8B3A-E61F6446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C74-04B3-47EA-8AC9-51B81D4E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0A86-A86E-4C80-A112-B5B0584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7F4-375D-4861-B051-E49D4D9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32B-FB52-40C2-B509-BF8099BF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3D4-9F63-4AA6-A954-1796921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1CC-A6FF-479A-A3E2-52F96327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BE8-1FC8-4D37-8EA9-7C671B5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F9E-15E2-4BBA-AD35-8104621B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1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4.wmf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hyperlink" Target="file:///Other%20Slides4.ppt" TargetMode="External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1.wmf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Other%20Slides4.ppt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tane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61928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916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21164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580000" y="432900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4788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4788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1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79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308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0" y="69228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50920" y="2205000"/>
            <a:ext cx="2665440" cy="2879640"/>
          </a:xfrm>
          <a:prstGeom prst="cloudCallout">
            <a:avLst>
              <a:gd name="adj1" fmla="val 117837"/>
              <a:gd name="adj2" fmla="val -342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draw grap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table of values with at least 2 x-coordin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997360"/>
            <a:ext cx="3600360" cy="1871640"/>
          </a:xfrm>
          <a:prstGeom prst="cloudCallout">
            <a:avLst>
              <a:gd name="adj1" fmla="val 96074"/>
              <a:gd name="adj2" fmla="val -148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nd join points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is where lines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788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4788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1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79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79640" y="242100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042920" y="1557360"/>
            <a:ext cx="345780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198900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19280" y="278136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5300640"/>
            <a:ext cx="4032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28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4936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360" y="1701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95800" y="1125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19680" y="1125360"/>
            <a:ext cx="1828800" cy="762120"/>
            <a:chOff x="5719680" y="1125360"/>
            <a:chExt cx="1828800" cy="762120"/>
          </a:xfrm>
        </p:grpSpPr>
        <p:sp>
          <p:nvSpPr>
            <p:cNvPr id="304" name=""/>
            <p:cNvSpPr/>
            <p:nvPr/>
          </p:nvSpPr>
          <p:spPr>
            <a:xfrm>
              <a:off x="5719680" y="1125360"/>
              <a:ext cx="1828800" cy="76212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9680" y="15066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68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26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796000" y="11253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1506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995640" y="1916280"/>
            <a:ext cx="4969080" cy="4214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380360" y="3068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51640" y="3789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31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3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4936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4360" y="1701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195800" y="1125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719680" y="1125360"/>
            <a:ext cx="1828800" cy="762120"/>
            <a:chOff x="5719680" y="1125360"/>
            <a:chExt cx="1828800" cy="762120"/>
          </a:xfrm>
        </p:grpSpPr>
        <p:sp>
          <p:nvSpPr>
            <p:cNvPr id="337" name=""/>
            <p:cNvSpPr/>
            <p:nvPr/>
          </p:nvSpPr>
          <p:spPr>
            <a:xfrm>
              <a:off x="5719680" y="1125360"/>
              <a:ext cx="1828800" cy="76212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19680" y="15066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68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62680" y="11253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96000" y="11253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1506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5640" y="189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995640" y="1916280"/>
            <a:ext cx="4969080" cy="4214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084720" y="3429000"/>
            <a:ext cx="50508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572000" y="2852280"/>
            <a:ext cx="367200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80360" y="3068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51640" y="3789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40360" y="6093000"/>
            <a:ext cx="46479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-2520" y="31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45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95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45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765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520" y="1630440"/>
            <a:ext cx="198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52760" y="1630440"/>
            <a:ext cx="1828800" cy="761760"/>
            <a:chOff x="1652760" y="1630440"/>
            <a:chExt cx="1828800" cy="761760"/>
          </a:xfrm>
        </p:grpSpPr>
        <p:sp>
          <p:nvSpPr>
            <p:cNvPr id="363" name=""/>
            <p:cNvSpPr/>
            <p:nvPr/>
          </p:nvSpPr>
          <p:spPr>
            <a:xfrm>
              <a:off x="1652760" y="163044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2760" y="20113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09960" y="16304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95760" y="16304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728720" y="1630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28720" y="201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-71280" y="2421000"/>
            <a:ext cx="4968720" cy="421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276720" y="3573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84360" y="42940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159520" y="549360"/>
            <a:ext cx="3984480" cy="4362840"/>
            <a:chOff x="5159520" y="549360"/>
            <a:chExt cx="3984480" cy="4362840"/>
          </a:xfrm>
        </p:grpSpPr>
        <p:sp>
          <p:nvSpPr>
            <p:cNvPr id="373" name=""/>
            <p:cNvSpPr/>
            <p:nvPr/>
          </p:nvSpPr>
          <p:spPr>
            <a:xfrm>
              <a:off x="5159520" y="549360"/>
              <a:ext cx="3984480" cy="43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re are two ways of draw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ine y = ½ x +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ding two points on the lin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0    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½  x 0 + 3 =  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½  x 2 +3  =  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 Point      (0, 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 Point (2, 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and join (0, 3), and (2, 4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73920" y="248436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4720" y="306864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0160" y="14940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724040" y="1494000"/>
            <a:ext cx="1828800" cy="761760"/>
            <a:chOff x="1724040" y="1494000"/>
            <a:chExt cx="1828800" cy="761760"/>
          </a:xfrm>
        </p:grpSpPr>
        <p:sp>
          <p:nvSpPr>
            <p:cNvPr id="387" name=""/>
            <p:cNvSpPr/>
            <p:nvPr/>
          </p:nvSpPr>
          <p:spPr>
            <a:xfrm>
              <a:off x="1724040" y="149400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4040" y="1874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81240" y="14940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67040" y="14940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800360" y="1494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0360" y="1874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 3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57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0" y="2284560"/>
            <a:ext cx="4968720" cy="4214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flipV="1">
            <a:off x="576360" y="3212640"/>
            <a:ext cx="3635280" cy="159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48000" y="343692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55640" y="4157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4360" y="6461280"/>
            <a:ext cx="464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 = 2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76360" y="404640"/>
            <a:ext cx="3326760" cy="2172600"/>
            <a:chOff x="5076360" y="404640"/>
            <a:chExt cx="3326760" cy="2172600"/>
          </a:xfrm>
        </p:grpSpPr>
        <p:sp>
          <p:nvSpPr>
            <p:cNvPr id="400" name=""/>
            <p:cNvSpPr/>
            <p:nvPr/>
          </p:nvSpPr>
          <p:spPr>
            <a:xfrm>
              <a:off x="5354280" y="404640"/>
              <a:ext cx="3048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ing  y = mx + c  form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 = mx +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738400" y="18064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29480" y="18064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76360" y="2117520"/>
              <a:ext cx="118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4040" y="209232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- 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5291640" y="4508640"/>
            <a:ext cx="3426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C(0, 3) and dra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 = 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364000" y="2637000"/>
            <a:ext cx="3672000" cy="2029320"/>
            <a:chOff x="5364000" y="2637000"/>
            <a:chExt cx="3672000" cy="2029320"/>
          </a:xfrm>
        </p:grpSpPr>
        <p:grpSp>
          <p:nvGrpSpPr>
            <p:cNvPr id="407" name=""/>
            <p:cNvGrpSpPr/>
            <p:nvPr/>
          </p:nvGrpSpPr>
          <p:grpSpPr>
            <a:xfrm>
              <a:off x="5434920" y="2637000"/>
              <a:ext cx="3332520" cy="2029320"/>
              <a:chOff x="5434920" y="2637000"/>
              <a:chExt cx="3332520" cy="2029320"/>
            </a:xfrm>
          </p:grpSpPr>
          <p:sp>
            <p:nvSpPr>
              <p:cNvPr id="408" name=""/>
              <p:cNvSpPr/>
              <p:nvPr/>
            </p:nvSpPr>
            <p:spPr>
              <a:xfrm>
                <a:off x="5511960" y="263700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 = ½ x +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5831640" y="30528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70080" y="305280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434920" y="3475080"/>
                <a:ext cx="1181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 = ½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0000" y="3475080"/>
                <a:ext cx="165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- inter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 = +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5364000" y="2708280"/>
              <a:ext cx="3672000" cy="1657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18954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72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724360" y="692280"/>
            <a:ext cx="2664000" cy="2520720"/>
          </a:xfrm>
          <a:prstGeom prst="cloudCallout">
            <a:avLst>
              <a:gd name="adj1" fmla="val -73717"/>
              <a:gd name="adj2" fmla="val 8583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variable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2852640"/>
            <a:ext cx="2592360" cy="2664000"/>
          </a:xfrm>
          <a:prstGeom prst="cloudCallout">
            <a:avLst>
              <a:gd name="adj1" fmla="val -81967"/>
              <a:gd name="adj2" fmla="val 2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found value in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original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05480" y="26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64160" y="220500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2233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  u = 2  &amp;  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4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4160" y="3357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77120" y="285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4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765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140360" y="1268280"/>
            <a:ext cx="3200400" cy="840600"/>
            <a:chOff x="4140360" y="1268280"/>
            <a:chExt cx="3200400" cy="840600"/>
          </a:xfrm>
        </p:grpSpPr>
        <p:sp>
          <p:nvSpPr>
            <p:cNvPr id="480" name=""/>
            <p:cNvSpPr/>
            <p:nvPr/>
          </p:nvSpPr>
          <p:spPr>
            <a:xfrm>
              <a:off x="4140360" y="1268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6320" y="1649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27640" y="1197000"/>
            <a:ext cx="1447560" cy="835200"/>
            <a:chOff x="6227640" y="1197000"/>
            <a:chExt cx="1447560" cy="835200"/>
          </a:xfrm>
        </p:grpSpPr>
        <p:sp>
          <p:nvSpPr>
            <p:cNvPr id="484" name=""/>
            <p:cNvSpPr/>
            <p:nvPr/>
          </p:nvSpPr>
          <p:spPr>
            <a:xfrm>
              <a:off x="622764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764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4140360" y="2997360"/>
          <a:ext cx="194436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2997360"/>
                    <a:ext cx="1944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4142520" y="2349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11640" y="4005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211640" y="4149720"/>
          <a:ext cx="164952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1640" y="4149720"/>
                    <a:ext cx="16495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6227640" y="2997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27640" y="350028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8636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285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74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23600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5440" y="350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54720" y="3481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27640" y="4221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3600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805440" y="42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284720" y="4724280"/>
            <a:ext cx="1655640" cy="517320"/>
            <a:chOff x="4284720" y="4724280"/>
            <a:chExt cx="1655640" cy="517320"/>
          </a:xfrm>
        </p:grpSpPr>
        <p:sp>
          <p:nvSpPr>
            <p:cNvPr id="506" name=""/>
            <p:cNvSpPr/>
            <p:nvPr/>
          </p:nvSpPr>
          <p:spPr>
            <a:xfrm>
              <a:off x="4284720" y="479556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4284720" y="4724280"/>
            <a:ext cx="1576080" cy="51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84720" y="472428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675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1042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1042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464328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464328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348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380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744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144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5438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3312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51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59500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765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u  - 2v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u + 5v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140360" y="1268280"/>
            <a:ext cx="3200400" cy="840600"/>
            <a:chOff x="4140360" y="1268280"/>
            <a:chExt cx="3200400" cy="840600"/>
          </a:xfrm>
        </p:grpSpPr>
        <p:sp>
          <p:nvSpPr>
            <p:cNvPr id="529" name=""/>
            <p:cNvSpPr/>
            <p:nvPr/>
          </p:nvSpPr>
          <p:spPr>
            <a:xfrm>
              <a:off x="4140360" y="1268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16320" y="1649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227640" y="1197000"/>
            <a:ext cx="1447560" cy="835200"/>
            <a:chOff x="6227640" y="1197000"/>
            <a:chExt cx="1447560" cy="835200"/>
          </a:xfrm>
        </p:grpSpPr>
        <p:sp>
          <p:nvSpPr>
            <p:cNvPr id="533" name=""/>
            <p:cNvSpPr/>
            <p:nvPr/>
          </p:nvSpPr>
          <p:spPr>
            <a:xfrm>
              <a:off x="622764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764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95640" y="2421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2 for u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26040" y="2946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+ 5v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08720" y="3327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61000" y="3708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27680" y="436572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4394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u = 2  &amp;  v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74072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3080" y="1844640"/>
            <a:ext cx="3200400" cy="840600"/>
            <a:chOff x="73080" y="1844640"/>
            <a:chExt cx="3200400" cy="840600"/>
          </a:xfrm>
        </p:grpSpPr>
        <p:sp>
          <p:nvSpPr>
            <p:cNvPr id="557" name=""/>
            <p:cNvSpPr/>
            <p:nvPr/>
          </p:nvSpPr>
          <p:spPr>
            <a:xfrm>
              <a:off x="73080" y="18446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9040" y="222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0" y="83664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160720" y="1773360"/>
            <a:ext cx="1447560" cy="834840"/>
            <a:chOff x="2160720" y="1773360"/>
            <a:chExt cx="1447560" cy="834840"/>
          </a:xfrm>
        </p:grpSpPr>
        <p:sp>
          <p:nvSpPr>
            <p:cNvPr id="561" name=""/>
            <p:cNvSpPr/>
            <p:nvPr/>
          </p:nvSpPr>
          <p:spPr>
            <a:xfrm>
              <a:off x="2160720" y="1773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60720" y="2148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3" name=""/>
          <p:cNvGraphicFramePr/>
          <p:nvPr/>
        </p:nvGraphicFramePr>
        <p:xfrm>
          <a:off x="73080" y="3573360"/>
          <a:ext cx="1944720" cy="9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0" y="3573360"/>
                    <a:ext cx="1944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75240" y="2925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4360" y="4581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4360" y="4726080"/>
          <a:ext cx="164952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360" y="4726080"/>
                    <a:ext cx="1649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2160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6072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13080" y="2276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13080" y="177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19080" y="351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2916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7344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68720" y="3500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3816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87800" y="40575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68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17440" y="5300640"/>
            <a:ext cx="1655640" cy="517320"/>
            <a:chOff x="217440" y="5300640"/>
            <a:chExt cx="1655640" cy="517320"/>
          </a:xfrm>
        </p:grpSpPr>
        <p:sp>
          <p:nvSpPr>
            <p:cNvPr id="583" name=""/>
            <p:cNvSpPr/>
            <p:nvPr/>
          </p:nvSpPr>
          <p:spPr>
            <a:xfrm>
              <a:off x="217440" y="537192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4" name=""/>
            <p:cNvGraphicFramePr/>
            <p:nvPr/>
          </p:nvGraphicFramePr>
          <p:xfrm>
            <a:off x="217440" y="5300640"/>
            <a:ext cx="1576080" cy="51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7440" y="530064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6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417280" y="3213000"/>
            <a:ext cx="3729600" cy="1602720"/>
            <a:chOff x="5417280" y="3213000"/>
            <a:chExt cx="3729600" cy="1602720"/>
          </a:xfrm>
        </p:grpSpPr>
        <p:sp>
          <p:nvSpPr>
            <p:cNvPr id="590" name=""/>
            <p:cNvSpPr/>
            <p:nvPr/>
          </p:nvSpPr>
          <p:spPr>
            <a:xfrm>
              <a:off x="5417280" y="3213000"/>
              <a:ext cx="27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46800" y="40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51760" y="435600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732720" y="3068640"/>
            <a:ext cx="107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3080" y="1844640"/>
            <a:ext cx="3200400" cy="840600"/>
            <a:chOff x="73080" y="1844640"/>
            <a:chExt cx="3200400" cy="840600"/>
          </a:xfrm>
        </p:grpSpPr>
        <p:sp>
          <p:nvSpPr>
            <p:cNvPr id="604" name=""/>
            <p:cNvSpPr/>
            <p:nvPr/>
          </p:nvSpPr>
          <p:spPr>
            <a:xfrm>
              <a:off x="73080" y="18446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u  - 2v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9040" y="222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u + 5v 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0" y="83664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u’s or v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160720" y="1773360"/>
            <a:ext cx="1447560" cy="834840"/>
            <a:chOff x="2160720" y="1773360"/>
            <a:chExt cx="1447560" cy="834840"/>
          </a:xfrm>
        </p:grpSpPr>
        <p:sp>
          <p:nvSpPr>
            <p:cNvPr id="608" name=""/>
            <p:cNvSpPr/>
            <p:nvPr/>
          </p:nvSpPr>
          <p:spPr>
            <a:xfrm>
              <a:off x="2160720" y="1773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60720" y="2148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0" name=""/>
          <p:cNvGraphicFramePr/>
          <p:nvPr/>
        </p:nvGraphicFramePr>
        <p:xfrm>
          <a:off x="73080" y="3573360"/>
          <a:ext cx="1944720" cy="9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0" y="3573360"/>
                    <a:ext cx="1944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75240" y="2925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360" y="4581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44360" y="4726080"/>
          <a:ext cx="164952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360" y="4726080"/>
                    <a:ext cx="16495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160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16072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13080" y="2276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13080" y="177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19080" y="351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29160" y="3429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73440" y="400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168720" y="3573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73816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87800" y="40575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68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7440" y="5300640"/>
            <a:ext cx="1655640" cy="517320"/>
            <a:chOff x="217440" y="5300640"/>
            <a:chExt cx="1655640" cy="517320"/>
          </a:xfrm>
        </p:grpSpPr>
        <p:sp>
          <p:nvSpPr>
            <p:cNvPr id="630" name=""/>
            <p:cNvSpPr/>
            <p:nvPr/>
          </p:nvSpPr>
          <p:spPr>
            <a:xfrm>
              <a:off x="217440" y="537192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217440" y="5300640"/>
            <a:ext cx="1576080" cy="51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7440" y="5300640"/>
                      <a:ext cx="1576080" cy="51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3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652720" y="3284640"/>
            <a:ext cx="3237840" cy="1602720"/>
            <a:chOff x="5652720" y="3284640"/>
            <a:chExt cx="3237840" cy="1602720"/>
          </a:xfrm>
        </p:grpSpPr>
        <p:sp>
          <p:nvSpPr>
            <p:cNvPr id="637" name=""/>
            <p:cNvSpPr/>
            <p:nvPr/>
          </p:nvSpPr>
          <p:spPr>
            <a:xfrm>
              <a:off x="5652720" y="3284640"/>
              <a:ext cx="274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 -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81880" y="40816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360" y="44276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093080" y="3068640"/>
            <a:ext cx="71892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18954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0072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24360" y="692280"/>
            <a:ext cx="2664000" cy="2520720"/>
          </a:xfrm>
          <a:prstGeom prst="cloudCallout">
            <a:avLst>
              <a:gd name="adj1" fmla="val -73717"/>
              <a:gd name="adj2" fmla="val 8583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variable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12000" y="2852640"/>
            <a:ext cx="2592360" cy="2664000"/>
          </a:xfrm>
          <a:prstGeom prst="cloudCallout">
            <a:avLst>
              <a:gd name="adj1" fmla="val -81967"/>
              <a:gd name="adj2" fmla="val 2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e found value in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original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32760" y="26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98100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151080" y="260820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63640" y="2637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q = -1  &amp;  q =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05480" y="3357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68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6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40360" y="1268280"/>
            <a:ext cx="4463640" cy="840600"/>
            <a:chOff x="4140360" y="1268280"/>
            <a:chExt cx="4463640" cy="840600"/>
          </a:xfrm>
        </p:grpSpPr>
        <p:sp>
          <p:nvSpPr>
            <p:cNvPr id="704" name=""/>
            <p:cNvSpPr/>
            <p:nvPr/>
          </p:nvSpPr>
          <p:spPr>
            <a:xfrm>
              <a:off x="4140360" y="1268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46200" y="1649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6372360" y="1197000"/>
            <a:ext cx="1447560" cy="835200"/>
            <a:chOff x="6372360" y="1197000"/>
            <a:chExt cx="1447560" cy="835200"/>
          </a:xfrm>
        </p:grpSpPr>
        <p:sp>
          <p:nvSpPr>
            <p:cNvPr id="708" name=""/>
            <p:cNvSpPr/>
            <p:nvPr/>
          </p:nvSpPr>
          <p:spPr>
            <a:xfrm>
              <a:off x="637236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7236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0" name=""/>
          <p:cNvGraphicFramePr/>
          <p:nvPr/>
        </p:nvGraphicFramePr>
        <p:xfrm>
          <a:off x="4017960" y="3021120"/>
          <a:ext cx="2190600" cy="88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17960" y="3021120"/>
                    <a:ext cx="2190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142520" y="23493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11640" y="4005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4788000" y="4221000"/>
          <a:ext cx="12556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221000"/>
                    <a:ext cx="12556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6227640" y="2997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27640" y="350028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80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380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78636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96080" y="285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4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600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05440" y="350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54720" y="3481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27640" y="4221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23600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05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643280" y="4869000"/>
            <a:ext cx="1656000" cy="442440"/>
            <a:chOff x="4643280" y="4869000"/>
            <a:chExt cx="1656000" cy="442440"/>
          </a:xfrm>
        </p:grpSpPr>
        <p:sp>
          <p:nvSpPr>
            <p:cNvPr id="730" name=""/>
            <p:cNvSpPr/>
            <p:nvPr/>
          </p:nvSpPr>
          <p:spPr>
            <a:xfrm>
              <a:off x="4643280" y="4879800"/>
              <a:ext cx="165600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1" name=""/>
            <p:cNvGraphicFramePr/>
            <p:nvPr/>
          </p:nvGraphicFramePr>
          <p:xfrm>
            <a:off x="5013360" y="4869000"/>
            <a:ext cx="836640" cy="39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3360" y="4869000"/>
                      <a:ext cx="83664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3" name=""/>
          <p:cNvSpPr/>
          <p:nvPr/>
        </p:nvSpPr>
        <p:spPr>
          <a:xfrm>
            <a:off x="0" y="6206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9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73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7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995640" y="2421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1 for q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32360" y="2924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p + (- 3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59560" y="3327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p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1840" y="3708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 =3/5 = 0.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899320" y="4365720"/>
            <a:ext cx="205740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40240" y="4394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 q = -1  &amp;  p =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74072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6206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 + 3q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p + 5q = -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356000" y="1268280"/>
            <a:ext cx="4463640" cy="840600"/>
            <a:chOff x="4356000" y="1268280"/>
            <a:chExt cx="4463640" cy="840600"/>
          </a:xfrm>
        </p:grpSpPr>
        <p:sp>
          <p:nvSpPr>
            <p:cNvPr id="764" name=""/>
            <p:cNvSpPr/>
            <p:nvPr/>
          </p:nvSpPr>
          <p:spPr>
            <a:xfrm>
              <a:off x="4356000" y="1268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61840" y="1649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588000" y="1197000"/>
            <a:ext cx="1447560" cy="835200"/>
            <a:chOff x="6588000" y="1197000"/>
            <a:chExt cx="1447560" cy="835200"/>
          </a:xfrm>
        </p:grpSpPr>
        <p:sp>
          <p:nvSpPr>
            <p:cNvPr id="767" name=""/>
            <p:cNvSpPr/>
            <p:nvPr/>
          </p:nvSpPr>
          <p:spPr>
            <a:xfrm>
              <a:off x="6588000" y="1197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88000" y="1572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596360" y="1700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96360" y="119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69480" y="519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73080" y="1773360"/>
            <a:ext cx="4463640" cy="840600"/>
            <a:chOff x="73080" y="1773360"/>
            <a:chExt cx="4463640" cy="840600"/>
          </a:xfrm>
        </p:grpSpPr>
        <p:sp>
          <p:nvSpPr>
            <p:cNvPr id="782" name=""/>
            <p:cNvSpPr/>
            <p:nvPr/>
          </p:nvSpPr>
          <p:spPr>
            <a:xfrm>
              <a:off x="73080" y="17733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8920" y="21542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305080" y="1701720"/>
            <a:ext cx="1447560" cy="835200"/>
            <a:chOff x="2305080" y="1701720"/>
            <a:chExt cx="1447560" cy="835200"/>
          </a:xfrm>
        </p:grpSpPr>
        <p:sp>
          <p:nvSpPr>
            <p:cNvPr id="786" name=""/>
            <p:cNvSpPr/>
            <p:nvPr/>
          </p:nvSpPr>
          <p:spPr>
            <a:xfrm>
              <a:off x="2305080" y="17017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05080" y="2077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8" name=""/>
          <p:cNvGraphicFramePr/>
          <p:nvPr/>
        </p:nvGraphicFramePr>
        <p:xfrm>
          <a:off x="-49320" y="3525840"/>
          <a:ext cx="219096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49320" y="3525840"/>
                    <a:ext cx="2190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75240" y="28544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44360" y="4510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720720" y="4726080"/>
          <a:ext cx="12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0720" y="4726080"/>
                    <a:ext cx="12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"/>
          <p:cNvSpPr/>
          <p:nvPr/>
        </p:nvSpPr>
        <p:spPr>
          <a:xfrm>
            <a:off x="2160720" y="3502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60720" y="4005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313080" y="2205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13080" y="1701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19080" y="344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629160" y="3357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73440" y="39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8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38160" y="40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87800" y="398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160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68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38160" y="4726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76360" y="5373720"/>
            <a:ext cx="1655640" cy="442440"/>
            <a:chOff x="576360" y="5373720"/>
            <a:chExt cx="1655640" cy="442440"/>
          </a:xfrm>
        </p:grpSpPr>
        <p:sp>
          <p:nvSpPr>
            <p:cNvPr id="808" name=""/>
            <p:cNvSpPr/>
            <p:nvPr/>
          </p:nvSpPr>
          <p:spPr>
            <a:xfrm>
              <a:off x="576360" y="53845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9" name=""/>
            <p:cNvGraphicFramePr/>
            <p:nvPr/>
          </p:nvGraphicFramePr>
          <p:xfrm>
            <a:off x="946080" y="5373720"/>
            <a:ext cx="836280" cy="39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46080" y="5373720"/>
                      <a:ext cx="83628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1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5417280" y="3213000"/>
            <a:ext cx="3729600" cy="1602720"/>
            <a:chOff x="5417280" y="3213000"/>
            <a:chExt cx="3729600" cy="1602720"/>
          </a:xfrm>
        </p:grpSpPr>
        <p:sp>
          <p:nvSpPr>
            <p:cNvPr id="815" name=""/>
            <p:cNvSpPr/>
            <p:nvPr/>
          </p:nvSpPr>
          <p:spPr>
            <a:xfrm>
              <a:off x="5417280" y="3213000"/>
              <a:ext cx="273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46800" y="40100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51760" y="4356000"/>
              <a:ext cx="28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tract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6732720" y="3068640"/>
            <a:ext cx="107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73080" y="1773360"/>
            <a:ext cx="4463640" cy="840600"/>
            <a:chOff x="73080" y="1773360"/>
            <a:chExt cx="4463640" cy="840600"/>
          </a:xfrm>
        </p:grpSpPr>
        <p:sp>
          <p:nvSpPr>
            <p:cNvPr id="829" name=""/>
            <p:cNvSpPr/>
            <p:nvPr/>
          </p:nvSpPr>
          <p:spPr>
            <a:xfrm>
              <a:off x="73080" y="17733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p  + 3q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8920" y="21542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p  + 5q = -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2305080" y="1701720"/>
            <a:ext cx="1447560" cy="835200"/>
            <a:chOff x="2305080" y="1701720"/>
            <a:chExt cx="1447560" cy="835200"/>
          </a:xfrm>
        </p:grpSpPr>
        <p:sp>
          <p:nvSpPr>
            <p:cNvPr id="833" name=""/>
            <p:cNvSpPr/>
            <p:nvPr/>
          </p:nvSpPr>
          <p:spPr>
            <a:xfrm>
              <a:off x="2305080" y="17017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05080" y="2077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5" name=""/>
          <p:cNvGraphicFramePr/>
          <p:nvPr/>
        </p:nvGraphicFramePr>
        <p:xfrm>
          <a:off x="-49320" y="3525840"/>
          <a:ext cx="219096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49320" y="3525840"/>
                    <a:ext cx="21909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75240" y="28544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4360" y="4510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720720" y="4726080"/>
          <a:ext cx="1255680" cy="393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0720" y="4726080"/>
                    <a:ext cx="1255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2160720" y="3502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0720" y="4005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13080" y="2205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13080" y="1701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19080" y="344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29160" y="3357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73440" y="39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168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738160" y="40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87800" y="398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60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68720" y="47260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38160" y="4726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76360" y="5373720"/>
            <a:ext cx="1655640" cy="442440"/>
            <a:chOff x="576360" y="5373720"/>
            <a:chExt cx="1655640" cy="442440"/>
          </a:xfrm>
        </p:grpSpPr>
        <p:sp>
          <p:nvSpPr>
            <p:cNvPr id="855" name=""/>
            <p:cNvSpPr/>
            <p:nvPr/>
          </p:nvSpPr>
          <p:spPr>
            <a:xfrm>
              <a:off x="576360" y="53845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6" name=""/>
            <p:cNvGraphicFramePr/>
            <p:nvPr/>
          </p:nvGraphicFramePr>
          <p:xfrm>
            <a:off x="946080" y="5373720"/>
            <a:ext cx="836280" cy="39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46080" y="5373720"/>
                      <a:ext cx="836280" cy="39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8" name=""/>
          <p:cNvSpPr/>
          <p:nvPr/>
        </p:nvSpPr>
        <p:spPr>
          <a:xfrm>
            <a:off x="5405040" y="549360"/>
            <a:ext cx="3460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subtract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“signs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dd to eli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708360" y="1341360"/>
            <a:ext cx="1727280" cy="345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26560" y="1341360"/>
            <a:ext cx="446580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868360" y="3500280"/>
            <a:ext cx="3237840" cy="1602720"/>
            <a:chOff x="5868360" y="3500280"/>
            <a:chExt cx="3237840" cy="1602720"/>
          </a:xfrm>
        </p:grpSpPr>
        <p:sp>
          <p:nvSpPr>
            <p:cNvPr id="862" name=""/>
            <p:cNvSpPr/>
            <p:nvPr/>
          </p:nvSpPr>
          <p:spPr>
            <a:xfrm>
              <a:off x="5868360" y="3500280"/>
              <a:ext cx="274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x  +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x   -  3y 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7520" y="4297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05000" y="46432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the equ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7308720" y="3284640"/>
            <a:ext cx="719280" cy="1224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133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133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220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544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2616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9672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05000"/>
            <a:ext cx="2665440" cy="2879640"/>
          </a:xfrm>
          <a:prstGeom prst="cloudCallout">
            <a:avLst>
              <a:gd name="adj1" fmla="val 117837"/>
              <a:gd name="adj2" fmla="val -3423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draw grap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table of values with at least 2 x-coordin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997360"/>
            <a:ext cx="3600360" cy="1871640"/>
          </a:xfrm>
          <a:prstGeom prst="cloudCallout">
            <a:avLst>
              <a:gd name="adj1" fmla="val 96074"/>
              <a:gd name="adj2" fmla="val -148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nd join points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is where lines c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>
            <a:hlinkClick r:id="rId1" action="ppaction://hlinksldjump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2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rId3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4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6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190800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13680" y="263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>
            <a:hlinkClick r:id="" action="ppaction://hlinkshowjump?jump=nextslide"/>
          </p:cNvPr>
          <p:cNvSpPr/>
          <p:nvPr/>
        </p:nvSpPr>
        <p:spPr>
          <a:xfrm>
            <a:off x="1908000" y="3357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rId1" action="ppaction://hlinksldjump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rId2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rId3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02520" y="3357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292720" y="2421000"/>
            <a:ext cx="3240000" cy="22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003640" y="2637000"/>
            <a:ext cx="2953080" cy="23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148360" y="3068640"/>
            <a:ext cx="3024000" cy="2521080"/>
          </a:xfrm>
          <a:prstGeom prst="cloudCallout">
            <a:avLst>
              <a:gd name="adj1" fmla="val -50421"/>
              <a:gd name="adj2" fmla="val 602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03640" y="3357720"/>
            <a:ext cx="2953080" cy="1871640"/>
          </a:xfrm>
          <a:prstGeom prst="cloudCallout">
            <a:avLst>
              <a:gd name="adj1" fmla="val -43226"/>
              <a:gd name="adj2" fmla="val 9122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32760" y="2708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8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9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1908000" y="4005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1" action="ppaction://hlinksldjump"/>
          </p:cNvPr>
          <p:cNvSpPr/>
          <p:nvPr/>
        </p:nvSpPr>
        <p:spPr>
          <a:xfrm>
            <a:off x="1908000" y="465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rId2" action="ppaction://hlinksldjump"/>
          </p:cNvPr>
          <p:cNvSpPr/>
          <p:nvPr/>
        </p:nvSpPr>
        <p:spPr>
          <a:xfrm>
            <a:off x="190800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698560" y="4005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01440" y="4653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99640" y="53006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4"/>
          <a:stretch/>
        </p:blipFill>
        <p:spPr>
          <a:xfrm>
            <a:off x="5789520" y="2276640"/>
            <a:ext cx="3354480" cy="40510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250920" y="7650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wo coffees &amp; three doughnuts cost £2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three coffees &amp; one doughnut cost £2.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the cost of two coffees &amp; five doughn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5" action="ppaction://hlinksldjump"/>
          </p:cNvPr>
          <p:cNvSpPr/>
          <p:nvPr/>
        </p:nvSpPr>
        <p:spPr>
          <a:xfrm>
            <a:off x="1906560" y="3284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772360" y="328464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89080" y="256392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27640" y="2565360"/>
            <a:ext cx="1384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91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9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140360" y="1987560"/>
            <a:ext cx="4463640" cy="840600"/>
            <a:chOff x="4140360" y="1987560"/>
            <a:chExt cx="4463640" cy="840600"/>
          </a:xfrm>
        </p:grpSpPr>
        <p:sp>
          <p:nvSpPr>
            <p:cNvPr id="933" name=""/>
            <p:cNvSpPr/>
            <p:nvPr/>
          </p:nvSpPr>
          <p:spPr>
            <a:xfrm>
              <a:off x="4140360" y="19875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46200" y="23684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372360" y="1916280"/>
            <a:ext cx="1447560" cy="834840"/>
            <a:chOff x="6372360" y="1916280"/>
            <a:chExt cx="1447560" cy="834840"/>
          </a:xfrm>
        </p:grpSpPr>
        <p:sp>
          <p:nvSpPr>
            <p:cNvPr id="937" name=""/>
            <p:cNvSpPr/>
            <p:nvPr/>
          </p:nvSpPr>
          <p:spPr>
            <a:xfrm>
              <a:off x="6372360" y="19162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72360" y="2291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39" name=""/>
          <p:cNvGraphicFramePr/>
          <p:nvPr/>
        </p:nvGraphicFramePr>
        <p:xfrm>
          <a:off x="4189320" y="3813120"/>
          <a:ext cx="184644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9320" y="3813120"/>
                    <a:ext cx="18464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1" name=""/>
          <p:cNvSpPr/>
          <p:nvPr/>
        </p:nvSpPr>
        <p:spPr>
          <a:xfrm>
            <a:off x="4211640" y="4797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4861080" y="5037120"/>
          <a:ext cx="110808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03712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6227640" y="3789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27640" y="4292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80360" y="2419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380360" y="191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786360" y="37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96080" y="364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740720" y="4221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6000" y="3716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805440" y="429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54720" y="42735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27640" y="5013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236000" y="50133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05440" y="501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643280" y="5672160"/>
            <a:ext cx="1656000" cy="431640"/>
            <a:chOff x="4643280" y="5672160"/>
            <a:chExt cx="1656000" cy="431640"/>
          </a:xfrm>
        </p:grpSpPr>
        <p:sp>
          <p:nvSpPr>
            <p:cNvPr id="958" name=""/>
            <p:cNvSpPr/>
            <p:nvPr/>
          </p:nvSpPr>
          <p:spPr>
            <a:xfrm>
              <a:off x="4643280" y="5672160"/>
              <a:ext cx="165600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9" name=""/>
            <p:cNvGraphicFramePr/>
            <p:nvPr/>
          </p:nvGraphicFramePr>
          <p:xfrm>
            <a:off x="5024520" y="5684400"/>
            <a:ext cx="812520" cy="34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4520" y="5684400"/>
                      <a:ext cx="81252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1" name=""/>
          <p:cNvSpPr/>
          <p:nvPr/>
        </p:nvSpPr>
        <p:spPr>
          <a:xfrm>
            <a:off x="0" y="549360"/>
            <a:ext cx="7696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doughnuts cost £2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coff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&amp; one doughnut cost £2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find the co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five doughnu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962520" y="105264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995640" y="285264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rId11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9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9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9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9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000"/>
                            </p:stCondLst>
                            <p:childTnLst>
                              <p:par>
                                <p:cTn id="9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9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9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9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9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9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969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9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983040" y="318456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70 for c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19760" y="36878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 + d = 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646600" y="40910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0" y="549360"/>
            <a:ext cx="3995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doughnuts cost £2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ree coff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&amp; one doughnut cost £2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find the cos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wo coffees &amp; five doughnu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4356000" y="2203560"/>
            <a:ext cx="4463640" cy="840600"/>
            <a:chOff x="4356000" y="2203560"/>
            <a:chExt cx="4463640" cy="840600"/>
          </a:xfrm>
        </p:grpSpPr>
        <p:sp>
          <p:nvSpPr>
            <p:cNvPr id="990" name=""/>
            <p:cNvSpPr/>
            <p:nvPr/>
          </p:nvSpPr>
          <p:spPr>
            <a:xfrm>
              <a:off x="4356000" y="220356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61840" y="258444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6588000" y="2131920"/>
            <a:ext cx="1447560" cy="835200"/>
            <a:chOff x="6588000" y="2131920"/>
            <a:chExt cx="1447560" cy="835200"/>
          </a:xfrm>
        </p:grpSpPr>
        <p:sp>
          <p:nvSpPr>
            <p:cNvPr id="993" name=""/>
            <p:cNvSpPr/>
            <p:nvPr/>
          </p:nvSpPr>
          <p:spPr>
            <a:xfrm>
              <a:off x="6588000" y="2131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88000" y="2507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7596360" y="2635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596360" y="21319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178160" y="12682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956720" y="3213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84720" y="4508640"/>
            <a:ext cx="434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979800" y="4889520"/>
            <a:ext cx="358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(2 x 70p)  +  (5 x 50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79800" y="5346720"/>
            <a:ext cx="358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1.40  +  £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95640" y="5805360"/>
            <a:ext cx="13845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-2520" y="3645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44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4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9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069520" y="476280"/>
            <a:ext cx="404244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he two simultan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first by introducin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to represent the cos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fee ( c)  and a different l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present the cost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hnut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3080" y="2492280"/>
            <a:ext cx="4463640" cy="840600"/>
            <a:chOff x="73080" y="2492280"/>
            <a:chExt cx="4463640" cy="840600"/>
          </a:xfrm>
        </p:grpSpPr>
        <p:sp>
          <p:nvSpPr>
            <p:cNvPr id="1017" name=""/>
            <p:cNvSpPr/>
            <p:nvPr/>
          </p:nvSpPr>
          <p:spPr>
            <a:xfrm>
              <a:off x="73080" y="2492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920" y="2873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305080" y="2421000"/>
            <a:ext cx="1447560" cy="835200"/>
            <a:chOff x="2305080" y="2421000"/>
            <a:chExt cx="1447560" cy="835200"/>
          </a:xfrm>
        </p:grpSpPr>
        <p:sp>
          <p:nvSpPr>
            <p:cNvPr id="1021" name=""/>
            <p:cNvSpPr/>
            <p:nvPr/>
          </p:nvSpPr>
          <p:spPr>
            <a:xfrm>
              <a:off x="2305080" y="2421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05080" y="2796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3" name=""/>
          <p:cNvGraphicFramePr/>
          <p:nvPr/>
        </p:nvGraphicFramePr>
        <p:xfrm>
          <a:off x="122400" y="4317840"/>
          <a:ext cx="184608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" y="4317840"/>
                    <a:ext cx="18460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"/>
          <p:cNvSpPr/>
          <p:nvPr/>
        </p:nvSpPr>
        <p:spPr>
          <a:xfrm>
            <a:off x="144360" y="5302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793800" y="5541840"/>
          <a:ext cx="110808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800" y="554184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"/>
          <p:cNvSpPr/>
          <p:nvPr/>
        </p:nvSpPr>
        <p:spPr>
          <a:xfrm>
            <a:off x="2160720" y="4294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313080" y="29242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13080" y="24210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719080" y="42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629160" y="414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673440" y="4726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6872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187800" y="4778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60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168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738160" y="551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76360" y="6176880"/>
            <a:ext cx="1655640" cy="432000"/>
            <a:chOff x="576360" y="6176880"/>
            <a:chExt cx="1655640" cy="432000"/>
          </a:xfrm>
        </p:grpSpPr>
        <p:sp>
          <p:nvSpPr>
            <p:cNvPr id="1042" name=""/>
            <p:cNvSpPr/>
            <p:nvPr/>
          </p:nvSpPr>
          <p:spPr>
            <a:xfrm>
              <a:off x="576360" y="617688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3" name=""/>
            <p:cNvGraphicFramePr/>
            <p:nvPr/>
          </p:nvGraphicFramePr>
          <p:xfrm>
            <a:off x="957240" y="6189480"/>
            <a:ext cx="812160" cy="346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57240" y="6189480"/>
                      <a:ext cx="8121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45" name=""/>
          <p:cNvSpPr/>
          <p:nvPr/>
        </p:nvSpPr>
        <p:spPr>
          <a:xfrm>
            <a:off x="-104760" y="1557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71280" y="3357720"/>
            <a:ext cx="47145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8880" y="2995560"/>
            <a:ext cx="434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c  +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3d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1d  +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c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2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8028000" y="3789360"/>
            <a:ext cx="579600" cy="5763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362280" y="436572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te chang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ence ease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9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9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73120" y="476280"/>
            <a:ext cx="4039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by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whichever variable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make have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in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73080" y="2492280"/>
            <a:ext cx="4463640" cy="840600"/>
            <a:chOff x="73080" y="2492280"/>
            <a:chExt cx="4463640" cy="840600"/>
          </a:xfrm>
        </p:grpSpPr>
        <p:sp>
          <p:nvSpPr>
            <p:cNvPr id="1061" name=""/>
            <p:cNvSpPr/>
            <p:nvPr/>
          </p:nvSpPr>
          <p:spPr>
            <a:xfrm>
              <a:off x="73080" y="2492280"/>
              <a:ext cx="44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8920" y="287316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0" y="765000"/>
            <a:ext cx="46432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305080" y="2421000"/>
            <a:ext cx="1447560" cy="835200"/>
            <a:chOff x="2305080" y="2421000"/>
            <a:chExt cx="1447560" cy="835200"/>
          </a:xfrm>
        </p:grpSpPr>
        <p:sp>
          <p:nvSpPr>
            <p:cNvPr id="1065" name=""/>
            <p:cNvSpPr/>
            <p:nvPr/>
          </p:nvSpPr>
          <p:spPr>
            <a:xfrm>
              <a:off x="2305080" y="24210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305080" y="27964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67" name=""/>
          <p:cNvGraphicFramePr/>
          <p:nvPr/>
        </p:nvGraphicFramePr>
        <p:xfrm>
          <a:off x="122400" y="4317840"/>
          <a:ext cx="184608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2400" y="4317840"/>
                    <a:ext cx="18460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"/>
          <p:cNvSpPr/>
          <p:nvPr/>
        </p:nvSpPr>
        <p:spPr>
          <a:xfrm>
            <a:off x="144360" y="530208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793800" y="5541840"/>
          <a:ext cx="110808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800" y="5541840"/>
                    <a:ext cx="11080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"/>
          <p:cNvSpPr/>
          <p:nvPr/>
        </p:nvSpPr>
        <p:spPr>
          <a:xfrm>
            <a:off x="2160720" y="4294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160720" y="47973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313080" y="29242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313080" y="24210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719080" y="4240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629160" y="414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673440" y="4726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168720" y="4221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738160" y="47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187800" y="47782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160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168720" y="551808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38160" y="551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76360" y="6176880"/>
            <a:ext cx="1655640" cy="432000"/>
            <a:chOff x="576360" y="6176880"/>
            <a:chExt cx="1655640" cy="432000"/>
          </a:xfrm>
        </p:grpSpPr>
        <p:sp>
          <p:nvSpPr>
            <p:cNvPr id="1086" name=""/>
            <p:cNvSpPr/>
            <p:nvPr/>
          </p:nvSpPr>
          <p:spPr>
            <a:xfrm>
              <a:off x="576360" y="6176880"/>
              <a:ext cx="165564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7" name=""/>
            <p:cNvGraphicFramePr/>
            <p:nvPr/>
          </p:nvGraphicFramePr>
          <p:xfrm>
            <a:off x="957240" y="6189480"/>
            <a:ext cx="812160" cy="346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8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57240" y="6189480"/>
                      <a:ext cx="8121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9" name=""/>
          <p:cNvSpPr/>
          <p:nvPr/>
        </p:nvSpPr>
        <p:spPr>
          <a:xfrm>
            <a:off x="-104760" y="1557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-71280" y="3357720"/>
            <a:ext cx="47145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492000" y="907920"/>
            <a:ext cx="1584360" cy="302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80"/>
                            </p:stCondLst>
                            <p:childTnLst>
                              <p:par>
                                <p:cTn id="1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7480" y="620640"/>
            <a:ext cx="462888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40" y="3544920"/>
            <a:ext cx="44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70 for c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939960" y="40482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0 + d = 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666800" y="44514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76200" y="2563920"/>
            <a:ext cx="4219200" cy="840600"/>
            <a:chOff x="376200" y="2563920"/>
            <a:chExt cx="4219200" cy="840600"/>
          </a:xfrm>
        </p:grpSpPr>
        <p:sp>
          <p:nvSpPr>
            <p:cNvPr id="1106" name=""/>
            <p:cNvSpPr/>
            <p:nvPr/>
          </p:nvSpPr>
          <p:spPr>
            <a:xfrm>
              <a:off x="376200" y="2563920"/>
              <a:ext cx="42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c  + 3d = 2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6280" y="2944800"/>
              <a:ext cx="24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c  + 1d = 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198360" y="1628640"/>
            <a:ext cx="4518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coffees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doughnu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 then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4920" y="4869000"/>
            <a:ext cx="41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coffees &amp; five dough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5249880"/>
            <a:ext cx="338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(2 x 70p)  +  (5 x 50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5707080"/>
            <a:ext cx="338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1.40  +  £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840" y="6165720"/>
            <a:ext cx="13082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£3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073840" y="476280"/>
            <a:ext cx="398448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you have a valu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variable you can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value into any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to find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ther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usually best to choos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that you we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059280" y="765000"/>
            <a:ext cx="2017440" cy="28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163120" y="3935520"/>
            <a:ext cx="3277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2987280" y="4076640"/>
            <a:ext cx="208908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704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8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440"/>
                            </p:stCondLst>
                            <p:childTnLst>
                              <p:par>
                                <p:cTn id="1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2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>
            <a:hlinkClick r:id="rId3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4" action="ppaction://hlinksldjump"/>
          </p:cNvPr>
          <p:cNvSpPr/>
          <p:nvPr/>
        </p:nvSpPr>
        <p:spPr>
          <a:xfrm>
            <a:off x="4572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>
            <a:hlinkClick r:id="rId5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65080" y="57340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053800" y="5734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>
            <a:hlinkClick r:id="rId6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7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31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2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rId3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rId4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053800" y="5589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5796000" y="2997360"/>
            <a:ext cx="3240000" cy="2592360"/>
          </a:xfrm>
          <a:prstGeom prst="cloudCallout">
            <a:avLst>
              <a:gd name="adj1" fmla="val -62592"/>
              <a:gd name="adj2" fmla="val 4497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wo equations, eliminating decimals wherever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614920" y="2852640"/>
            <a:ext cx="2952720" cy="2376720"/>
          </a:xfrm>
          <a:prstGeom prst="cloudCallout">
            <a:avLst>
              <a:gd name="adj1" fmla="val -64462"/>
              <a:gd name="adj2" fmla="val 6088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te either c’s or d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759280" y="3284640"/>
            <a:ext cx="3024360" cy="2520720"/>
          </a:xfrm>
          <a:prstGeom prst="cloudCallout">
            <a:avLst>
              <a:gd name="adj1" fmla="val -54462"/>
              <a:gd name="adj2" fmla="val 4005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14920" y="3573360"/>
            <a:ext cx="2952720" cy="1871640"/>
          </a:xfrm>
          <a:prstGeom prst="cloudCallout">
            <a:avLst>
              <a:gd name="adj1" fmla="val -32421"/>
              <a:gd name="adj2" fmla="val 5695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440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7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1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2" dur="50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5040360" cy="441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1368360" y="90756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68720" y="1413000"/>
            <a:ext cx="216000" cy="21564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55640" y="39322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8000" y="227664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133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220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44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00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83664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06064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8360" y="508464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 + 2y =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94172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41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33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800" y="5589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6948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7315200" y="1557360"/>
            <a:ext cx="1828800" cy="141120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108000" y="692280"/>
            <a:ext cx="88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 plan to introduce a new blend of tropical fruit drink made from bananas &amp; kiwis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produce three blends of the drink for market researc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s 70% banana syrup, 30% kiwi syru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st per litre is 74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lend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55% banana syrup, 45% kiwi syrup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sts 71p per litre to produ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hird blend is made using 75% banana syrup and 25% kiwi.  How does its cost compare to the other two bl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rId2" action="ppaction://hlinksldjump"/>
          </p:cNvPr>
          <p:cNvSpPr/>
          <p:nvPr/>
        </p:nvSpPr>
        <p:spPr>
          <a:xfrm>
            <a:off x="49323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rId3" action="ppaction://hlinksldjump"/>
          </p:cNvPr>
          <p:cNvSpPr/>
          <p:nvPr/>
        </p:nvSpPr>
        <p:spPr>
          <a:xfrm>
            <a:off x="4932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3672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43492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3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5"/>
          <a:stretch/>
        </p:blipFill>
        <p:spPr>
          <a:xfrm>
            <a:off x="7391520" y="4797360"/>
            <a:ext cx="1752480" cy="145260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250920" y="5157720"/>
            <a:ext cx="439236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6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4140360" y="1987560"/>
            <a:ext cx="5832000" cy="840600"/>
            <a:chOff x="4140360" y="1987560"/>
            <a:chExt cx="5832000" cy="840600"/>
          </a:xfrm>
        </p:grpSpPr>
        <p:sp>
          <p:nvSpPr>
            <p:cNvPr id="1186" name=""/>
            <p:cNvSpPr/>
            <p:nvPr/>
          </p:nvSpPr>
          <p:spPr>
            <a:xfrm>
              <a:off x="4140360" y="1987560"/>
              <a:ext cx="58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70B  + 0.30K = 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78600" y="236844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5B  + 0.45K = 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7020000" y="1949400"/>
            <a:ext cx="1447560" cy="835200"/>
            <a:chOff x="7020000" y="1949400"/>
            <a:chExt cx="1447560" cy="835200"/>
          </a:xfrm>
        </p:grpSpPr>
        <p:sp>
          <p:nvSpPr>
            <p:cNvPr id="1190" name=""/>
            <p:cNvSpPr/>
            <p:nvPr/>
          </p:nvSpPr>
          <p:spPr>
            <a:xfrm>
              <a:off x="7020000" y="19494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020000" y="2324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4059360" y="3405240"/>
          <a:ext cx="243828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9360" y="34052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4" name=""/>
          <p:cNvSpPr/>
          <p:nvPr/>
        </p:nvSpPr>
        <p:spPr>
          <a:xfrm>
            <a:off x="6489720" y="3429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89720" y="3932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956720" y="24192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956720" y="1916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975360" y="337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885080" y="3284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929720" y="386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424640" y="3355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994440" y="3932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443720" y="391320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995640" y="285264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Get rid of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75% banana syrup and 25% kiwi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067280" y="105264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one litre of banana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&amp; one litre of kiwi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9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9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9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9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9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9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9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9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1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7" name=""/>
          <p:cNvGraphicFramePr/>
          <p:nvPr/>
        </p:nvGraphicFramePr>
        <p:xfrm>
          <a:off x="4140360" y="836640"/>
          <a:ext cx="243828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8366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9" name=""/>
          <p:cNvGraphicFramePr/>
          <p:nvPr/>
        </p:nvGraphicFramePr>
        <p:xfrm>
          <a:off x="4932360" y="3429000"/>
          <a:ext cx="1477800" cy="34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429000"/>
                    <a:ext cx="1477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1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46720" y="2152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61400" y="206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9636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732720" y="3357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740720" y="3357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310160" y="33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4859280" y="3933720"/>
            <a:ext cx="1656000" cy="432000"/>
            <a:chOff x="4859280" y="3933720"/>
            <a:chExt cx="1656000" cy="432000"/>
          </a:xfrm>
        </p:grpSpPr>
        <p:sp>
          <p:nvSpPr>
            <p:cNvPr id="1241" name=""/>
            <p:cNvSpPr/>
            <p:nvPr/>
          </p:nvSpPr>
          <p:spPr>
            <a:xfrm>
              <a:off x="4859280" y="3933720"/>
              <a:ext cx="165600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2" name=""/>
            <p:cNvGraphicFramePr/>
            <p:nvPr/>
          </p:nvGraphicFramePr>
          <p:xfrm>
            <a:off x="5216400" y="3946320"/>
            <a:ext cx="862200" cy="346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16400" y="3946320"/>
                      <a:ext cx="86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44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75% banana syrup and 25% kiwi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Eliminate either B’s or K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4016520" y="2205000"/>
          <a:ext cx="2685960" cy="93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16520" y="2205000"/>
                    <a:ext cx="2685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4211640" y="321300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5964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659640" y="2637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9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9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9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9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9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9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9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9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5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rId3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140360" y="83664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83664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3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8000" y="620640"/>
            <a:ext cx="388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70% banana syrup, 30% kiwi syru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ost per litre is 74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lend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55% banana syrup, 45% kiwi syrup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sts 71p per litre to produ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hird blend is made using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5% banana syrup and 25% kiw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How does its cost compare to the other two bl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ubstitute found value into an equation without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140360" y="1989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80 for B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76720" y="249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0 + 3K = 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803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K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028000" y="1989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96000" y="335772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067280" y="3933720"/>
            <a:ext cx="50767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these values to answer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822840" y="4414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%B+25%K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880240" y="4414680"/>
            <a:ext cx="3263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75 x 80p)+(0.25 x 60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724360" y="48690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60p  +  1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724360" y="5234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067280" y="5661000"/>
            <a:ext cx="468144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059280" y="1916280"/>
            <a:ext cx="576000" cy="576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826920" y="1052640"/>
            <a:ext cx="576360" cy="576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7236000" y="3357720"/>
            <a:ext cx="1655640" cy="431640"/>
            <a:chOff x="7236000" y="3357720"/>
            <a:chExt cx="1655640" cy="431640"/>
          </a:xfrm>
        </p:grpSpPr>
        <p:sp>
          <p:nvSpPr>
            <p:cNvPr id="1292" name=""/>
            <p:cNvSpPr/>
            <p:nvPr/>
          </p:nvSpPr>
          <p:spPr>
            <a:xfrm>
              <a:off x="7236000" y="335772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3" name=""/>
            <p:cNvGraphicFramePr/>
            <p:nvPr/>
          </p:nvGraphicFramePr>
          <p:xfrm>
            <a:off x="7592760" y="3369960"/>
            <a:ext cx="861840" cy="345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92760" y="3369960"/>
                      <a:ext cx="8618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5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73080" y="2492280"/>
            <a:ext cx="5832000" cy="840600"/>
            <a:chOff x="73080" y="2492280"/>
            <a:chExt cx="5832000" cy="840600"/>
          </a:xfrm>
        </p:grpSpPr>
        <p:sp>
          <p:nvSpPr>
            <p:cNvPr id="1306" name=""/>
            <p:cNvSpPr/>
            <p:nvPr/>
          </p:nvSpPr>
          <p:spPr>
            <a:xfrm>
              <a:off x="73080" y="2492280"/>
              <a:ext cx="58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70B  + 0.30K = 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11320" y="287316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5B  + 0.45K = 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0" y="765000"/>
            <a:ext cx="4716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orm two equations, keeping costs in pence to avoid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2952720" y="2454120"/>
            <a:ext cx="1447560" cy="835200"/>
            <a:chOff x="2952720" y="2454120"/>
            <a:chExt cx="1447560" cy="835200"/>
          </a:xfrm>
        </p:grpSpPr>
        <p:sp>
          <p:nvSpPr>
            <p:cNvPr id="1310" name=""/>
            <p:cNvSpPr/>
            <p:nvPr/>
          </p:nvSpPr>
          <p:spPr>
            <a:xfrm>
              <a:off x="2952720" y="24541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52720" y="2829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(x10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2" name=""/>
          <p:cNvGraphicFramePr/>
          <p:nvPr/>
        </p:nvGraphicFramePr>
        <p:xfrm>
          <a:off x="-7920" y="390996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390996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4" name=""/>
          <p:cNvSpPr/>
          <p:nvPr/>
        </p:nvSpPr>
        <p:spPr>
          <a:xfrm>
            <a:off x="2422440" y="39337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422440" y="443700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8944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9440" y="24210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908080" y="387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817800" y="3789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62440" y="4365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357720" y="3860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927160" y="443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376440" y="4417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-71280" y="3357720"/>
            <a:ext cx="4787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Get rid of 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155736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one litre of banana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 &amp; one litre of kiwi syrup co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780800" y="476280"/>
            <a:ext cx="439596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the two simultane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first by introduc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to represent the cost per l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banana syrup  ( B)  and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letter to represen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per litre of  kiwis fruit (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1835280" y="981000"/>
            <a:ext cx="295272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789080" y="2997360"/>
            <a:ext cx="4121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0.70 B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+  0.30K   =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0.55B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+  0.45K   =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788000" y="4149720"/>
            <a:ext cx="27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ultiply all terms by 100 to remove dec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6156360" y="3645000"/>
            <a:ext cx="216000" cy="5760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8100720" y="3573360"/>
            <a:ext cx="406440" cy="5763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93080" y="422100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Note change to pence ease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360360" y="1528920"/>
          <a:ext cx="243828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1528920"/>
                    <a:ext cx="24382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1152360" y="4121280"/>
          <a:ext cx="147816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2360" y="4121280"/>
                    <a:ext cx="14781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2790720" y="155268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90720" y="20559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367080" y="2844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313080" y="1528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181400" y="2752560"/>
            <a:ext cx="89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16360" y="2825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952720" y="4049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960720" y="4049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079640" y="4626000"/>
            <a:ext cx="1655640" cy="431640"/>
            <a:chOff x="1079640" y="4626000"/>
            <a:chExt cx="1655640" cy="431640"/>
          </a:xfrm>
        </p:grpSpPr>
        <p:sp>
          <p:nvSpPr>
            <p:cNvPr id="1355" name=""/>
            <p:cNvSpPr/>
            <p:nvPr/>
          </p:nvSpPr>
          <p:spPr>
            <a:xfrm>
              <a:off x="1079640" y="4626000"/>
              <a:ext cx="1655640" cy="43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6" name=""/>
            <p:cNvGraphicFramePr/>
            <p:nvPr/>
          </p:nvGraphicFramePr>
          <p:xfrm>
            <a:off x="1436400" y="4638240"/>
            <a:ext cx="861840" cy="345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36400" y="4638240"/>
                      <a:ext cx="86184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8" name=""/>
          <p:cNvSpPr/>
          <p:nvPr/>
        </p:nvSpPr>
        <p:spPr>
          <a:xfrm>
            <a:off x="34920" y="69228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 Eliminate either B’s or K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236520" y="2897280"/>
          <a:ext cx="2685960" cy="93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520" y="2897280"/>
                    <a:ext cx="2685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431640" y="390528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879640" y="2825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879640" y="332892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350520" y="387504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073120" y="476280"/>
            <a:ext cx="40395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by eli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whichever variable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make have the 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in both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3851280" y="907920"/>
            <a:ext cx="122544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0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1" dur="8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408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5073840" y="476280"/>
            <a:ext cx="398448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you have a valu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variable you can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value into any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s to find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ther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usually best to choos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on that you we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163120" y="3935520"/>
            <a:ext cx="3277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to answe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8" name=""/>
          <p:cNvGraphicFramePr/>
          <p:nvPr/>
        </p:nvGraphicFramePr>
        <p:xfrm>
          <a:off x="144360" y="1557360"/>
          <a:ext cx="243864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360" y="1557360"/>
                    <a:ext cx="2438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0" name=""/>
          <p:cNvSpPr/>
          <p:nvPr/>
        </p:nvSpPr>
        <p:spPr>
          <a:xfrm>
            <a:off x="2575080" y="15811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575080" y="20844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097080" y="1557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-36360" y="76500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Substitute found value into an equation without dec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44360" y="270828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80 for B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081080" y="32115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0 + 3K = 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808280" y="3573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K =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032360" y="2708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763640" y="3968640"/>
            <a:ext cx="1295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920" y="4437000"/>
            <a:ext cx="507672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these values to answer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-173160" y="49179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%B+25%K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884240" y="4917960"/>
            <a:ext cx="3264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75 x 80p)+(0.25 x 60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728720" y="5372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60p  +  1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728720" y="5737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5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1280" y="6164280"/>
            <a:ext cx="468180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is blend is more expensive than the othe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3132000" y="3933720"/>
            <a:ext cx="1656000" cy="432000"/>
            <a:chOff x="3132000" y="3933720"/>
            <a:chExt cx="1656000" cy="432000"/>
          </a:xfrm>
        </p:grpSpPr>
        <p:sp>
          <p:nvSpPr>
            <p:cNvPr id="1396" name=""/>
            <p:cNvSpPr/>
            <p:nvPr/>
          </p:nvSpPr>
          <p:spPr>
            <a:xfrm>
              <a:off x="3132000" y="3933720"/>
              <a:ext cx="1656000" cy="4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7" name=""/>
            <p:cNvGraphicFramePr/>
            <p:nvPr/>
          </p:nvGraphicFramePr>
          <p:xfrm>
            <a:off x="3489120" y="3946320"/>
            <a:ext cx="862200" cy="346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89120" y="3946320"/>
                      <a:ext cx="8622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9" name=""/>
          <p:cNvSpPr/>
          <p:nvPr/>
        </p:nvSpPr>
        <p:spPr>
          <a:xfrm flipH="1">
            <a:off x="3348000" y="765000"/>
            <a:ext cx="1728720" cy="194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4140000" y="4076640"/>
            <a:ext cx="93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80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704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5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6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80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440"/>
                            </p:stCondLst>
                            <p:childTnLst>
                              <p:par>
                                <p:cTn id="1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>
            <a:hlinkClick r:id="rId1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rId2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rId3" action="ppaction://hlinksldjump"/>
          </p:cNvPr>
          <p:cNvSpPr/>
          <p:nvPr/>
        </p:nvSpPr>
        <p:spPr>
          <a:xfrm>
            <a:off x="4572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rId4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65080" y="57340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053800" y="57340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620640"/>
            <a:ext cx="8839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>
            <a:hlinkClick r:id="" action="ppaction://hlinkshowjump?jump=nextslide"/>
          </p:cNvPr>
          <p:cNvSpPr/>
          <p:nvPr/>
        </p:nvSpPr>
        <p:spPr>
          <a:xfrm>
            <a:off x="125892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rId2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rId3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053800" y="5661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620640"/>
            <a:ext cx="8839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048360" y="189000"/>
            <a:ext cx="3095640" cy="2448000"/>
          </a:xfrm>
          <a:prstGeom prst="cloudCallout">
            <a:avLst>
              <a:gd name="adj1" fmla="val -93745"/>
              <a:gd name="adj2" fmla="val 9643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851280" y="836640"/>
            <a:ext cx="4753080" cy="1440000"/>
          </a:xfrm>
          <a:prstGeom prst="cloudCallout">
            <a:avLst>
              <a:gd name="adj1" fmla="val -77486"/>
              <a:gd name="adj2" fmla="val 1975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find values of P &amp; 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 term from (a) with values given i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84720" y="692280"/>
            <a:ext cx="4464000" cy="2233440"/>
          </a:xfrm>
          <a:prstGeom prst="cloudCallout">
            <a:avLst>
              <a:gd name="adj1" fmla="val -71194"/>
              <a:gd name="adj2" fmla="val 1344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two equa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48360" y="404640"/>
            <a:ext cx="3456000" cy="3024360"/>
          </a:xfrm>
          <a:prstGeom prst="cloudCallout">
            <a:avLst>
              <a:gd name="adj1" fmla="val -87574"/>
              <a:gd name="adj2" fmla="val 956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and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184760" y="5084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4" dur="5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5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6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>
            <a:hlinkClick r:id="" action="ppaction://hlinkshowjump?jump=nextslide"/>
          </p:cNvPr>
          <p:cNvSpPr/>
          <p:nvPr/>
        </p:nvSpPr>
        <p:spPr>
          <a:xfrm>
            <a:off x="125892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>
            <a:hlinkClick r:id="rId1" action="ppaction://hlinksldjump"/>
          </p:cNvPr>
          <p:cNvSpPr/>
          <p:nvPr/>
        </p:nvSpPr>
        <p:spPr>
          <a:xfrm>
            <a:off x="4572000" y="56624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rId2" action="ppaction://hlinksldjump"/>
          </p:cNvPr>
          <p:cNvSpPr/>
          <p:nvPr/>
        </p:nvSpPr>
        <p:spPr>
          <a:xfrm>
            <a:off x="457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049120" y="631044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365080" y="56624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363640" y="631044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0" y="620640"/>
            <a:ext cx="88390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bonacci Sequ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formed as follow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 with two term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first two to obtain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4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obtain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rting with 3 &amp; 7, next four terms are  10, 17, 27 &amp; 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first two terms of such a sequence are P and Q then find expressions for the next 4 terms in their simples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&amp; 6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erms are 8 and 11 respectively then write down two equations in P and Q and hence find the values of P and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84360" y="418464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836720" y="4184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91636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35600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977080" y="443700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488360" y="4437000"/>
            <a:ext cx="1655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7913520" y="4413240"/>
          <a:ext cx="91152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13520" y="4413240"/>
                    <a:ext cx="911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>
            <a:hlinkClick r:id="rId6" action="ppaction://hlinksldjump"/>
          </p:cNvPr>
          <p:cNvSpPr/>
          <p:nvPr/>
        </p:nvSpPr>
        <p:spPr>
          <a:xfrm>
            <a:off x="12589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24720" y="57340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0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7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14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47628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8428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924360" y="184464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11034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2x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791320" y="1103400"/>
            <a:ext cx="1828800" cy="761760"/>
            <a:chOff x="5791320" y="1103400"/>
            <a:chExt cx="1828800" cy="761760"/>
          </a:xfrm>
        </p:grpSpPr>
        <p:sp>
          <p:nvSpPr>
            <p:cNvPr id="136" name=""/>
            <p:cNvSpPr/>
            <p:nvPr/>
          </p:nvSpPr>
          <p:spPr>
            <a:xfrm>
              <a:off x="5791320" y="1103400"/>
              <a:ext cx="1828800" cy="761760"/>
            </a:xfrm>
            <a:prstGeom prst="rect">
              <a:avLst/>
            </a:prstGeom>
            <a:solidFill>
              <a:srgbClr val="cc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1484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11034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4320" y="110340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867280" y="1103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484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-2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256536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508464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5"/>
          </p:cNvPr>
          <p:cNvSpPr/>
          <p:nvPr/>
        </p:nvSpPr>
        <p:spPr>
          <a:xfrm>
            <a:off x="2509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5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-194400" y="765000"/>
            <a:ext cx="444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first two terms of suc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are P and Q then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s for the next 4 te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ir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886200" y="11970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  First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&amp; second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495680" y="1654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111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Q +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95680" y="256860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500720" y="3573360"/>
            <a:ext cx="5181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2P + 3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0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82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4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7" name=""/>
          <p:cNvGraphicFramePr/>
          <p:nvPr/>
        </p:nvGraphicFramePr>
        <p:xfrm>
          <a:off x="4484520" y="836640"/>
          <a:ext cx="174816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4520" y="836640"/>
                    <a:ext cx="1748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9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110360" y="2800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8101080" y="27813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7559640" y="2781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659640" y="39337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67640" y="393372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723708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716360" y="4005360"/>
            <a:ext cx="165600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Match term from (a) with values given in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0" name=""/>
          <p:cNvGraphicFramePr/>
          <p:nvPr/>
        </p:nvGraphicFramePr>
        <p:xfrm>
          <a:off x="4376880" y="2852640"/>
          <a:ext cx="1922400" cy="93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76880" y="2852640"/>
                    <a:ext cx="19224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"/>
          <p:cNvSpPr/>
          <p:nvPr/>
        </p:nvSpPr>
        <p:spPr>
          <a:xfrm>
            <a:off x="4175280" y="386064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622920" y="278136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622920" y="3284640"/>
            <a:ext cx="43200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-345240" y="666720"/>
            <a:ext cx="470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5th &amp; 6th terms are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d 11 respective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wo equations in P and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ence find the valu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164360" y="134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995640" y="1989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Eliminate either P’s or Q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094520" y="3284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655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101080" y="328464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1" name=""/>
          <p:cNvGraphicFramePr/>
          <p:nvPr/>
        </p:nvGraphicFramePr>
        <p:xfrm>
          <a:off x="5141880" y="3981600"/>
          <a:ext cx="9111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41880" y="3981600"/>
                    <a:ext cx="9111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rId10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9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9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9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9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9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9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9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9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9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9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9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9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52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5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8652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140360" y="1989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2 for Q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076720" y="249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P + (-6)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80392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P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8028000" y="19890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796000" y="3357720"/>
            <a:ext cx="12952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-345240" y="666720"/>
            <a:ext cx="4708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5th &amp; 6th terms are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d 11 respective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 two equations in P and 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hence find the valu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484520" y="836640"/>
          <a:ext cx="174816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836640"/>
                    <a:ext cx="1748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6570720" y="86040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570720" y="13636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093080" y="83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164360" y="134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067280" y="4365720"/>
            <a:ext cx="468144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wo terms are 7  and –2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rId5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569480" y="5337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0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3900"/>
                            </p:stCondLst>
                            <p:childTnLst>
                              <p:par>
                                <p:cTn id="18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4900"/>
                            </p:stCondLst>
                            <p:childTnLst>
                              <p:par>
                                <p:cTn id="1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400"/>
                            </p:stCondLst>
                            <p:childTnLst>
                              <p:par>
                                <p:cTn id="1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900"/>
                            </p:stCondLst>
                            <p:childTnLst>
                              <p:par>
                                <p:cTn id="1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5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-36360" y="765000"/>
            <a:ext cx="46796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rite down expressions using previous two to form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155736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&amp; second term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95280" y="2527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P +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95280" y="2984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Q +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P + 2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95280" y="3441600"/>
            <a:ext cx="487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P + 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ff3399"/>
                </a:solidFill>
                <a:uFillTx/>
                <a:latin typeface="Arial"/>
              </a:rPr>
              <a:t>2P + 3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99960" y="444672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rm  =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P + 2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2P + 3Q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P + 5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898880" y="404640"/>
            <a:ext cx="4245120" cy="46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blems in context it is often useful to do a simple numerical example before attempting the algebraic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onacci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  7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  17,   27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,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    Q  P + Q P + 2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  6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  16,   26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,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introduce th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,  Q,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 + Q, P + 2Q,  2P + 3Q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3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4" dur="8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3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5" dur="80"/>
                                        <p:tgtEl>
                                          <p:spTgt spid="1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260"/>
                            </p:stCondLst>
                            <p:childTnLst>
                              <p:par>
                                <p:cTn id="1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9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0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80"/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6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7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8" dur="80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080"/>
                            </p:stCondLst>
                            <p:childTnLst>
                              <p:par>
                                <p:cTn id="19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2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3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80"/>
                                        <p:tgtEl>
                                          <p:spTgt spid="1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920"/>
                            </p:stCondLst>
                            <p:childTnLst>
                              <p:par>
                                <p:cTn id="1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577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">
            <a:hlinkClick r:id="rId1" action="ppaction://hlinksldjump"/>
          </p:cNvPr>
          <p:cNvSpPr/>
          <p:nvPr/>
        </p:nvSpPr>
        <p:spPr>
          <a:xfrm>
            <a:off x="125892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>
            <a:hlinkClick r:id="rId2" action="ppaction://hlinksldjump"/>
          </p:cNvPr>
          <p:cNvSpPr/>
          <p:nvPr/>
        </p:nvSpPr>
        <p:spPr>
          <a:xfrm>
            <a:off x="12589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>
            <a:hlinkClick r:id="rId3" action="ppaction://hlinksldjump"/>
          </p:cNvPr>
          <p:cNvSpPr/>
          <p:nvPr/>
        </p:nvSpPr>
        <p:spPr>
          <a:xfrm>
            <a:off x="4572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rId4" action="ppaction://hlinksldjump"/>
          </p:cNvPr>
          <p:cNvSpPr/>
          <p:nvPr/>
        </p:nvSpPr>
        <p:spPr>
          <a:xfrm>
            <a:off x="4572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049120" y="6381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365080" y="5805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363640" y="638172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053800" y="5805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600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582480" y="3789360"/>
            <a:ext cx="3657600" cy="1218960"/>
            <a:chOff x="582480" y="3789360"/>
            <a:chExt cx="3657600" cy="1218960"/>
          </a:xfrm>
        </p:grpSpPr>
        <p:sp>
          <p:nvSpPr>
            <p:cNvPr id="1606" name=""/>
            <p:cNvSpPr/>
            <p:nvPr/>
          </p:nvSpPr>
          <p:spPr>
            <a:xfrm>
              <a:off x="2004840" y="37893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96880" y="409392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11280" y="409392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540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396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868480" y="439884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3256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112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968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2480" y="470376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4697280" y="3797280"/>
            <a:ext cx="3657600" cy="1218960"/>
            <a:chOff x="4697280" y="3797280"/>
            <a:chExt cx="3657600" cy="1218960"/>
          </a:xfrm>
        </p:grpSpPr>
        <p:sp>
          <p:nvSpPr>
            <p:cNvPr id="1617" name=""/>
            <p:cNvSpPr/>
            <p:nvPr/>
          </p:nvSpPr>
          <p:spPr>
            <a:xfrm>
              <a:off x="6119640" y="3797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611680" y="4101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526080" y="4101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688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1544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983280" y="4406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404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5260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6116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97280" y="4711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658800" y="462132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811080" y="3716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849920" y="364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697280" y="4635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195640" y="3716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310440" y="3730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nextslide"/>
          </p:cNvPr>
          <p:cNvSpPr/>
          <p:nvPr/>
        </p:nvSpPr>
        <p:spPr>
          <a:xfrm>
            <a:off x="1246320" y="5157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051640" y="5157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636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>
            <a:hlinkClick r:id="" action="ppaction://hlinkshowjump?jump=nextslide"/>
          </p:cNvPr>
          <p:cNvSpPr/>
          <p:nvPr/>
        </p:nvSpPr>
        <p:spPr>
          <a:xfrm>
            <a:off x="12589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rId1" action="ppaction://hlinksldjump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rId2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rId3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053800" y="5589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659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582480" y="4143240"/>
            <a:ext cx="3657600" cy="1218960"/>
            <a:chOff x="582480" y="4143240"/>
            <a:chExt cx="3657600" cy="1218960"/>
          </a:xfrm>
        </p:grpSpPr>
        <p:sp>
          <p:nvSpPr>
            <p:cNvPr id="1665" name=""/>
            <p:cNvSpPr/>
            <p:nvPr/>
          </p:nvSpPr>
          <p:spPr>
            <a:xfrm>
              <a:off x="20048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4968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4112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540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96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868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325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411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4968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2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4697280" y="4143240"/>
            <a:ext cx="3657600" cy="1218960"/>
            <a:chOff x="4697280" y="4143240"/>
            <a:chExt cx="3657600" cy="1218960"/>
          </a:xfrm>
        </p:grpSpPr>
        <p:sp>
          <p:nvSpPr>
            <p:cNvPr id="1676" name=""/>
            <p:cNvSpPr/>
            <p:nvPr/>
          </p:nvSpPr>
          <p:spPr>
            <a:xfrm>
              <a:off x="61196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6116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260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688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154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832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40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260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611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97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658800" y="4981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811080" y="40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49920" y="3990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697280" y="498168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1956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3104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398920" y="1268280"/>
            <a:ext cx="3745080" cy="2160720"/>
          </a:xfrm>
          <a:prstGeom prst="cloudCallout">
            <a:avLst>
              <a:gd name="adj1" fmla="val -73527"/>
              <a:gd name="adj2" fmla="val 480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284720" y="765000"/>
            <a:ext cx="4176720" cy="2232360"/>
          </a:xfrm>
          <a:prstGeom prst="cloudCallout">
            <a:avLst>
              <a:gd name="adj1" fmla="val -51749"/>
              <a:gd name="adj2" fmla="val 683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 2 equations and eliminate either v’s or w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643280" y="1197000"/>
            <a:ext cx="4032360" cy="1655640"/>
          </a:xfrm>
          <a:prstGeom prst="cloudCallout">
            <a:avLst>
              <a:gd name="adj1" fmla="val -36101"/>
              <a:gd name="adj2" fmla="val 8202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0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1" dur="50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2" dur="50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"/>
          <p:cNvGrpSpPr/>
          <p:nvPr/>
        </p:nvGrpSpPr>
        <p:grpSpPr>
          <a:xfrm>
            <a:off x="2195640" y="1628640"/>
            <a:ext cx="3657600" cy="1218960"/>
            <a:chOff x="2195640" y="1628640"/>
            <a:chExt cx="3657600" cy="1218960"/>
          </a:xfrm>
        </p:grpSpPr>
        <p:sp>
          <p:nvSpPr>
            <p:cNvPr id="1696" name=""/>
            <p:cNvSpPr/>
            <p:nvPr/>
          </p:nvSpPr>
          <p:spPr>
            <a:xfrm>
              <a:off x="3618000" y="1628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1100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24440" y="19332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72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528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481640" y="22381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388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244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100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195640" y="25430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6" name="">
            <a:hlinkClick r:id="" action="ppaction://hlinkshowjump?jump=nextslide"/>
          </p:cNvPr>
          <p:cNvSpPr/>
          <p:nvPr/>
        </p:nvSpPr>
        <p:spPr>
          <a:xfrm>
            <a:off x="12589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>
            <a:hlinkClick r:id="rId1" action="ppaction://hlinksldjump"/>
          </p:cNvPr>
          <p:cNvSpPr/>
          <p:nvPr/>
        </p:nvSpPr>
        <p:spPr>
          <a:xfrm>
            <a:off x="457200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rId2" action="ppaction://hlinksldjump"/>
          </p:cNvPr>
          <p:cNvSpPr/>
          <p:nvPr/>
        </p:nvSpPr>
        <p:spPr>
          <a:xfrm>
            <a:off x="4572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04912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36508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36364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4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0920" y="76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“Number Pyramid”  the value in each bl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 of the values in the two blocks underneath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2308320" y="1603440"/>
            <a:ext cx="3657600" cy="1313280"/>
            <a:chOff x="2308320" y="1603440"/>
            <a:chExt cx="3657600" cy="1313280"/>
          </a:xfrm>
        </p:grpSpPr>
        <p:sp>
          <p:nvSpPr>
            <p:cNvPr id="1717" name=""/>
            <p:cNvSpPr/>
            <p:nvPr/>
          </p:nvSpPr>
          <p:spPr>
            <a:xfrm>
              <a:off x="2308320" y="251748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          3          -4         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65520" y="221292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           -1          -5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222720" y="19080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           -6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55880" y="1603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1116000" y="2924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wo number pyramids below have the middle two rows missing.  Find the values of v and 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582480" y="4143240"/>
            <a:ext cx="3657600" cy="1218960"/>
            <a:chOff x="582480" y="4143240"/>
            <a:chExt cx="3657600" cy="1218960"/>
          </a:xfrm>
        </p:grpSpPr>
        <p:sp>
          <p:nvSpPr>
            <p:cNvPr id="1723" name=""/>
            <p:cNvSpPr/>
            <p:nvPr/>
          </p:nvSpPr>
          <p:spPr>
            <a:xfrm>
              <a:off x="20048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4968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4112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9540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396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868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325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11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4968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82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4697280" y="4143240"/>
            <a:ext cx="3657600" cy="1218960"/>
            <a:chOff x="4697280" y="4143240"/>
            <a:chExt cx="3657600" cy="1218960"/>
          </a:xfrm>
        </p:grpSpPr>
        <p:sp>
          <p:nvSpPr>
            <p:cNvPr id="1734" name=""/>
            <p:cNvSpPr/>
            <p:nvPr/>
          </p:nvSpPr>
          <p:spPr>
            <a:xfrm>
              <a:off x="6119640" y="4143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6116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26080" y="4447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0688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1544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983280" y="4752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4404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5260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6116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97280" y="5057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4" name=""/>
          <p:cNvSpPr/>
          <p:nvPr/>
        </p:nvSpPr>
        <p:spPr>
          <a:xfrm>
            <a:off x="658800" y="4981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11080" y="40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849920" y="39909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697280" y="498168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1956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310440" y="40766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24000" y="5589720"/>
            <a:ext cx="165564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744480" y="5613480"/>
          <a:ext cx="93672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480" y="5613480"/>
                    <a:ext cx="9367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>
            <a:off x="2268360" y="5589720"/>
            <a:ext cx="1295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0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75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7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067280" y="26028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776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790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067280" y="1484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211640" y="198900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211640" y="24922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211640" y="2997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651640" y="2276640"/>
            <a:ext cx="144360" cy="2887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724360" y="2349360"/>
            <a:ext cx="1152720" cy="216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6877080" y="2276640"/>
            <a:ext cx="142920" cy="28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948360" y="2276640"/>
            <a:ext cx="1008360" cy="288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H="1" flipV="1">
            <a:off x="5724360" y="2781360"/>
            <a:ext cx="216000" cy="28728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6084720" y="2852640"/>
            <a:ext cx="648000" cy="21600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000560" y="299088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051440" y="38401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356000" y="422100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284720" y="4848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284720" y="5373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5867280" y="4653000"/>
            <a:ext cx="144720" cy="2887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 flipV="1">
            <a:off x="5940360" y="4508280"/>
            <a:ext cx="936720" cy="43308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6877080" y="4581000"/>
            <a:ext cx="216000" cy="3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6948360" y="4581000"/>
            <a:ext cx="792360" cy="3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 flipV="1">
            <a:off x="5796000" y="5157720"/>
            <a:ext cx="216000" cy="28728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6156360" y="5229000"/>
            <a:ext cx="647640" cy="21564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877440" y="537372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4" dur="indefinite" restart="never" nodeType="tmRoot">
          <p:childTnLst>
            <p:seq>
              <p:cTn id="2005" dur="indefinite" nodeType="mainSeq">
                <p:childTnLst>
                  <p:par>
                    <p:cTn id="2006" fill="hold">
                      <p:stCondLst>
                        <p:cond delay="0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500"/>
                            </p:stCondLst>
                            <p:childTnLst>
                              <p:par>
                                <p:cTn id="20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9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500"/>
                            </p:stCondLst>
                            <p:childTnLst>
                              <p:par>
                                <p:cTn id="212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830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8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2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4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84720" y="59500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848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862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995640" y="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Form 2 equations and eliminate either v’s or w’s by making coefficient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4202280" y="1195560"/>
          <a:ext cx="2314440" cy="93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2280" y="1195560"/>
                    <a:ext cx="23144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0" name=""/>
          <p:cNvSpPr/>
          <p:nvPr/>
        </p:nvSpPr>
        <p:spPr>
          <a:xfrm>
            <a:off x="6570720" y="12193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570720" y="172260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093080" y="11955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7164360" y="1700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7003800" y="294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7994520" y="2924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745344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553080" y="4076640"/>
            <a:ext cx="43200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7561440" y="407664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713088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643280" y="4581360"/>
            <a:ext cx="1656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3987720" y="2995560"/>
          <a:ext cx="2489400" cy="93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87720" y="2995560"/>
                    <a:ext cx="2489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3" name=""/>
          <p:cNvSpPr/>
          <p:nvPr/>
        </p:nvSpPr>
        <p:spPr>
          <a:xfrm>
            <a:off x="4068720" y="400356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516720" y="29242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516720" y="342756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987960" y="34275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7437600" y="340848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7994520" y="342756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9" name=""/>
          <p:cNvGraphicFramePr/>
          <p:nvPr/>
        </p:nvGraphicFramePr>
        <p:xfrm>
          <a:off x="4789440" y="4148280"/>
          <a:ext cx="1403280" cy="34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9440" y="4148280"/>
                    <a:ext cx="14032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1" name=""/>
          <p:cNvSpPr/>
          <p:nvPr/>
        </p:nvSpPr>
        <p:spPr>
          <a:xfrm>
            <a:off x="4121640" y="23670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5064120" y="4605480"/>
          <a:ext cx="936720" cy="34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64120" y="4605480"/>
                    <a:ext cx="93672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"/>
          <p:cNvSpPr/>
          <p:nvPr/>
        </p:nvSpPr>
        <p:spPr>
          <a:xfrm>
            <a:off x="4569480" y="5192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1" dur="indefinite" restart="never" nodeType="tmRoot">
          <p:childTnLst>
            <p:seq>
              <p:cTn id="2132" dur="indefinite" nodeType="mainSeq">
                <p:childTnLst>
                  <p:par>
                    <p:cTn id="2133" fill="hold">
                      <p:stCondLst>
                        <p:cond delay="0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1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9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9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8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9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5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9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9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9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9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9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9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9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9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9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9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9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8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5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0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9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8364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>
            <a:hlinkClick r:id="rId2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0" y="687240"/>
            <a:ext cx="3657600" cy="1218960"/>
            <a:chOff x="0" y="687240"/>
            <a:chExt cx="3657600" cy="1218960"/>
          </a:xfrm>
        </p:grpSpPr>
        <p:sp>
          <p:nvSpPr>
            <p:cNvPr id="1926" name=""/>
            <p:cNvSpPr/>
            <p:nvPr/>
          </p:nvSpPr>
          <p:spPr>
            <a:xfrm>
              <a:off x="1422360" y="6872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9144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828800" y="99180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3716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572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86000" y="129672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7432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8288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440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0" y="16016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76320" y="152568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w       w – 2v    v +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28600" y="61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612800" y="62064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171360" y="2573280"/>
            <a:ext cx="3657600" cy="1218960"/>
            <a:chOff x="171360" y="2573280"/>
            <a:chExt cx="3657600" cy="1218960"/>
          </a:xfrm>
        </p:grpSpPr>
        <p:sp>
          <p:nvSpPr>
            <p:cNvPr id="1940" name=""/>
            <p:cNvSpPr/>
            <p:nvPr/>
          </p:nvSpPr>
          <p:spPr>
            <a:xfrm>
              <a:off x="1593720" y="25732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0857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000160" y="287784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5429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285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57360" y="3182760"/>
              <a:ext cx="914400" cy="3049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145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0001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0857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1360" y="3487680"/>
              <a:ext cx="914400" cy="3045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324000" y="2421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71360" y="3411360"/>
            <a:ext cx="358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 – 3w       6w     v - w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784520" y="250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1332000" y="47628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1403280" y="2349360"/>
            <a:ext cx="1150920" cy="576360"/>
          </a:xfrm>
          <a:prstGeom prst="ellipse">
            <a:avLst/>
          </a:prstGeom>
          <a:noFill/>
          <a:ln w="507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4202280" y="907920"/>
          <a:ext cx="231444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2280" y="907920"/>
                    <a:ext cx="2314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7" name=""/>
          <p:cNvSpPr/>
          <p:nvPr/>
        </p:nvSpPr>
        <p:spPr>
          <a:xfrm>
            <a:off x="6570720" y="93204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570720" y="1434960"/>
            <a:ext cx="431640" cy="43200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093080" y="90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16436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Substitute found value into either of original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4140360" y="2205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-1 for W i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076720" y="2708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+ (-9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803920" y="3111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V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96000" y="3573360"/>
            <a:ext cx="12952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8028000" y="2133720"/>
            <a:ext cx="431640" cy="431640"/>
          </a:xfrm>
          <a:prstGeom prst="ellipse">
            <a:avLst/>
          </a:prstGeom>
          <a:solidFill>
            <a:srgbClr val="fbdf5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0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48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28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080" y="501336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other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76280"/>
            <a:ext cx="44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 3x + 2y =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84280"/>
            <a:ext cx="43560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3x + 2y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2x –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119664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3080" y="1701720"/>
            <a:ext cx="21564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22100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2565360"/>
            <a:ext cx="504720" cy="43200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92840" y="551664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551664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6160" y="54450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080" y="59500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4" action="ppaction://hlinksldjump"/>
          </p:cNvPr>
          <p:cNvSpPr/>
          <p:nvPr/>
        </p:nvSpPr>
        <p:spPr>
          <a:xfrm>
            <a:off x="250920" y="508464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5"/>
          </p:cNvPr>
          <p:cNvSpPr/>
          <p:nvPr/>
        </p:nvSpPr>
        <p:spPr>
          <a:xfrm>
            <a:off x="25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0800" y="4943"/>
                </a:moveTo>
                <a:lnTo>
                  <a:pt x="13376" y="7554"/>
                </a:ln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lnTo>
                  <a:pt x="17763" y="11906"/>
                </a:lnTo>
                <a:lnTo>
                  <a:pt x="16109" y="11906"/>
                </a:lnTo>
                <a:lnTo>
                  <a:pt x="16109" y="19095"/>
                </a:lnTo>
                <a:lnTo>
                  <a:pt x="5491" y="19095"/>
                </a:lnTo>
                <a:lnTo>
                  <a:pt x="5491" y="11906"/>
                </a:lnTo>
                <a:lnTo>
                  <a:pt x="3837" y="11906"/>
                </a:lnTo>
                <a:close/>
              </a:path>
              <a:path fill="darkenLess" w="21600" h="23812">
                <a:moveTo>
                  <a:pt x="13376" y="7554"/>
                </a:moveTo>
                <a:lnTo>
                  <a:pt x="13376" y="5813"/>
                </a:lnTo>
                <a:lnTo>
                  <a:pt x="15152" y="5813"/>
                </a:lnTo>
                <a:lnTo>
                  <a:pt x="15152" y="9330"/>
                </a:lnTo>
                <a:close/>
              </a:path>
              <a:path fill="darkenLess" w="21600" h="23812">
                <a:moveTo>
                  <a:pt x="9877" y="15405"/>
                </a:moveTo>
                <a:lnTo>
                  <a:pt x="11723" y="15405"/>
                </a:lnTo>
                <a:lnTo>
                  <a:pt x="11723" y="19095"/>
                </a:lnTo>
                <a:lnTo>
                  <a:pt x="16109" y="19095"/>
                </a:lnTo>
                <a:lnTo>
                  <a:pt x="16109" y="11906"/>
                </a:lnTo>
                <a:lnTo>
                  <a:pt x="5491" y="11906"/>
                </a:lnTo>
                <a:lnTo>
                  <a:pt x="5491" y="19095"/>
                </a:lnTo>
                <a:lnTo>
                  <a:pt x="9877" y="190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95080" y="6237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4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7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5840" y="836640"/>
            <a:ext cx="470052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5840" y="2060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60200" y="256536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60200" y="3068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60200" y="3573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949120" y="356724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44164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04920" y="4797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33280" y="54244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33280" y="595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826000" y="595008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148360" y="620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agrams given to organise wo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5003640" y="1773360"/>
            <a:ext cx="3916440" cy="1298160"/>
            <a:chOff x="5003640" y="1773360"/>
            <a:chExt cx="3916440" cy="1298160"/>
          </a:xfrm>
        </p:grpSpPr>
        <p:grpSp>
          <p:nvGrpSpPr>
            <p:cNvPr id="1989" name=""/>
            <p:cNvGrpSpPr/>
            <p:nvPr/>
          </p:nvGrpSpPr>
          <p:grpSpPr>
            <a:xfrm>
              <a:off x="5003640" y="1773360"/>
              <a:ext cx="3916440" cy="1298160"/>
              <a:chOff x="5003640" y="1773360"/>
              <a:chExt cx="3916440" cy="1298160"/>
            </a:xfrm>
          </p:grpSpPr>
          <p:grpSp>
            <p:nvGrpSpPr>
              <p:cNvPr id="1990" name=""/>
              <p:cNvGrpSpPr/>
              <p:nvPr/>
            </p:nvGrpSpPr>
            <p:grpSpPr>
              <a:xfrm>
                <a:off x="5003640" y="1849320"/>
                <a:ext cx="3657600" cy="1218600"/>
                <a:chOff x="5003640" y="1849320"/>
                <a:chExt cx="3657600" cy="12186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426000" y="1849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918040" y="21538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6832440" y="21538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63752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54608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7289640" y="24584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77468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68324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9180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003640" y="276336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1" name=""/>
              <p:cNvSpPr/>
              <p:nvPr/>
            </p:nvSpPr>
            <p:spPr>
              <a:xfrm>
                <a:off x="5338800" y="239832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v + 2w    3w - 2v     2w - v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680160" y="17733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384880" y="177336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202360" y="270324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v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2w       w – 2v    v + w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5" name=""/>
            <p:cNvSpPr/>
            <p:nvPr/>
          </p:nvSpPr>
          <p:spPr>
            <a:xfrm>
              <a:off x="5765760" y="20779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w + 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5w - 3v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5129280" y="3645000"/>
            <a:ext cx="4014720" cy="1633680"/>
            <a:chOff x="5129280" y="3645000"/>
            <a:chExt cx="4014720" cy="1633680"/>
          </a:xfrm>
        </p:grpSpPr>
        <p:grpSp>
          <p:nvGrpSpPr>
            <p:cNvPr id="2007" name=""/>
            <p:cNvGrpSpPr/>
            <p:nvPr/>
          </p:nvGrpSpPr>
          <p:grpSpPr>
            <a:xfrm>
              <a:off x="5129280" y="3645000"/>
              <a:ext cx="4014720" cy="1633680"/>
              <a:chOff x="5129280" y="3645000"/>
              <a:chExt cx="4014720" cy="163368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5176800" y="3797280"/>
                <a:ext cx="3657600" cy="1218600"/>
                <a:chOff x="5176800" y="3797280"/>
                <a:chExt cx="3657600" cy="121860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6599160" y="379728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091200" y="41018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7005600" y="410184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5484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56340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7462800" y="440640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79200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70056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0912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176800" y="4711320"/>
                  <a:ext cx="914400" cy="304560"/>
                </a:xfrm>
                <a:prstGeom prst="rect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5481720" y="36450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129280" y="4667040"/>
                <a:ext cx="35812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 + w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v – 3w        6w           v - w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853320" y="372096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562720" y="4381200"/>
                <a:ext cx="358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v - 2w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3w + v       5w + v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3" name=""/>
            <p:cNvSpPr/>
            <p:nvPr/>
          </p:nvSpPr>
          <p:spPr>
            <a:xfrm>
              <a:off x="6031080" y="4025880"/>
              <a:ext cx="2041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v + w    8w + 2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0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00"/>
                            </p:stCondLst>
                            <p:childTnLst>
                              <p:par>
                                <p:cTn id="2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4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5840" y="836640"/>
            <a:ext cx="470052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ork your way to an expression for the top row by filling in the midd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5840" y="2060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60200" y="2565360"/>
            <a:ext cx="46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2w,  -2v + 3w,  -v + 2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60200" y="306864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v + 5w,  -3v + 5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60200" y="35733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-2v + 1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949120" y="3567240"/>
            <a:ext cx="839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-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441648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yrami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04920" y="479736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v - 2w,  v + 3w,  v + 5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33280" y="54244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3v + w,  2v + 8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33280" y="595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p r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v + 9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826000" y="5950080"/>
            <a:ext cx="6836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647680" y="785880"/>
            <a:ext cx="25506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w - 2v = 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w  + 5v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726880" y="256392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by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li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3563640" y="1052640"/>
            <a:ext cx="2087640" cy="24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H="1">
            <a:off x="3492360" y="1125360"/>
            <a:ext cx="2232000" cy="468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163480" y="4149720"/>
            <a:ext cx="39816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simultaneous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0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244620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2920" y="861840"/>
            <a:ext cx="457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Construct a table of values with at least 2 x coord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3080" y="17049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2x 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43280" y="17049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      0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43280" y="20858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     -2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68720" y="316692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55640" y="5686560"/>
            <a:ext cx="216000" cy="21564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159520" y="549360"/>
            <a:ext cx="3984480" cy="4362840"/>
            <a:chOff x="5159520" y="549360"/>
            <a:chExt cx="3984480" cy="4362840"/>
          </a:xfrm>
        </p:grpSpPr>
        <p:sp>
          <p:nvSpPr>
            <p:cNvPr id="192" name=""/>
            <p:cNvSpPr/>
            <p:nvPr/>
          </p:nvSpPr>
          <p:spPr>
            <a:xfrm>
              <a:off x="5159520" y="549360"/>
              <a:ext cx="3984480" cy="43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re are two ways of draw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ine y = 2x -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nding two points on the lin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0    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2 x 0 – 1 =  -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 = 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2 x 2 - 1  =  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st Point (0,-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ond Point (-1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and join (0,-1), and (-1,3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73920" y="248436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4720" y="306864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rId4"/>
          </p:cNvPr>
          <p:cNvSpPr/>
          <p:nvPr/>
        </p:nvSpPr>
        <p:spPr>
          <a:xfrm>
            <a:off x="637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83280" y="-2556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rkers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0720" y="59500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 Eqs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5040360" cy="441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168720" y="227808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55640" y="4797360"/>
            <a:ext cx="216000" cy="216000"/>
          </a:xfrm>
          <a:prstGeom prst="ellipse">
            <a:avLst/>
          </a:prstGeom>
          <a:solidFill>
            <a:srgbClr val="fbdf5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6500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nd join points. Solution is where lines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03280" y="1676160"/>
            <a:ext cx="2303640" cy="381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82920" y="3044880"/>
            <a:ext cx="504720" cy="431640"/>
          </a:xfrm>
          <a:prstGeom prst="ellipse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6093000"/>
            <a:ext cx="2133720" cy="457200"/>
          </a:xfrm>
          <a:prstGeom prst="rect">
            <a:avLst/>
          </a:pr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093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ution i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3   &amp;   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076360" y="404640"/>
            <a:ext cx="3326760" cy="2172600"/>
            <a:chOff x="5076360" y="404640"/>
            <a:chExt cx="3326760" cy="2172600"/>
          </a:xfrm>
        </p:grpSpPr>
        <p:sp>
          <p:nvSpPr>
            <p:cNvPr id="214" name=""/>
            <p:cNvSpPr/>
            <p:nvPr/>
          </p:nvSpPr>
          <p:spPr>
            <a:xfrm>
              <a:off x="5354280" y="404640"/>
              <a:ext cx="3048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Metho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ing  y = mx + c  form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 = mx +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738400" y="18064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9480" y="18064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6360" y="2117520"/>
              <a:ext cx="1181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d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4040" y="209232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- 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91280" y="4508640"/>
            <a:ext cx="352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C(0, -1) and draw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292720" y="2637000"/>
            <a:ext cx="3672000" cy="2029320"/>
            <a:chOff x="5292720" y="2637000"/>
            <a:chExt cx="3672000" cy="2029320"/>
          </a:xfrm>
        </p:grpSpPr>
        <p:grpSp>
          <p:nvGrpSpPr>
            <p:cNvPr id="221" name=""/>
            <p:cNvGrpSpPr/>
            <p:nvPr/>
          </p:nvGrpSpPr>
          <p:grpSpPr>
            <a:xfrm>
              <a:off x="5363640" y="2637000"/>
              <a:ext cx="3332520" cy="2029320"/>
              <a:chOff x="5363640" y="2637000"/>
              <a:chExt cx="3332520" cy="2029320"/>
            </a:xfrm>
          </p:grpSpPr>
          <p:sp>
            <p:nvSpPr>
              <p:cNvPr id="222" name=""/>
              <p:cNvSpPr/>
              <p:nvPr/>
            </p:nvSpPr>
            <p:spPr>
              <a:xfrm>
                <a:off x="5440320" y="2637000"/>
                <a:ext cx="137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y = 2x -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5760360" y="305280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98800" y="305280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63640" y="3475080"/>
                <a:ext cx="118188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adi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 =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38720" y="3475080"/>
                <a:ext cx="165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- inter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 = 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292720" y="2708280"/>
              <a:ext cx="3672000" cy="1657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106668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106668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459576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45957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57240" y="6237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0720" y="558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19280" y="62373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to Sim Eq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1200" y="55897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5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Simultaneous Equations : Question 1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88000" y="981000"/>
            <a:ext cx="435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agram shows the graph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x + y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133720"/>
            <a:ext cx="42116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diagram and o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 draw the graph of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nce sol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 + y =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0" y="6206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524720" y="55897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1440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4:09:20Z</dcterms:created>
  <dc:creator>Richardson</dc:creator>
  <dc:description/>
  <dc:language>en-US</dc:language>
  <cp:lastModifiedBy>Richardson</cp:lastModifiedBy>
  <dcterms:modified xsi:type="dcterms:W3CDTF">2006-01-08T14:46:56Z</dcterms:modified>
  <cp:revision>19</cp:revision>
  <dc:subject/>
  <dc:title>Slide 1</dc:title>
</cp:coreProperties>
</file>